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jpeg" ContentType="image/jpeg"/>
  <Override PartName="/ppt/media/image9.wmf" ContentType="image/x-wmf"/>
  <Override PartName="/ppt/media/image6.png" ContentType="image/png"/>
  <Override PartName="/ppt/media/image7.png" ContentType="image/png"/>
  <Override PartName="/ppt/media/image8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2"/>
          </p:nvPr>
        </p:nvSpPr>
        <p:spPr>
          <a:xfrm>
            <a:off x="377820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852480" y="744120"/>
            <a:ext cx="4965840" cy="3724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3"/>
          </p:nvPr>
        </p:nvSpPr>
        <p:spPr>
          <a:xfrm>
            <a:off x="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4"/>
          </p:nvPr>
        </p:nvSpPr>
        <p:spPr>
          <a:xfrm>
            <a:off x="377820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818E2-3815-409C-AB3F-F92D847FEC3C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"/>
          <p:cNvSpPr txBox="1"/>
          <p:nvPr/>
        </p:nvSpPr>
        <p:spPr>
          <a:xfrm>
            <a:off x="377820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17203-9F3D-44D2-ACD6-818B5DCDE682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 txBox="1"/>
          <p:nvPr/>
        </p:nvSpPr>
        <p:spPr>
          <a:xfrm>
            <a:off x="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 txBox="1"/>
          <p:nvPr/>
        </p:nvSpPr>
        <p:spPr>
          <a:xfrm>
            <a:off x="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 txBox="1"/>
          <p:nvPr/>
        </p:nvSpPr>
        <p:spPr>
          <a:xfrm>
            <a:off x="377820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665" name="PlaceHolder 2"/>
          <p:cNvSpPr>
            <a:spLocks noGrp="1"/>
          </p:cNvSpPr>
          <p:nvPr>
            <p:ph type="body"/>
          </p:nvPr>
        </p:nvSpPr>
        <p:spPr>
          <a:xfrm>
            <a:off x="888480" y="4716000"/>
            <a:ext cx="48913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 txBox="1"/>
          <p:nvPr/>
        </p:nvSpPr>
        <p:spPr>
          <a:xfrm>
            <a:off x="377820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91413-9A52-49D3-881E-35B1418045DC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 txBox="1"/>
          <p:nvPr/>
        </p:nvSpPr>
        <p:spPr>
          <a:xfrm>
            <a:off x="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 txBox="1"/>
          <p:nvPr/>
        </p:nvSpPr>
        <p:spPr>
          <a:xfrm>
            <a:off x="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 txBox="1"/>
          <p:nvPr/>
        </p:nvSpPr>
        <p:spPr>
          <a:xfrm>
            <a:off x="377820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PlaceHolder 1"/>
          <p:cNvSpPr>
            <a:spLocks noGrp="1"/>
          </p:cNvSpPr>
          <p:nvPr>
            <p:ph type="sldImg"/>
          </p:nvPr>
        </p:nvSpPr>
        <p:spPr>
          <a:xfrm>
            <a:off x="865080" y="741240"/>
            <a:ext cx="4943520" cy="3708360"/>
          </a:xfrm>
          <a:prstGeom prst="rect">
            <a:avLst/>
          </a:prstGeom>
          <a:ln w="0">
            <a:noFill/>
          </a:ln>
        </p:spPr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740880" y="4780080"/>
            <a:ext cx="4891320" cy="446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"/>
          <p:cNvSpPr txBox="1"/>
          <p:nvPr/>
        </p:nvSpPr>
        <p:spPr>
          <a:xfrm>
            <a:off x="377820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EC1A6-81C3-4C96-AEA5-55B827A75A0A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 txBox="1"/>
          <p:nvPr/>
        </p:nvSpPr>
        <p:spPr>
          <a:xfrm>
            <a:off x="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 txBox="1"/>
          <p:nvPr/>
        </p:nvSpPr>
        <p:spPr>
          <a:xfrm>
            <a:off x="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 txBox="1"/>
          <p:nvPr/>
        </p:nvSpPr>
        <p:spPr>
          <a:xfrm>
            <a:off x="377820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PlaceHolder 1"/>
          <p:cNvSpPr>
            <a:spLocks noGrp="1"/>
          </p:cNvSpPr>
          <p:nvPr>
            <p:ph type="sldImg"/>
          </p:nvPr>
        </p:nvSpPr>
        <p:spPr>
          <a:xfrm>
            <a:off x="865080" y="741240"/>
            <a:ext cx="4943520" cy="3708360"/>
          </a:xfrm>
          <a:prstGeom prst="rect">
            <a:avLst/>
          </a:prstGeom>
          <a:ln w="0">
            <a:noFill/>
          </a:ln>
        </p:spPr>
      </p:sp>
      <p:sp>
        <p:nvSpPr>
          <p:cNvPr id="677" name="PlaceHolder 2"/>
          <p:cNvSpPr>
            <a:spLocks noGrp="1"/>
          </p:cNvSpPr>
          <p:nvPr>
            <p:ph type="body"/>
          </p:nvPr>
        </p:nvSpPr>
        <p:spPr>
          <a:xfrm>
            <a:off x="740880" y="4780080"/>
            <a:ext cx="4891320" cy="446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"/>
          <p:cNvSpPr txBox="1"/>
          <p:nvPr/>
        </p:nvSpPr>
        <p:spPr>
          <a:xfrm>
            <a:off x="377820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44592-29CF-4180-A357-262E69F0D3F3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 txBox="1"/>
          <p:nvPr/>
        </p:nvSpPr>
        <p:spPr>
          <a:xfrm>
            <a:off x="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 txBox="1"/>
          <p:nvPr/>
        </p:nvSpPr>
        <p:spPr>
          <a:xfrm>
            <a:off x="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 txBox="1"/>
          <p:nvPr/>
        </p:nvSpPr>
        <p:spPr>
          <a:xfrm>
            <a:off x="377820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868320" y="75708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888480" y="4714920"/>
            <a:ext cx="489132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"/>
          <p:cNvSpPr txBox="1"/>
          <p:nvPr/>
        </p:nvSpPr>
        <p:spPr>
          <a:xfrm>
            <a:off x="377820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7663E-C3AC-45D4-8C6B-04124313A867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 txBox="1"/>
          <p:nvPr/>
        </p:nvSpPr>
        <p:spPr>
          <a:xfrm>
            <a:off x="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 txBox="1"/>
          <p:nvPr/>
        </p:nvSpPr>
        <p:spPr>
          <a:xfrm>
            <a:off x="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 txBox="1"/>
          <p:nvPr/>
        </p:nvSpPr>
        <p:spPr>
          <a:xfrm>
            <a:off x="377820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888480" y="4714560"/>
            <a:ext cx="489132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L GAS NATURAL EN NUESTRA REG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F01D06-66C7-464D-B8FD-B0CC4C4A75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ABC163-1FDB-4787-9FDC-FE06B986A3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5A6560-63C9-414F-89F6-A01E25F7DF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F4F8F0-FE74-451A-B095-20B32534FAC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ED4FC9-84A7-4DB7-A683-CC2E466755B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5517B7-FC25-4802-8971-C9BC78D86B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2BAE32-FCA0-42A3-B698-C30E8E5948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79A283-E00A-47A8-99FE-E888640933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7A25FB-569A-4FEF-890C-50CED68875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137571-8EFF-4FBF-ABBD-4CA3D7B2DD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C82154-DF96-4A66-A5D6-DA4E355DDE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FE8FFE-63E5-4F4B-81F5-B3D6CE449C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flipV="1">
            <a:off x="228600" y="228600"/>
            <a:ext cx="0" cy="6324480"/>
          </a:xfrm>
          <a:prstGeom prst="line">
            <a:avLst/>
          </a:prstGeom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228600" y="228600"/>
            <a:ext cx="8915400" cy="0"/>
          </a:xfrm>
          <a:prstGeom prst="line">
            <a:avLst/>
          </a:prstGeom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28600" y="6400800"/>
            <a:ext cx="297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ffffff"/>
                </a:solidFill>
                <a:latin typeface="Arial"/>
              </a:rPr>
              <a:t>PERU L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sldNum" idx="1"/>
          </p:nvPr>
        </p:nvSpPr>
        <p:spPr>
          <a:xfrm>
            <a:off x="731520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CEBE7-2F55-4B17-BA7F-6B682F300CBF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 flipV="1">
            <a:off x="228600" y="228600"/>
            <a:ext cx="0" cy="6324480"/>
          </a:xfrm>
          <a:prstGeom prst="line">
            <a:avLst/>
          </a:prstGeom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28600" y="228600"/>
            <a:ext cx="8915400" cy="0"/>
          </a:xfrm>
          <a:prstGeom prst="line">
            <a:avLst/>
          </a:prstGeom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28600" y="6400800"/>
            <a:ext cx="297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ffffff"/>
                </a:solidFill>
                <a:latin typeface="Arial"/>
              </a:rPr>
              <a:t>PERU L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file:///D:/PROYECTOS/029-4217%20A%20Pampa%20Melchorita/Presentaci&#243;n%20Pampa%20melchorita/Hunt%2031%20julio%202002/Pelicula%20Paises.ppt" TargetMode="External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file:///D:/PROYECTOS/029-4217%20A%20Pampa%20Melchorita/Presentaci&#243;n%20Pampa%20melchorita/Hunt%2031%20julio%202002/Pelicula%20Paises.ppt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440" y="1752480"/>
            <a:ext cx="7846920" cy="28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00"/>
                </a:solidFill>
                <a:latin typeface="Arial"/>
              </a:rPr>
              <a:t>PERU</a:t>
            </a:r>
            <a:br>
              <a:rPr sz="4400"/>
            </a:br>
            <a:br>
              <a:rPr sz="4400"/>
            </a:br>
            <a:r>
              <a:rPr b="1" lang="es-ES" sz="4400" spc="-1" strike="noStrike">
                <a:solidFill>
                  <a:srgbClr val="ffff00"/>
                </a:solidFill>
                <a:latin typeface="Arial"/>
              </a:rPr>
              <a:t>El Proyecto de Exportación de Gas Natural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258920" y="501300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Octubre 26, 200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A4E198-03E1-45F5-9FBD-04F3DD361C6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4800600" y="2781360"/>
            <a:ext cx="1523880" cy="3530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400800" y="3213000"/>
            <a:ext cx="230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Proyecto de Expor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334200" y="5486400"/>
            <a:ext cx="28098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Demanda 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20 </a:t>
            </a:r>
            <a:r>
              <a:rPr b="0" i="1" lang="es-ES" sz="2000" spc="-1" strike="noStrike">
                <a:solidFill>
                  <a:srgbClr val="ffffff"/>
                </a:solidFill>
                <a:latin typeface="Arial"/>
              </a:rPr>
              <a:t>Año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800600" y="4581360"/>
            <a:ext cx="1523880" cy="17431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066680" y="1268280"/>
            <a:ext cx="1676520" cy="5011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38080" y="1104840"/>
            <a:ext cx="6915240" cy="5248440"/>
          </a:xfrm>
          <a:custGeom>
            <a:avLst/>
            <a:gdLst/>
            <a:ahLst/>
            <a:rect l="l" t="t" r="r" b="b"/>
            <a:pathLst>
              <a:path w="4374" h="2490">
                <a:moveTo>
                  <a:pt x="0" y="0"/>
                </a:moveTo>
                <a:lnTo>
                  <a:pt x="0" y="2490"/>
                </a:lnTo>
                <a:lnTo>
                  <a:pt x="4374" y="2490"/>
                </a:lnTo>
              </a:path>
            </a:pathLst>
          </a:custGeom>
          <a:noFill/>
          <a:ln w="316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371600" y="3790800"/>
            <a:ext cx="101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1.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257800" y="5486400"/>
            <a:ext cx="69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ffffff"/>
                </a:solidFill>
                <a:latin typeface="Arial"/>
              </a:rPr>
              <a:t>4.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181480" y="3500280"/>
            <a:ext cx="77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819520" y="3638520"/>
            <a:ext cx="146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Lot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88 y 5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28600" y="152280"/>
            <a:ext cx="90676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00"/>
                </a:solidFill>
                <a:latin typeface="Arial"/>
              </a:rPr>
              <a:t>Reservas Conocidas y Demanda (TPC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rot="16265400">
            <a:off x="212040" y="2938320"/>
            <a:ext cx="79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TP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635280" y="1052640"/>
            <a:ext cx="5112000" cy="1512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0000"/>
                </a:solidFill>
                <a:latin typeface="Arial"/>
              </a:rPr>
              <a:t>El Consorcio Camisea tiene como prioridad desarrollar el mercado del gas natural en el Perú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1DCFEB-24C9-492D-9AD9-D5C525CD149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9" name=""/>
          <p:cNvGraphicFramePr/>
          <p:nvPr/>
        </p:nvGraphicFramePr>
        <p:xfrm>
          <a:off x="0" y="950760"/>
          <a:ext cx="9144000" cy="529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50760"/>
                    <a:ext cx="9144000" cy="529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1" name=""/>
          <p:cNvSpPr/>
          <p:nvPr/>
        </p:nvSpPr>
        <p:spPr>
          <a:xfrm>
            <a:off x="1829880" y="90360"/>
            <a:ext cx="457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uctos – Rutas Alternativ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4340B2-70E4-45A8-BB77-3904178D80B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/>
          </p:nvPr>
        </p:nvSpPr>
        <p:spPr>
          <a:xfrm>
            <a:off x="1042920" y="907560"/>
            <a:ext cx="727416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spcAft>
                <a:spcPts val="825"/>
              </a:spcAft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PLNG construirá un gaseoducto nuevo desde el final del segmento de la selva hasta la planta de LNG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spcAft>
                <a:spcPts val="825"/>
              </a:spcAft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PLNG viene negociando con TGP para el uso del segmento de selva del gaseoducto existente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spcAft>
                <a:spcPts val="825"/>
              </a:spcAft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El gaseoducto sólo necesitaría expandirse en la sierra y la costa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Expansión del Gaseoducto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344" name="" descr=""/>
          <p:cNvPicPr/>
          <p:nvPr/>
        </p:nvPicPr>
        <p:blipFill>
          <a:blip r:embed="rId1"/>
          <a:stretch/>
        </p:blipFill>
        <p:spPr>
          <a:xfrm>
            <a:off x="1066680" y="3218040"/>
            <a:ext cx="6934320" cy="3197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778FEB-2EBF-46EC-908B-93BB600C643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/>
          <p:nvPr/>
        </p:nvSpPr>
        <p:spPr>
          <a:xfrm>
            <a:off x="0" y="563868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Unidad de Recepción delG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0" y="220968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Campam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1"/>
          <a:stretch/>
        </p:blipFill>
        <p:spPr>
          <a:xfrm>
            <a:off x="0" y="-457200"/>
            <a:ext cx="9524880" cy="7620120"/>
          </a:xfrm>
          <a:prstGeom prst="rect">
            <a:avLst/>
          </a:prstGeom>
          <a:ln w="0">
            <a:noFill/>
          </a:ln>
        </p:spPr>
      </p:pic>
      <p:sp>
        <p:nvSpPr>
          <p:cNvPr id="348" name=""/>
          <p:cNvSpPr/>
          <p:nvPr/>
        </p:nvSpPr>
        <p:spPr>
          <a:xfrm>
            <a:off x="4495680" y="2209680"/>
            <a:ext cx="1447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Almacenamiento de L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010280" y="1676520"/>
            <a:ext cx="1219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Instalaciones Marin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8001000" y="330660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Antorch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019920" y="4343400"/>
            <a:ext cx="1904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Almacenamiento de Refrigeran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4876920"/>
            <a:ext cx="190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Generación Eléctr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85800" y="3886200"/>
            <a:ext cx="1143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Servicios Genera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80880" y="3200400"/>
            <a:ext cx="2438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Unidad de Retiro de Gas Acido (CO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990720" y="2971800"/>
            <a:ext cx="274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Unidad de Deshidratación del G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52280" y="58680"/>
            <a:ext cx="87631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Proyecto de Exportación de L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Planta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Pampa Melchori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038480" y="3809880"/>
            <a:ext cx="1295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Unidad de Refrigeración y Licuefacció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905120" y="2773440"/>
            <a:ext cx="2590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Adsorbedor de Carbón activad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4419720" y="5638680"/>
            <a:ext cx="472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apacidad de la planta: 625 mmpc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0A281F-4201-45A6-8EB8-190CD7719C89}" type="slidenum">
              <a:t>13</a:t>
            </a:fld>
          </a:p>
        </p:txBody>
      </p:sp>
    </p:spTree>
  </p:cSld>
  <p:transition>
    <p:cover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55600" y="22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La Planta de LNG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539640" y="907560"/>
            <a:ext cx="83534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Pampa Melchorita: 169 km. al sur de Lim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Proceso seleccionado APCI C3-MC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Capacidad de la planta: 4+ MMTPA (625 MM pc/d </a:t>
            </a:r>
            <a:r>
              <a:rPr b="0" lang="es-E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~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 18 MM m3/d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Enfriamiento con air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Compresores GE “Frame 7”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Dos tanques de almacenamiento: 130,000 m3 c/u (doble pared, simple contenedo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Muelle de 1.3 km. y un rompeolas de 800 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Autosuficiente en servicios (agua y luz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1547640" y="6021360"/>
            <a:ext cx="6983640" cy="792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0000"/>
                </a:solidFill>
                <a:latin typeface="Arial"/>
              </a:rPr>
              <a:t>A la fecha se ha invertido más de 30 MMUS$ en el proyect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18C695-2910-4335-B7DC-512806C90CF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3995640" y="2622600"/>
            <a:ext cx="2212920" cy="1299600"/>
            <a:chOff x="3995640" y="2622600"/>
            <a:chExt cx="2212920" cy="1299600"/>
          </a:xfrm>
        </p:grpSpPr>
        <p:sp>
          <p:nvSpPr>
            <p:cNvPr id="364" name=""/>
            <p:cNvSpPr/>
            <p:nvPr/>
          </p:nvSpPr>
          <p:spPr>
            <a:xfrm>
              <a:off x="4444920" y="3163680"/>
              <a:ext cx="1309680" cy="259920"/>
            </a:xfrm>
            <a:custGeom>
              <a:avLst/>
              <a:gdLst/>
              <a:ahLst/>
              <a:rect l="l" t="t" r="r" b="b"/>
              <a:pathLst>
                <a:path w="1089" h="216">
                  <a:moveTo>
                    <a:pt x="0" y="0"/>
                  </a:moveTo>
                  <a:lnTo>
                    <a:pt x="0" y="216"/>
                  </a:lnTo>
                  <a:lnTo>
                    <a:pt x="1089" y="216"/>
                  </a:lnTo>
                  <a:lnTo>
                    <a:pt x="1089" y="0"/>
                  </a:lnTo>
                  <a:lnTo>
                    <a:pt x="0" y="0"/>
                  </a:lnTo>
                  <a:lnTo>
                    <a:pt x="12" y="12"/>
                  </a:lnTo>
                  <a:lnTo>
                    <a:pt x="1077" y="12"/>
                  </a:lnTo>
                  <a:lnTo>
                    <a:pt x="1077" y="204"/>
                  </a:lnTo>
                  <a:lnTo>
                    <a:pt x="12" y="204"/>
                  </a:lnTo>
                  <a:lnTo>
                    <a:pt x="12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127400" y="2652480"/>
              <a:ext cx="79200" cy="90000"/>
            </a:xfrm>
            <a:custGeom>
              <a:avLst/>
              <a:gdLst/>
              <a:ahLst/>
              <a:rect l="l" t="t" r="r" b="b"/>
              <a:pathLst>
                <a:path w="66" h="75">
                  <a:moveTo>
                    <a:pt x="60" y="6"/>
                  </a:moveTo>
                  <a:lnTo>
                    <a:pt x="58" y="4"/>
                  </a:lnTo>
                  <a:lnTo>
                    <a:pt x="58" y="2"/>
                  </a:lnTo>
                  <a:lnTo>
                    <a:pt x="60" y="2"/>
                  </a:lnTo>
                  <a:lnTo>
                    <a:pt x="60" y="0"/>
                  </a:lnTo>
                  <a:lnTo>
                    <a:pt x="62" y="0"/>
                  </a:lnTo>
                  <a:lnTo>
                    <a:pt x="62" y="4"/>
                  </a:lnTo>
                  <a:lnTo>
                    <a:pt x="60" y="4"/>
                  </a:lnTo>
                  <a:lnTo>
                    <a:pt x="60" y="6"/>
                  </a:lnTo>
                  <a:lnTo>
                    <a:pt x="58" y="6"/>
                  </a:lnTo>
                  <a:lnTo>
                    <a:pt x="58" y="8"/>
                  </a:lnTo>
                  <a:lnTo>
                    <a:pt x="54" y="8"/>
                  </a:lnTo>
                  <a:lnTo>
                    <a:pt x="52" y="10"/>
                  </a:lnTo>
                  <a:lnTo>
                    <a:pt x="50" y="10"/>
                  </a:lnTo>
                  <a:lnTo>
                    <a:pt x="50" y="12"/>
                  </a:lnTo>
                  <a:lnTo>
                    <a:pt x="47" y="12"/>
                  </a:lnTo>
                  <a:lnTo>
                    <a:pt x="47" y="13"/>
                  </a:lnTo>
                  <a:lnTo>
                    <a:pt x="43" y="13"/>
                  </a:lnTo>
                  <a:lnTo>
                    <a:pt x="43" y="15"/>
                  </a:lnTo>
                  <a:lnTo>
                    <a:pt x="39" y="15"/>
                  </a:lnTo>
                  <a:lnTo>
                    <a:pt x="37" y="17"/>
                  </a:lnTo>
                  <a:lnTo>
                    <a:pt x="35" y="17"/>
                  </a:lnTo>
                  <a:lnTo>
                    <a:pt x="35" y="19"/>
                  </a:lnTo>
                  <a:lnTo>
                    <a:pt x="33" y="19"/>
                  </a:lnTo>
                  <a:lnTo>
                    <a:pt x="31" y="21"/>
                  </a:lnTo>
                  <a:lnTo>
                    <a:pt x="27" y="21"/>
                  </a:lnTo>
                  <a:lnTo>
                    <a:pt x="27" y="23"/>
                  </a:lnTo>
                  <a:lnTo>
                    <a:pt x="25" y="23"/>
                  </a:lnTo>
                  <a:lnTo>
                    <a:pt x="23" y="25"/>
                  </a:lnTo>
                  <a:lnTo>
                    <a:pt x="20" y="25"/>
                  </a:lnTo>
                  <a:lnTo>
                    <a:pt x="20" y="27"/>
                  </a:lnTo>
                  <a:lnTo>
                    <a:pt x="18" y="27"/>
                  </a:lnTo>
                  <a:lnTo>
                    <a:pt x="16" y="29"/>
                  </a:lnTo>
                  <a:lnTo>
                    <a:pt x="14" y="29"/>
                  </a:lnTo>
                  <a:lnTo>
                    <a:pt x="12" y="31"/>
                  </a:lnTo>
                  <a:lnTo>
                    <a:pt x="10" y="31"/>
                  </a:lnTo>
                  <a:lnTo>
                    <a:pt x="10" y="33"/>
                  </a:lnTo>
                  <a:lnTo>
                    <a:pt x="8" y="33"/>
                  </a:lnTo>
                  <a:lnTo>
                    <a:pt x="6" y="35"/>
                  </a:lnTo>
                  <a:lnTo>
                    <a:pt x="4" y="35"/>
                  </a:lnTo>
                  <a:lnTo>
                    <a:pt x="2" y="36"/>
                  </a:lnTo>
                  <a:lnTo>
                    <a:pt x="2" y="38"/>
                  </a:lnTo>
                  <a:lnTo>
                    <a:pt x="0" y="38"/>
                  </a:lnTo>
                  <a:lnTo>
                    <a:pt x="25" y="38"/>
                  </a:lnTo>
                  <a:lnTo>
                    <a:pt x="27" y="40"/>
                  </a:lnTo>
                  <a:lnTo>
                    <a:pt x="29" y="40"/>
                  </a:lnTo>
                  <a:lnTo>
                    <a:pt x="29" y="42"/>
                  </a:lnTo>
                  <a:lnTo>
                    <a:pt x="33" y="42"/>
                  </a:lnTo>
                  <a:lnTo>
                    <a:pt x="33" y="44"/>
                  </a:lnTo>
                  <a:lnTo>
                    <a:pt x="35" y="44"/>
                  </a:lnTo>
                  <a:lnTo>
                    <a:pt x="35" y="46"/>
                  </a:lnTo>
                  <a:lnTo>
                    <a:pt x="37" y="46"/>
                  </a:lnTo>
                  <a:lnTo>
                    <a:pt x="41" y="50"/>
                  </a:lnTo>
                  <a:lnTo>
                    <a:pt x="43" y="50"/>
                  </a:lnTo>
                  <a:lnTo>
                    <a:pt x="43" y="52"/>
                  </a:lnTo>
                  <a:lnTo>
                    <a:pt x="45" y="52"/>
                  </a:lnTo>
                  <a:lnTo>
                    <a:pt x="45" y="54"/>
                  </a:lnTo>
                  <a:lnTo>
                    <a:pt x="47" y="54"/>
                  </a:lnTo>
                  <a:lnTo>
                    <a:pt x="48" y="56"/>
                  </a:lnTo>
                  <a:lnTo>
                    <a:pt x="48" y="58"/>
                  </a:lnTo>
                  <a:lnTo>
                    <a:pt x="50" y="58"/>
                  </a:lnTo>
                  <a:lnTo>
                    <a:pt x="52" y="60"/>
                  </a:lnTo>
                  <a:lnTo>
                    <a:pt x="54" y="60"/>
                  </a:lnTo>
                  <a:lnTo>
                    <a:pt x="54" y="61"/>
                  </a:lnTo>
                  <a:lnTo>
                    <a:pt x="56" y="61"/>
                  </a:lnTo>
                  <a:lnTo>
                    <a:pt x="56" y="63"/>
                  </a:lnTo>
                  <a:lnTo>
                    <a:pt x="58" y="63"/>
                  </a:lnTo>
                  <a:lnTo>
                    <a:pt x="58" y="65"/>
                  </a:lnTo>
                  <a:lnTo>
                    <a:pt x="60" y="65"/>
                  </a:lnTo>
                  <a:lnTo>
                    <a:pt x="60" y="67"/>
                  </a:lnTo>
                  <a:lnTo>
                    <a:pt x="62" y="67"/>
                  </a:lnTo>
                  <a:lnTo>
                    <a:pt x="64" y="69"/>
                  </a:lnTo>
                  <a:lnTo>
                    <a:pt x="66" y="69"/>
                  </a:lnTo>
                  <a:lnTo>
                    <a:pt x="66" y="75"/>
                  </a:lnTo>
                  <a:lnTo>
                    <a:pt x="66" y="69"/>
                  </a:lnTo>
                  <a:lnTo>
                    <a:pt x="64" y="67"/>
                  </a:lnTo>
                  <a:lnTo>
                    <a:pt x="64" y="46"/>
                  </a:lnTo>
                  <a:lnTo>
                    <a:pt x="62" y="44"/>
                  </a:lnTo>
                  <a:lnTo>
                    <a:pt x="62" y="23"/>
                  </a:lnTo>
                  <a:lnTo>
                    <a:pt x="60" y="21"/>
                  </a:lnTo>
                  <a:lnTo>
                    <a:pt x="60" y="6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125960" y="2647800"/>
              <a:ext cx="85680" cy="94680"/>
            </a:xfrm>
            <a:custGeom>
              <a:avLst/>
              <a:gdLst/>
              <a:ahLst/>
              <a:rect l="l" t="t" r="r" b="b"/>
              <a:pathLst>
                <a:path w="71" h="79">
                  <a:moveTo>
                    <a:pt x="65" y="8"/>
                  </a:moveTo>
                  <a:lnTo>
                    <a:pt x="63" y="6"/>
                  </a:lnTo>
                  <a:lnTo>
                    <a:pt x="61" y="8"/>
                  </a:lnTo>
                  <a:lnTo>
                    <a:pt x="65" y="10"/>
                  </a:lnTo>
                  <a:lnTo>
                    <a:pt x="63" y="6"/>
                  </a:lnTo>
                  <a:lnTo>
                    <a:pt x="61" y="6"/>
                  </a:lnTo>
                  <a:lnTo>
                    <a:pt x="57" y="4"/>
                  </a:lnTo>
                  <a:lnTo>
                    <a:pt x="59" y="8"/>
                  </a:lnTo>
                  <a:lnTo>
                    <a:pt x="55" y="6"/>
                  </a:lnTo>
                  <a:lnTo>
                    <a:pt x="57" y="10"/>
                  </a:lnTo>
                  <a:lnTo>
                    <a:pt x="53" y="8"/>
                  </a:lnTo>
                  <a:lnTo>
                    <a:pt x="51" y="10"/>
                  </a:lnTo>
                  <a:lnTo>
                    <a:pt x="48" y="10"/>
                  </a:lnTo>
                  <a:lnTo>
                    <a:pt x="49" y="14"/>
                  </a:lnTo>
                  <a:lnTo>
                    <a:pt x="44" y="12"/>
                  </a:lnTo>
                  <a:lnTo>
                    <a:pt x="46" y="16"/>
                  </a:lnTo>
                  <a:lnTo>
                    <a:pt x="40" y="14"/>
                  </a:lnTo>
                  <a:lnTo>
                    <a:pt x="42" y="17"/>
                  </a:lnTo>
                  <a:lnTo>
                    <a:pt x="38" y="16"/>
                  </a:lnTo>
                  <a:lnTo>
                    <a:pt x="36" y="17"/>
                  </a:lnTo>
                  <a:lnTo>
                    <a:pt x="32" y="17"/>
                  </a:lnTo>
                  <a:lnTo>
                    <a:pt x="34" y="21"/>
                  </a:lnTo>
                  <a:lnTo>
                    <a:pt x="32" y="19"/>
                  </a:lnTo>
                  <a:lnTo>
                    <a:pt x="30" y="21"/>
                  </a:lnTo>
                  <a:lnTo>
                    <a:pt x="24" y="21"/>
                  </a:lnTo>
                  <a:lnTo>
                    <a:pt x="26" y="25"/>
                  </a:lnTo>
                  <a:lnTo>
                    <a:pt x="24" y="23"/>
                  </a:lnTo>
                  <a:lnTo>
                    <a:pt x="23" y="25"/>
                  </a:lnTo>
                  <a:lnTo>
                    <a:pt x="17" y="25"/>
                  </a:lnTo>
                  <a:lnTo>
                    <a:pt x="19" y="29"/>
                  </a:lnTo>
                  <a:lnTo>
                    <a:pt x="17" y="27"/>
                  </a:lnTo>
                  <a:lnTo>
                    <a:pt x="15" y="29"/>
                  </a:lnTo>
                  <a:lnTo>
                    <a:pt x="13" y="29"/>
                  </a:lnTo>
                  <a:lnTo>
                    <a:pt x="11" y="31"/>
                  </a:lnTo>
                  <a:lnTo>
                    <a:pt x="7" y="31"/>
                  </a:lnTo>
                  <a:lnTo>
                    <a:pt x="9" y="35"/>
                  </a:lnTo>
                  <a:lnTo>
                    <a:pt x="7" y="33"/>
                  </a:lnTo>
                  <a:lnTo>
                    <a:pt x="5" y="35"/>
                  </a:lnTo>
                  <a:lnTo>
                    <a:pt x="3" y="35"/>
                  </a:lnTo>
                  <a:lnTo>
                    <a:pt x="0" y="39"/>
                  </a:lnTo>
                  <a:lnTo>
                    <a:pt x="1" y="40"/>
                  </a:lnTo>
                  <a:lnTo>
                    <a:pt x="1" y="42"/>
                  </a:lnTo>
                  <a:lnTo>
                    <a:pt x="24" y="46"/>
                  </a:lnTo>
                  <a:lnTo>
                    <a:pt x="26" y="48"/>
                  </a:lnTo>
                  <a:lnTo>
                    <a:pt x="28" y="46"/>
                  </a:lnTo>
                  <a:lnTo>
                    <a:pt x="26" y="50"/>
                  </a:lnTo>
                  <a:lnTo>
                    <a:pt x="32" y="48"/>
                  </a:lnTo>
                  <a:lnTo>
                    <a:pt x="30" y="52"/>
                  </a:lnTo>
                  <a:lnTo>
                    <a:pt x="34" y="50"/>
                  </a:lnTo>
                  <a:lnTo>
                    <a:pt x="32" y="54"/>
                  </a:lnTo>
                  <a:lnTo>
                    <a:pt x="36" y="54"/>
                  </a:lnTo>
                  <a:lnTo>
                    <a:pt x="40" y="58"/>
                  </a:lnTo>
                  <a:lnTo>
                    <a:pt x="42" y="56"/>
                  </a:lnTo>
                  <a:lnTo>
                    <a:pt x="40" y="60"/>
                  </a:lnTo>
                  <a:lnTo>
                    <a:pt x="44" y="58"/>
                  </a:lnTo>
                  <a:lnTo>
                    <a:pt x="42" y="62"/>
                  </a:lnTo>
                  <a:lnTo>
                    <a:pt x="46" y="62"/>
                  </a:lnTo>
                  <a:lnTo>
                    <a:pt x="46" y="65"/>
                  </a:lnTo>
                  <a:lnTo>
                    <a:pt x="49" y="65"/>
                  </a:lnTo>
                  <a:lnTo>
                    <a:pt x="51" y="67"/>
                  </a:lnTo>
                  <a:lnTo>
                    <a:pt x="53" y="65"/>
                  </a:lnTo>
                  <a:lnTo>
                    <a:pt x="51" y="69"/>
                  </a:lnTo>
                  <a:lnTo>
                    <a:pt x="55" y="67"/>
                  </a:lnTo>
                  <a:lnTo>
                    <a:pt x="53" y="71"/>
                  </a:lnTo>
                  <a:lnTo>
                    <a:pt x="57" y="69"/>
                  </a:lnTo>
                  <a:lnTo>
                    <a:pt x="55" y="73"/>
                  </a:lnTo>
                  <a:lnTo>
                    <a:pt x="59" y="71"/>
                  </a:lnTo>
                  <a:lnTo>
                    <a:pt x="57" y="75"/>
                  </a:lnTo>
                  <a:lnTo>
                    <a:pt x="61" y="75"/>
                  </a:lnTo>
                  <a:lnTo>
                    <a:pt x="63" y="77"/>
                  </a:lnTo>
                  <a:lnTo>
                    <a:pt x="65" y="75"/>
                  </a:lnTo>
                  <a:lnTo>
                    <a:pt x="67" y="79"/>
                  </a:lnTo>
                  <a:lnTo>
                    <a:pt x="71" y="71"/>
                  </a:lnTo>
                  <a:lnTo>
                    <a:pt x="69" y="69"/>
                  </a:lnTo>
                  <a:lnTo>
                    <a:pt x="69" y="48"/>
                  </a:lnTo>
                  <a:lnTo>
                    <a:pt x="67" y="46"/>
                  </a:lnTo>
                  <a:lnTo>
                    <a:pt x="67" y="25"/>
                  </a:lnTo>
                  <a:lnTo>
                    <a:pt x="65" y="23"/>
                  </a:lnTo>
                  <a:lnTo>
                    <a:pt x="65" y="8"/>
                  </a:lnTo>
                  <a:lnTo>
                    <a:pt x="57" y="12"/>
                  </a:lnTo>
                  <a:lnTo>
                    <a:pt x="57" y="27"/>
                  </a:lnTo>
                  <a:lnTo>
                    <a:pt x="59" y="29"/>
                  </a:lnTo>
                  <a:lnTo>
                    <a:pt x="59" y="50"/>
                  </a:lnTo>
                  <a:lnTo>
                    <a:pt x="61" y="52"/>
                  </a:lnTo>
                  <a:lnTo>
                    <a:pt x="61" y="73"/>
                  </a:lnTo>
                  <a:lnTo>
                    <a:pt x="63" y="75"/>
                  </a:lnTo>
                  <a:lnTo>
                    <a:pt x="63" y="79"/>
                  </a:lnTo>
                  <a:lnTo>
                    <a:pt x="71" y="79"/>
                  </a:lnTo>
                  <a:lnTo>
                    <a:pt x="71" y="69"/>
                  </a:lnTo>
                  <a:lnTo>
                    <a:pt x="67" y="69"/>
                  </a:lnTo>
                  <a:lnTo>
                    <a:pt x="65" y="67"/>
                  </a:lnTo>
                  <a:lnTo>
                    <a:pt x="63" y="69"/>
                  </a:lnTo>
                  <a:lnTo>
                    <a:pt x="65" y="65"/>
                  </a:lnTo>
                  <a:lnTo>
                    <a:pt x="61" y="67"/>
                  </a:lnTo>
                  <a:lnTo>
                    <a:pt x="63" y="64"/>
                  </a:lnTo>
                  <a:lnTo>
                    <a:pt x="59" y="65"/>
                  </a:lnTo>
                  <a:lnTo>
                    <a:pt x="61" y="62"/>
                  </a:lnTo>
                  <a:lnTo>
                    <a:pt x="57" y="64"/>
                  </a:lnTo>
                  <a:lnTo>
                    <a:pt x="59" y="60"/>
                  </a:lnTo>
                  <a:lnTo>
                    <a:pt x="55" y="60"/>
                  </a:lnTo>
                  <a:lnTo>
                    <a:pt x="53" y="58"/>
                  </a:lnTo>
                  <a:lnTo>
                    <a:pt x="51" y="60"/>
                  </a:lnTo>
                  <a:lnTo>
                    <a:pt x="53" y="58"/>
                  </a:lnTo>
                  <a:lnTo>
                    <a:pt x="49" y="54"/>
                  </a:lnTo>
                  <a:lnTo>
                    <a:pt x="48" y="56"/>
                  </a:lnTo>
                  <a:lnTo>
                    <a:pt x="49" y="52"/>
                  </a:lnTo>
                  <a:lnTo>
                    <a:pt x="46" y="54"/>
                  </a:lnTo>
                  <a:lnTo>
                    <a:pt x="48" y="50"/>
                  </a:lnTo>
                  <a:lnTo>
                    <a:pt x="44" y="50"/>
                  </a:lnTo>
                  <a:lnTo>
                    <a:pt x="40" y="46"/>
                  </a:lnTo>
                  <a:lnTo>
                    <a:pt x="38" y="48"/>
                  </a:lnTo>
                  <a:lnTo>
                    <a:pt x="40" y="44"/>
                  </a:lnTo>
                  <a:lnTo>
                    <a:pt x="36" y="46"/>
                  </a:lnTo>
                  <a:lnTo>
                    <a:pt x="38" y="42"/>
                  </a:lnTo>
                  <a:lnTo>
                    <a:pt x="32" y="44"/>
                  </a:lnTo>
                  <a:lnTo>
                    <a:pt x="34" y="40"/>
                  </a:lnTo>
                  <a:lnTo>
                    <a:pt x="30" y="40"/>
                  </a:lnTo>
                  <a:lnTo>
                    <a:pt x="28" y="39"/>
                  </a:lnTo>
                  <a:lnTo>
                    <a:pt x="1" y="39"/>
                  </a:lnTo>
                  <a:lnTo>
                    <a:pt x="1" y="46"/>
                  </a:lnTo>
                  <a:lnTo>
                    <a:pt x="7" y="46"/>
                  </a:lnTo>
                  <a:lnTo>
                    <a:pt x="7" y="42"/>
                  </a:lnTo>
                  <a:lnTo>
                    <a:pt x="9" y="42"/>
                  </a:lnTo>
                  <a:lnTo>
                    <a:pt x="11" y="40"/>
                  </a:lnTo>
                  <a:lnTo>
                    <a:pt x="15" y="40"/>
                  </a:lnTo>
                  <a:lnTo>
                    <a:pt x="13" y="37"/>
                  </a:lnTo>
                  <a:lnTo>
                    <a:pt x="15" y="39"/>
                  </a:lnTo>
                  <a:lnTo>
                    <a:pt x="17" y="37"/>
                  </a:lnTo>
                  <a:lnTo>
                    <a:pt x="19" y="37"/>
                  </a:lnTo>
                  <a:lnTo>
                    <a:pt x="21" y="35"/>
                  </a:lnTo>
                  <a:lnTo>
                    <a:pt x="24" y="35"/>
                  </a:lnTo>
                  <a:lnTo>
                    <a:pt x="23" y="31"/>
                  </a:lnTo>
                  <a:lnTo>
                    <a:pt x="26" y="33"/>
                  </a:lnTo>
                  <a:lnTo>
                    <a:pt x="28" y="31"/>
                  </a:lnTo>
                  <a:lnTo>
                    <a:pt x="32" y="31"/>
                  </a:lnTo>
                  <a:lnTo>
                    <a:pt x="30" y="27"/>
                  </a:lnTo>
                  <a:lnTo>
                    <a:pt x="34" y="29"/>
                  </a:lnTo>
                  <a:lnTo>
                    <a:pt x="36" y="27"/>
                  </a:lnTo>
                  <a:lnTo>
                    <a:pt x="40" y="27"/>
                  </a:lnTo>
                  <a:lnTo>
                    <a:pt x="38" y="23"/>
                  </a:lnTo>
                  <a:lnTo>
                    <a:pt x="40" y="25"/>
                  </a:lnTo>
                  <a:lnTo>
                    <a:pt x="42" y="23"/>
                  </a:lnTo>
                  <a:lnTo>
                    <a:pt x="48" y="23"/>
                  </a:lnTo>
                  <a:lnTo>
                    <a:pt x="46" y="19"/>
                  </a:lnTo>
                  <a:lnTo>
                    <a:pt x="51" y="21"/>
                  </a:lnTo>
                  <a:lnTo>
                    <a:pt x="49" y="17"/>
                  </a:lnTo>
                  <a:lnTo>
                    <a:pt x="55" y="19"/>
                  </a:lnTo>
                  <a:lnTo>
                    <a:pt x="53" y="16"/>
                  </a:lnTo>
                  <a:lnTo>
                    <a:pt x="55" y="17"/>
                  </a:lnTo>
                  <a:lnTo>
                    <a:pt x="57" y="16"/>
                  </a:lnTo>
                  <a:lnTo>
                    <a:pt x="63" y="16"/>
                  </a:lnTo>
                  <a:lnTo>
                    <a:pt x="61" y="12"/>
                  </a:lnTo>
                  <a:lnTo>
                    <a:pt x="65" y="14"/>
                  </a:lnTo>
                  <a:lnTo>
                    <a:pt x="63" y="10"/>
                  </a:lnTo>
                  <a:lnTo>
                    <a:pt x="67" y="12"/>
                  </a:lnTo>
                  <a:lnTo>
                    <a:pt x="67" y="0"/>
                  </a:lnTo>
                  <a:lnTo>
                    <a:pt x="57" y="0"/>
                  </a:lnTo>
                  <a:lnTo>
                    <a:pt x="59" y="4"/>
                  </a:lnTo>
                  <a:lnTo>
                    <a:pt x="55" y="2"/>
                  </a:lnTo>
                  <a:lnTo>
                    <a:pt x="55" y="10"/>
                  </a:lnTo>
                  <a:lnTo>
                    <a:pt x="57" y="12"/>
                  </a:lnTo>
                  <a:lnTo>
                    <a:pt x="65" y="8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467240" y="3187440"/>
              <a:ext cx="312480" cy="326880"/>
            </a:xfrm>
            <a:prstGeom prst="ellipse">
              <a:avLst/>
            </a:prstGeom>
            <a:gradFill rotWithShape="0">
              <a:gsLst>
                <a:gs pos="0">
                  <a:srgbClr val="75002f"/>
                </a:gs>
                <a:gs pos="100000">
                  <a:srgbClr val="ff0066"/>
                </a:gs>
              </a:gsLst>
              <a:lin ang="13500000"/>
            </a:gradFill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462200" y="3182760"/>
              <a:ext cx="320760" cy="334440"/>
            </a:xfrm>
            <a:custGeom>
              <a:avLst/>
              <a:gdLst/>
              <a:ahLst/>
              <a:rect l="l" t="t" r="r" b="b"/>
              <a:pathLst>
                <a:path w="267" h="278">
                  <a:moveTo>
                    <a:pt x="0" y="138"/>
                  </a:moveTo>
                  <a:lnTo>
                    <a:pt x="2" y="165"/>
                  </a:lnTo>
                  <a:lnTo>
                    <a:pt x="9" y="194"/>
                  </a:lnTo>
                  <a:lnTo>
                    <a:pt x="21" y="217"/>
                  </a:lnTo>
                  <a:lnTo>
                    <a:pt x="59" y="255"/>
                  </a:lnTo>
                  <a:lnTo>
                    <a:pt x="80" y="267"/>
                  </a:lnTo>
                  <a:lnTo>
                    <a:pt x="105" y="276"/>
                  </a:lnTo>
                  <a:lnTo>
                    <a:pt x="132" y="278"/>
                  </a:lnTo>
                  <a:lnTo>
                    <a:pt x="159" y="276"/>
                  </a:lnTo>
                  <a:lnTo>
                    <a:pt x="186" y="267"/>
                  </a:lnTo>
                  <a:lnTo>
                    <a:pt x="207" y="255"/>
                  </a:lnTo>
                  <a:lnTo>
                    <a:pt x="246" y="217"/>
                  </a:lnTo>
                  <a:lnTo>
                    <a:pt x="257" y="194"/>
                  </a:lnTo>
                  <a:lnTo>
                    <a:pt x="265" y="165"/>
                  </a:lnTo>
                  <a:lnTo>
                    <a:pt x="267" y="138"/>
                  </a:lnTo>
                  <a:lnTo>
                    <a:pt x="265" y="111"/>
                  </a:lnTo>
                  <a:lnTo>
                    <a:pt x="257" y="84"/>
                  </a:lnTo>
                  <a:lnTo>
                    <a:pt x="246" y="61"/>
                  </a:lnTo>
                  <a:lnTo>
                    <a:pt x="226" y="40"/>
                  </a:lnTo>
                  <a:lnTo>
                    <a:pt x="207" y="23"/>
                  </a:lnTo>
                  <a:lnTo>
                    <a:pt x="186" y="9"/>
                  </a:lnTo>
                  <a:lnTo>
                    <a:pt x="159" y="2"/>
                  </a:lnTo>
                  <a:lnTo>
                    <a:pt x="132" y="0"/>
                  </a:lnTo>
                  <a:lnTo>
                    <a:pt x="105" y="2"/>
                  </a:lnTo>
                  <a:lnTo>
                    <a:pt x="80" y="9"/>
                  </a:lnTo>
                  <a:lnTo>
                    <a:pt x="59" y="23"/>
                  </a:lnTo>
                  <a:lnTo>
                    <a:pt x="40" y="40"/>
                  </a:lnTo>
                  <a:lnTo>
                    <a:pt x="21" y="61"/>
                  </a:lnTo>
                  <a:lnTo>
                    <a:pt x="9" y="84"/>
                  </a:lnTo>
                  <a:lnTo>
                    <a:pt x="2" y="111"/>
                  </a:lnTo>
                  <a:lnTo>
                    <a:pt x="0" y="138"/>
                  </a:lnTo>
                  <a:lnTo>
                    <a:pt x="7" y="138"/>
                  </a:lnTo>
                  <a:lnTo>
                    <a:pt x="9" y="111"/>
                  </a:lnTo>
                  <a:lnTo>
                    <a:pt x="17" y="88"/>
                  </a:lnTo>
                  <a:lnTo>
                    <a:pt x="29" y="65"/>
                  </a:lnTo>
                  <a:lnTo>
                    <a:pt x="44" y="44"/>
                  </a:lnTo>
                  <a:lnTo>
                    <a:pt x="63" y="31"/>
                  </a:lnTo>
                  <a:lnTo>
                    <a:pt x="84" y="17"/>
                  </a:lnTo>
                  <a:lnTo>
                    <a:pt x="105" y="9"/>
                  </a:lnTo>
                  <a:lnTo>
                    <a:pt x="132" y="8"/>
                  </a:lnTo>
                  <a:lnTo>
                    <a:pt x="159" y="9"/>
                  </a:lnTo>
                  <a:lnTo>
                    <a:pt x="182" y="17"/>
                  </a:lnTo>
                  <a:lnTo>
                    <a:pt x="203" y="31"/>
                  </a:lnTo>
                  <a:lnTo>
                    <a:pt x="223" y="44"/>
                  </a:lnTo>
                  <a:lnTo>
                    <a:pt x="238" y="65"/>
                  </a:lnTo>
                  <a:lnTo>
                    <a:pt x="249" y="88"/>
                  </a:lnTo>
                  <a:lnTo>
                    <a:pt x="257" y="111"/>
                  </a:lnTo>
                  <a:lnTo>
                    <a:pt x="259" y="138"/>
                  </a:lnTo>
                  <a:lnTo>
                    <a:pt x="257" y="165"/>
                  </a:lnTo>
                  <a:lnTo>
                    <a:pt x="249" y="190"/>
                  </a:lnTo>
                  <a:lnTo>
                    <a:pt x="238" y="213"/>
                  </a:lnTo>
                  <a:lnTo>
                    <a:pt x="223" y="232"/>
                  </a:lnTo>
                  <a:lnTo>
                    <a:pt x="203" y="248"/>
                  </a:lnTo>
                  <a:lnTo>
                    <a:pt x="182" y="259"/>
                  </a:lnTo>
                  <a:lnTo>
                    <a:pt x="159" y="269"/>
                  </a:lnTo>
                  <a:lnTo>
                    <a:pt x="132" y="271"/>
                  </a:lnTo>
                  <a:lnTo>
                    <a:pt x="105" y="269"/>
                  </a:lnTo>
                  <a:lnTo>
                    <a:pt x="84" y="259"/>
                  </a:lnTo>
                  <a:lnTo>
                    <a:pt x="63" y="248"/>
                  </a:lnTo>
                  <a:lnTo>
                    <a:pt x="44" y="232"/>
                  </a:lnTo>
                  <a:lnTo>
                    <a:pt x="29" y="213"/>
                  </a:lnTo>
                  <a:lnTo>
                    <a:pt x="17" y="190"/>
                  </a:lnTo>
                  <a:lnTo>
                    <a:pt x="9" y="165"/>
                  </a:lnTo>
                  <a:lnTo>
                    <a:pt x="7" y="138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44800" y="3187440"/>
              <a:ext cx="314640" cy="326880"/>
            </a:xfrm>
            <a:prstGeom prst="ellipse">
              <a:avLst/>
            </a:prstGeom>
            <a:gradFill rotWithShape="0">
              <a:gsLst>
                <a:gs pos="0">
                  <a:srgbClr val="75002f"/>
                </a:gs>
                <a:gs pos="100000">
                  <a:srgbClr val="ff0066"/>
                </a:gs>
              </a:gsLst>
              <a:lin ang="13500000"/>
            </a:gradFill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740120" y="3182760"/>
              <a:ext cx="322200" cy="334440"/>
            </a:xfrm>
            <a:custGeom>
              <a:avLst/>
              <a:gdLst/>
              <a:ahLst/>
              <a:rect l="l" t="t" r="r" b="b"/>
              <a:pathLst>
                <a:path w="267" h="278">
                  <a:moveTo>
                    <a:pt x="0" y="138"/>
                  </a:moveTo>
                  <a:lnTo>
                    <a:pt x="2" y="165"/>
                  </a:lnTo>
                  <a:lnTo>
                    <a:pt x="10" y="194"/>
                  </a:lnTo>
                  <a:lnTo>
                    <a:pt x="21" y="217"/>
                  </a:lnTo>
                  <a:lnTo>
                    <a:pt x="60" y="255"/>
                  </a:lnTo>
                  <a:lnTo>
                    <a:pt x="81" y="267"/>
                  </a:lnTo>
                  <a:lnTo>
                    <a:pt x="106" y="276"/>
                  </a:lnTo>
                  <a:lnTo>
                    <a:pt x="133" y="278"/>
                  </a:lnTo>
                  <a:lnTo>
                    <a:pt x="159" y="276"/>
                  </a:lnTo>
                  <a:lnTo>
                    <a:pt x="186" y="267"/>
                  </a:lnTo>
                  <a:lnTo>
                    <a:pt x="207" y="255"/>
                  </a:lnTo>
                  <a:lnTo>
                    <a:pt x="246" y="217"/>
                  </a:lnTo>
                  <a:lnTo>
                    <a:pt x="257" y="194"/>
                  </a:lnTo>
                  <a:lnTo>
                    <a:pt x="265" y="165"/>
                  </a:lnTo>
                  <a:lnTo>
                    <a:pt x="267" y="138"/>
                  </a:lnTo>
                  <a:lnTo>
                    <a:pt x="265" y="111"/>
                  </a:lnTo>
                  <a:lnTo>
                    <a:pt x="257" y="84"/>
                  </a:lnTo>
                  <a:lnTo>
                    <a:pt x="246" y="61"/>
                  </a:lnTo>
                  <a:lnTo>
                    <a:pt x="227" y="40"/>
                  </a:lnTo>
                  <a:lnTo>
                    <a:pt x="207" y="23"/>
                  </a:lnTo>
                  <a:lnTo>
                    <a:pt x="186" y="9"/>
                  </a:lnTo>
                  <a:lnTo>
                    <a:pt x="159" y="2"/>
                  </a:lnTo>
                  <a:lnTo>
                    <a:pt x="133" y="0"/>
                  </a:lnTo>
                  <a:lnTo>
                    <a:pt x="106" y="2"/>
                  </a:lnTo>
                  <a:lnTo>
                    <a:pt x="81" y="9"/>
                  </a:lnTo>
                  <a:lnTo>
                    <a:pt x="60" y="23"/>
                  </a:lnTo>
                  <a:lnTo>
                    <a:pt x="40" y="40"/>
                  </a:lnTo>
                  <a:lnTo>
                    <a:pt x="21" y="61"/>
                  </a:lnTo>
                  <a:lnTo>
                    <a:pt x="10" y="84"/>
                  </a:lnTo>
                  <a:lnTo>
                    <a:pt x="2" y="111"/>
                  </a:lnTo>
                  <a:lnTo>
                    <a:pt x="0" y="138"/>
                  </a:lnTo>
                  <a:lnTo>
                    <a:pt x="8" y="138"/>
                  </a:lnTo>
                  <a:lnTo>
                    <a:pt x="10" y="111"/>
                  </a:lnTo>
                  <a:lnTo>
                    <a:pt x="17" y="88"/>
                  </a:lnTo>
                  <a:lnTo>
                    <a:pt x="29" y="65"/>
                  </a:lnTo>
                  <a:lnTo>
                    <a:pt x="44" y="44"/>
                  </a:lnTo>
                  <a:lnTo>
                    <a:pt x="63" y="31"/>
                  </a:lnTo>
                  <a:lnTo>
                    <a:pt x="85" y="17"/>
                  </a:lnTo>
                  <a:lnTo>
                    <a:pt x="106" y="9"/>
                  </a:lnTo>
                  <a:lnTo>
                    <a:pt x="133" y="8"/>
                  </a:lnTo>
                  <a:lnTo>
                    <a:pt x="159" y="9"/>
                  </a:lnTo>
                  <a:lnTo>
                    <a:pt x="183" y="17"/>
                  </a:lnTo>
                  <a:lnTo>
                    <a:pt x="204" y="31"/>
                  </a:lnTo>
                  <a:lnTo>
                    <a:pt x="223" y="44"/>
                  </a:lnTo>
                  <a:lnTo>
                    <a:pt x="238" y="65"/>
                  </a:lnTo>
                  <a:lnTo>
                    <a:pt x="250" y="88"/>
                  </a:lnTo>
                  <a:lnTo>
                    <a:pt x="257" y="111"/>
                  </a:lnTo>
                  <a:lnTo>
                    <a:pt x="259" y="138"/>
                  </a:lnTo>
                  <a:lnTo>
                    <a:pt x="257" y="165"/>
                  </a:lnTo>
                  <a:lnTo>
                    <a:pt x="250" y="190"/>
                  </a:lnTo>
                  <a:lnTo>
                    <a:pt x="238" y="213"/>
                  </a:lnTo>
                  <a:lnTo>
                    <a:pt x="223" y="232"/>
                  </a:lnTo>
                  <a:lnTo>
                    <a:pt x="204" y="248"/>
                  </a:lnTo>
                  <a:lnTo>
                    <a:pt x="183" y="259"/>
                  </a:lnTo>
                  <a:lnTo>
                    <a:pt x="159" y="269"/>
                  </a:lnTo>
                  <a:lnTo>
                    <a:pt x="133" y="271"/>
                  </a:lnTo>
                  <a:lnTo>
                    <a:pt x="106" y="269"/>
                  </a:lnTo>
                  <a:lnTo>
                    <a:pt x="85" y="259"/>
                  </a:lnTo>
                  <a:lnTo>
                    <a:pt x="63" y="248"/>
                  </a:lnTo>
                  <a:lnTo>
                    <a:pt x="44" y="232"/>
                  </a:lnTo>
                  <a:lnTo>
                    <a:pt x="29" y="213"/>
                  </a:lnTo>
                  <a:lnTo>
                    <a:pt x="17" y="190"/>
                  </a:lnTo>
                  <a:lnTo>
                    <a:pt x="10" y="165"/>
                  </a:lnTo>
                  <a:lnTo>
                    <a:pt x="8" y="138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024520" y="3187440"/>
              <a:ext cx="314280" cy="326880"/>
            </a:xfrm>
            <a:prstGeom prst="ellipse">
              <a:avLst/>
            </a:prstGeom>
            <a:gradFill rotWithShape="0">
              <a:gsLst>
                <a:gs pos="0">
                  <a:srgbClr val="75002f"/>
                </a:gs>
                <a:gs pos="100000">
                  <a:srgbClr val="ff0066"/>
                </a:gs>
              </a:gsLst>
              <a:lin ang="13500000"/>
            </a:gradFill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019480" y="3182760"/>
              <a:ext cx="320760" cy="334440"/>
            </a:xfrm>
            <a:custGeom>
              <a:avLst/>
              <a:gdLst/>
              <a:ahLst/>
              <a:rect l="l" t="t" r="r" b="b"/>
              <a:pathLst>
                <a:path w="267" h="278">
                  <a:moveTo>
                    <a:pt x="0" y="138"/>
                  </a:moveTo>
                  <a:lnTo>
                    <a:pt x="2" y="165"/>
                  </a:lnTo>
                  <a:lnTo>
                    <a:pt x="10" y="194"/>
                  </a:lnTo>
                  <a:lnTo>
                    <a:pt x="22" y="217"/>
                  </a:lnTo>
                  <a:lnTo>
                    <a:pt x="60" y="255"/>
                  </a:lnTo>
                  <a:lnTo>
                    <a:pt x="81" y="267"/>
                  </a:lnTo>
                  <a:lnTo>
                    <a:pt x="106" y="276"/>
                  </a:lnTo>
                  <a:lnTo>
                    <a:pt x="133" y="278"/>
                  </a:lnTo>
                  <a:lnTo>
                    <a:pt x="160" y="276"/>
                  </a:lnTo>
                  <a:lnTo>
                    <a:pt x="187" y="267"/>
                  </a:lnTo>
                  <a:lnTo>
                    <a:pt x="208" y="255"/>
                  </a:lnTo>
                  <a:lnTo>
                    <a:pt x="246" y="217"/>
                  </a:lnTo>
                  <a:lnTo>
                    <a:pt x="258" y="194"/>
                  </a:lnTo>
                  <a:lnTo>
                    <a:pt x="265" y="165"/>
                  </a:lnTo>
                  <a:lnTo>
                    <a:pt x="267" y="138"/>
                  </a:lnTo>
                  <a:lnTo>
                    <a:pt x="265" y="111"/>
                  </a:lnTo>
                  <a:lnTo>
                    <a:pt x="258" y="84"/>
                  </a:lnTo>
                  <a:lnTo>
                    <a:pt x="246" y="61"/>
                  </a:lnTo>
                  <a:lnTo>
                    <a:pt x="227" y="40"/>
                  </a:lnTo>
                  <a:lnTo>
                    <a:pt x="208" y="23"/>
                  </a:lnTo>
                  <a:lnTo>
                    <a:pt x="187" y="9"/>
                  </a:lnTo>
                  <a:lnTo>
                    <a:pt x="160" y="2"/>
                  </a:lnTo>
                  <a:lnTo>
                    <a:pt x="133" y="0"/>
                  </a:lnTo>
                  <a:lnTo>
                    <a:pt x="106" y="2"/>
                  </a:lnTo>
                  <a:lnTo>
                    <a:pt x="81" y="9"/>
                  </a:lnTo>
                  <a:lnTo>
                    <a:pt x="60" y="23"/>
                  </a:lnTo>
                  <a:lnTo>
                    <a:pt x="41" y="40"/>
                  </a:lnTo>
                  <a:lnTo>
                    <a:pt x="22" y="61"/>
                  </a:lnTo>
                  <a:lnTo>
                    <a:pt x="10" y="84"/>
                  </a:lnTo>
                  <a:lnTo>
                    <a:pt x="2" y="111"/>
                  </a:lnTo>
                  <a:lnTo>
                    <a:pt x="0" y="138"/>
                  </a:lnTo>
                  <a:lnTo>
                    <a:pt x="8" y="138"/>
                  </a:lnTo>
                  <a:lnTo>
                    <a:pt x="10" y="111"/>
                  </a:lnTo>
                  <a:lnTo>
                    <a:pt x="18" y="88"/>
                  </a:lnTo>
                  <a:lnTo>
                    <a:pt x="29" y="65"/>
                  </a:lnTo>
                  <a:lnTo>
                    <a:pt x="45" y="44"/>
                  </a:lnTo>
                  <a:lnTo>
                    <a:pt x="64" y="31"/>
                  </a:lnTo>
                  <a:lnTo>
                    <a:pt x="85" y="17"/>
                  </a:lnTo>
                  <a:lnTo>
                    <a:pt x="106" y="9"/>
                  </a:lnTo>
                  <a:lnTo>
                    <a:pt x="133" y="8"/>
                  </a:lnTo>
                  <a:lnTo>
                    <a:pt x="160" y="9"/>
                  </a:lnTo>
                  <a:lnTo>
                    <a:pt x="183" y="17"/>
                  </a:lnTo>
                  <a:lnTo>
                    <a:pt x="204" y="31"/>
                  </a:lnTo>
                  <a:lnTo>
                    <a:pt x="223" y="44"/>
                  </a:lnTo>
                  <a:lnTo>
                    <a:pt x="238" y="65"/>
                  </a:lnTo>
                  <a:lnTo>
                    <a:pt x="250" y="88"/>
                  </a:lnTo>
                  <a:lnTo>
                    <a:pt x="258" y="111"/>
                  </a:lnTo>
                  <a:lnTo>
                    <a:pt x="260" y="138"/>
                  </a:lnTo>
                  <a:lnTo>
                    <a:pt x="258" y="165"/>
                  </a:lnTo>
                  <a:lnTo>
                    <a:pt x="250" y="190"/>
                  </a:lnTo>
                  <a:lnTo>
                    <a:pt x="238" y="213"/>
                  </a:lnTo>
                  <a:lnTo>
                    <a:pt x="223" y="232"/>
                  </a:lnTo>
                  <a:lnTo>
                    <a:pt x="204" y="248"/>
                  </a:lnTo>
                  <a:lnTo>
                    <a:pt x="183" y="259"/>
                  </a:lnTo>
                  <a:lnTo>
                    <a:pt x="160" y="269"/>
                  </a:lnTo>
                  <a:lnTo>
                    <a:pt x="133" y="271"/>
                  </a:lnTo>
                  <a:lnTo>
                    <a:pt x="106" y="269"/>
                  </a:lnTo>
                  <a:lnTo>
                    <a:pt x="85" y="259"/>
                  </a:lnTo>
                  <a:lnTo>
                    <a:pt x="64" y="248"/>
                  </a:lnTo>
                  <a:lnTo>
                    <a:pt x="45" y="232"/>
                  </a:lnTo>
                  <a:lnTo>
                    <a:pt x="29" y="213"/>
                  </a:lnTo>
                  <a:lnTo>
                    <a:pt x="18" y="190"/>
                  </a:lnTo>
                  <a:lnTo>
                    <a:pt x="10" y="165"/>
                  </a:lnTo>
                  <a:lnTo>
                    <a:pt x="8" y="138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302080" y="3187440"/>
              <a:ext cx="314280" cy="326880"/>
            </a:xfrm>
            <a:prstGeom prst="ellipse">
              <a:avLst/>
            </a:prstGeom>
            <a:gradFill rotWithShape="0">
              <a:gsLst>
                <a:gs pos="0">
                  <a:srgbClr val="75002f"/>
                </a:gs>
                <a:gs pos="100000">
                  <a:srgbClr val="ff0066"/>
                </a:gs>
              </a:gsLst>
              <a:lin ang="13500000"/>
            </a:gradFill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5297400" y="3182760"/>
              <a:ext cx="320760" cy="334440"/>
            </a:xfrm>
            <a:custGeom>
              <a:avLst/>
              <a:gdLst/>
              <a:ahLst/>
              <a:rect l="l" t="t" r="r" b="b"/>
              <a:pathLst>
                <a:path w="267" h="278">
                  <a:moveTo>
                    <a:pt x="0" y="138"/>
                  </a:moveTo>
                  <a:lnTo>
                    <a:pt x="2" y="165"/>
                  </a:lnTo>
                  <a:lnTo>
                    <a:pt x="9" y="194"/>
                  </a:lnTo>
                  <a:lnTo>
                    <a:pt x="21" y="217"/>
                  </a:lnTo>
                  <a:lnTo>
                    <a:pt x="59" y="255"/>
                  </a:lnTo>
                  <a:lnTo>
                    <a:pt x="80" y="267"/>
                  </a:lnTo>
                  <a:lnTo>
                    <a:pt x="105" y="276"/>
                  </a:lnTo>
                  <a:lnTo>
                    <a:pt x="132" y="278"/>
                  </a:lnTo>
                  <a:lnTo>
                    <a:pt x="159" y="276"/>
                  </a:lnTo>
                  <a:lnTo>
                    <a:pt x="186" y="267"/>
                  </a:lnTo>
                  <a:lnTo>
                    <a:pt x="207" y="255"/>
                  </a:lnTo>
                  <a:lnTo>
                    <a:pt x="246" y="217"/>
                  </a:lnTo>
                  <a:lnTo>
                    <a:pt x="257" y="194"/>
                  </a:lnTo>
                  <a:lnTo>
                    <a:pt x="265" y="165"/>
                  </a:lnTo>
                  <a:lnTo>
                    <a:pt x="267" y="138"/>
                  </a:lnTo>
                  <a:lnTo>
                    <a:pt x="265" y="111"/>
                  </a:lnTo>
                  <a:lnTo>
                    <a:pt x="257" y="84"/>
                  </a:lnTo>
                  <a:lnTo>
                    <a:pt x="246" y="61"/>
                  </a:lnTo>
                  <a:lnTo>
                    <a:pt x="226" y="40"/>
                  </a:lnTo>
                  <a:lnTo>
                    <a:pt x="207" y="23"/>
                  </a:lnTo>
                  <a:lnTo>
                    <a:pt x="186" y="9"/>
                  </a:lnTo>
                  <a:lnTo>
                    <a:pt x="159" y="2"/>
                  </a:lnTo>
                  <a:lnTo>
                    <a:pt x="132" y="0"/>
                  </a:lnTo>
                  <a:lnTo>
                    <a:pt x="105" y="2"/>
                  </a:lnTo>
                  <a:lnTo>
                    <a:pt x="80" y="9"/>
                  </a:lnTo>
                  <a:lnTo>
                    <a:pt x="59" y="23"/>
                  </a:lnTo>
                  <a:lnTo>
                    <a:pt x="40" y="40"/>
                  </a:lnTo>
                  <a:lnTo>
                    <a:pt x="21" y="61"/>
                  </a:lnTo>
                  <a:lnTo>
                    <a:pt x="9" y="84"/>
                  </a:lnTo>
                  <a:lnTo>
                    <a:pt x="2" y="111"/>
                  </a:lnTo>
                  <a:lnTo>
                    <a:pt x="0" y="138"/>
                  </a:lnTo>
                  <a:lnTo>
                    <a:pt x="7" y="138"/>
                  </a:lnTo>
                  <a:lnTo>
                    <a:pt x="9" y="111"/>
                  </a:lnTo>
                  <a:lnTo>
                    <a:pt x="17" y="88"/>
                  </a:lnTo>
                  <a:lnTo>
                    <a:pt x="29" y="65"/>
                  </a:lnTo>
                  <a:lnTo>
                    <a:pt x="44" y="44"/>
                  </a:lnTo>
                  <a:lnTo>
                    <a:pt x="63" y="31"/>
                  </a:lnTo>
                  <a:lnTo>
                    <a:pt x="84" y="17"/>
                  </a:lnTo>
                  <a:lnTo>
                    <a:pt x="105" y="9"/>
                  </a:lnTo>
                  <a:lnTo>
                    <a:pt x="132" y="8"/>
                  </a:lnTo>
                  <a:lnTo>
                    <a:pt x="159" y="9"/>
                  </a:lnTo>
                  <a:lnTo>
                    <a:pt x="182" y="17"/>
                  </a:lnTo>
                  <a:lnTo>
                    <a:pt x="203" y="31"/>
                  </a:lnTo>
                  <a:lnTo>
                    <a:pt x="223" y="44"/>
                  </a:lnTo>
                  <a:lnTo>
                    <a:pt x="238" y="65"/>
                  </a:lnTo>
                  <a:lnTo>
                    <a:pt x="249" y="88"/>
                  </a:lnTo>
                  <a:lnTo>
                    <a:pt x="257" y="111"/>
                  </a:lnTo>
                  <a:lnTo>
                    <a:pt x="259" y="138"/>
                  </a:lnTo>
                  <a:lnTo>
                    <a:pt x="257" y="165"/>
                  </a:lnTo>
                  <a:lnTo>
                    <a:pt x="249" y="190"/>
                  </a:lnTo>
                  <a:lnTo>
                    <a:pt x="238" y="213"/>
                  </a:lnTo>
                  <a:lnTo>
                    <a:pt x="223" y="232"/>
                  </a:lnTo>
                  <a:lnTo>
                    <a:pt x="203" y="248"/>
                  </a:lnTo>
                  <a:lnTo>
                    <a:pt x="182" y="259"/>
                  </a:lnTo>
                  <a:lnTo>
                    <a:pt x="159" y="269"/>
                  </a:lnTo>
                  <a:lnTo>
                    <a:pt x="132" y="271"/>
                  </a:lnTo>
                  <a:lnTo>
                    <a:pt x="105" y="269"/>
                  </a:lnTo>
                  <a:lnTo>
                    <a:pt x="84" y="259"/>
                  </a:lnTo>
                  <a:lnTo>
                    <a:pt x="63" y="248"/>
                  </a:lnTo>
                  <a:lnTo>
                    <a:pt x="44" y="232"/>
                  </a:lnTo>
                  <a:lnTo>
                    <a:pt x="29" y="213"/>
                  </a:lnTo>
                  <a:lnTo>
                    <a:pt x="17" y="190"/>
                  </a:lnTo>
                  <a:lnTo>
                    <a:pt x="9" y="165"/>
                  </a:lnTo>
                  <a:lnTo>
                    <a:pt x="7" y="138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5581440" y="3187440"/>
              <a:ext cx="312840" cy="326880"/>
            </a:xfrm>
            <a:prstGeom prst="ellipse">
              <a:avLst/>
            </a:prstGeom>
            <a:gradFill rotWithShape="0">
              <a:gsLst>
                <a:gs pos="0">
                  <a:srgbClr val="75002f"/>
                </a:gs>
                <a:gs pos="100000">
                  <a:srgbClr val="ff0066"/>
                </a:gs>
              </a:gsLst>
              <a:lin ang="13500000"/>
            </a:gradFill>
            <a:ln w="1260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576760" y="3182760"/>
              <a:ext cx="320760" cy="334440"/>
            </a:xfrm>
            <a:custGeom>
              <a:avLst/>
              <a:gdLst/>
              <a:ahLst/>
              <a:rect l="l" t="t" r="r" b="b"/>
              <a:pathLst>
                <a:path w="267" h="278">
                  <a:moveTo>
                    <a:pt x="0" y="138"/>
                  </a:moveTo>
                  <a:lnTo>
                    <a:pt x="2" y="165"/>
                  </a:lnTo>
                  <a:lnTo>
                    <a:pt x="10" y="194"/>
                  </a:lnTo>
                  <a:lnTo>
                    <a:pt x="21" y="217"/>
                  </a:lnTo>
                  <a:lnTo>
                    <a:pt x="60" y="255"/>
                  </a:lnTo>
                  <a:lnTo>
                    <a:pt x="81" y="267"/>
                  </a:lnTo>
                  <a:lnTo>
                    <a:pt x="106" y="276"/>
                  </a:lnTo>
                  <a:lnTo>
                    <a:pt x="133" y="278"/>
                  </a:lnTo>
                  <a:lnTo>
                    <a:pt x="159" y="276"/>
                  </a:lnTo>
                  <a:lnTo>
                    <a:pt x="186" y="267"/>
                  </a:lnTo>
                  <a:lnTo>
                    <a:pt x="207" y="255"/>
                  </a:lnTo>
                  <a:lnTo>
                    <a:pt x="246" y="217"/>
                  </a:lnTo>
                  <a:lnTo>
                    <a:pt x="257" y="194"/>
                  </a:lnTo>
                  <a:lnTo>
                    <a:pt x="265" y="165"/>
                  </a:lnTo>
                  <a:lnTo>
                    <a:pt x="267" y="138"/>
                  </a:lnTo>
                  <a:lnTo>
                    <a:pt x="265" y="111"/>
                  </a:lnTo>
                  <a:lnTo>
                    <a:pt x="257" y="84"/>
                  </a:lnTo>
                  <a:lnTo>
                    <a:pt x="246" y="61"/>
                  </a:lnTo>
                  <a:lnTo>
                    <a:pt x="227" y="40"/>
                  </a:lnTo>
                  <a:lnTo>
                    <a:pt x="207" y="23"/>
                  </a:lnTo>
                  <a:lnTo>
                    <a:pt x="186" y="9"/>
                  </a:lnTo>
                  <a:lnTo>
                    <a:pt x="159" y="2"/>
                  </a:lnTo>
                  <a:lnTo>
                    <a:pt x="133" y="0"/>
                  </a:lnTo>
                  <a:lnTo>
                    <a:pt x="106" y="2"/>
                  </a:lnTo>
                  <a:lnTo>
                    <a:pt x="81" y="9"/>
                  </a:lnTo>
                  <a:lnTo>
                    <a:pt x="60" y="23"/>
                  </a:lnTo>
                  <a:lnTo>
                    <a:pt x="40" y="40"/>
                  </a:lnTo>
                  <a:lnTo>
                    <a:pt x="21" y="61"/>
                  </a:lnTo>
                  <a:lnTo>
                    <a:pt x="10" y="84"/>
                  </a:lnTo>
                  <a:lnTo>
                    <a:pt x="2" y="111"/>
                  </a:lnTo>
                  <a:lnTo>
                    <a:pt x="0" y="138"/>
                  </a:lnTo>
                  <a:lnTo>
                    <a:pt x="8" y="138"/>
                  </a:lnTo>
                  <a:lnTo>
                    <a:pt x="10" y="111"/>
                  </a:lnTo>
                  <a:lnTo>
                    <a:pt x="17" y="88"/>
                  </a:lnTo>
                  <a:lnTo>
                    <a:pt x="29" y="65"/>
                  </a:lnTo>
                  <a:lnTo>
                    <a:pt x="44" y="44"/>
                  </a:lnTo>
                  <a:lnTo>
                    <a:pt x="63" y="31"/>
                  </a:lnTo>
                  <a:lnTo>
                    <a:pt x="85" y="17"/>
                  </a:lnTo>
                  <a:lnTo>
                    <a:pt x="106" y="9"/>
                  </a:lnTo>
                  <a:lnTo>
                    <a:pt x="133" y="8"/>
                  </a:lnTo>
                  <a:lnTo>
                    <a:pt x="159" y="9"/>
                  </a:lnTo>
                  <a:lnTo>
                    <a:pt x="183" y="17"/>
                  </a:lnTo>
                  <a:lnTo>
                    <a:pt x="204" y="31"/>
                  </a:lnTo>
                  <a:lnTo>
                    <a:pt x="223" y="44"/>
                  </a:lnTo>
                  <a:lnTo>
                    <a:pt x="238" y="65"/>
                  </a:lnTo>
                  <a:lnTo>
                    <a:pt x="250" y="88"/>
                  </a:lnTo>
                  <a:lnTo>
                    <a:pt x="257" y="111"/>
                  </a:lnTo>
                  <a:lnTo>
                    <a:pt x="259" y="138"/>
                  </a:lnTo>
                  <a:lnTo>
                    <a:pt x="257" y="165"/>
                  </a:lnTo>
                  <a:lnTo>
                    <a:pt x="250" y="190"/>
                  </a:lnTo>
                  <a:lnTo>
                    <a:pt x="238" y="213"/>
                  </a:lnTo>
                  <a:lnTo>
                    <a:pt x="223" y="232"/>
                  </a:lnTo>
                  <a:lnTo>
                    <a:pt x="204" y="248"/>
                  </a:lnTo>
                  <a:lnTo>
                    <a:pt x="183" y="259"/>
                  </a:lnTo>
                  <a:lnTo>
                    <a:pt x="159" y="269"/>
                  </a:lnTo>
                  <a:lnTo>
                    <a:pt x="133" y="271"/>
                  </a:lnTo>
                  <a:lnTo>
                    <a:pt x="106" y="269"/>
                  </a:lnTo>
                  <a:lnTo>
                    <a:pt x="85" y="259"/>
                  </a:lnTo>
                  <a:lnTo>
                    <a:pt x="63" y="248"/>
                  </a:lnTo>
                  <a:lnTo>
                    <a:pt x="44" y="232"/>
                  </a:lnTo>
                  <a:lnTo>
                    <a:pt x="29" y="213"/>
                  </a:lnTo>
                  <a:lnTo>
                    <a:pt x="17" y="190"/>
                  </a:lnTo>
                  <a:lnTo>
                    <a:pt x="10" y="165"/>
                  </a:lnTo>
                  <a:lnTo>
                    <a:pt x="8" y="138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238640" y="3338280"/>
              <a:ext cx="1690560" cy="2822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877000" y="3193920"/>
              <a:ext cx="322200" cy="410760"/>
            </a:xfrm>
            <a:custGeom>
              <a:avLst/>
              <a:gdLst/>
              <a:ahLst/>
              <a:rect l="l" t="t" r="r" b="b"/>
              <a:pathLst>
                <a:path w="268" h="343">
                  <a:moveTo>
                    <a:pt x="7" y="315"/>
                  </a:moveTo>
                  <a:lnTo>
                    <a:pt x="40" y="343"/>
                  </a:lnTo>
                  <a:lnTo>
                    <a:pt x="268" y="0"/>
                  </a:lnTo>
                  <a:lnTo>
                    <a:pt x="67" y="0"/>
                  </a:lnTo>
                  <a:lnTo>
                    <a:pt x="23" y="169"/>
                  </a:lnTo>
                  <a:lnTo>
                    <a:pt x="0" y="253"/>
                  </a:lnTo>
                  <a:lnTo>
                    <a:pt x="0" y="315"/>
                  </a:lnTo>
                  <a:lnTo>
                    <a:pt x="7" y="315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871960" y="3187440"/>
              <a:ext cx="336600" cy="425160"/>
            </a:xfrm>
            <a:custGeom>
              <a:avLst/>
              <a:gdLst/>
              <a:ahLst/>
              <a:rect l="l" t="t" r="r" b="b"/>
              <a:pathLst>
                <a:path w="280" h="353">
                  <a:moveTo>
                    <a:pt x="9" y="322"/>
                  </a:moveTo>
                  <a:lnTo>
                    <a:pt x="44" y="353"/>
                  </a:lnTo>
                  <a:lnTo>
                    <a:pt x="280" y="0"/>
                  </a:lnTo>
                  <a:lnTo>
                    <a:pt x="67" y="0"/>
                  </a:lnTo>
                  <a:lnTo>
                    <a:pt x="23" y="171"/>
                  </a:lnTo>
                  <a:lnTo>
                    <a:pt x="0" y="257"/>
                  </a:lnTo>
                  <a:lnTo>
                    <a:pt x="0" y="319"/>
                  </a:lnTo>
                  <a:lnTo>
                    <a:pt x="8" y="319"/>
                  </a:lnTo>
                  <a:lnTo>
                    <a:pt x="8" y="257"/>
                  </a:lnTo>
                  <a:lnTo>
                    <a:pt x="31" y="174"/>
                  </a:lnTo>
                  <a:lnTo>
                    <a:pt x="75" y="7"/>
                  </a:lnTo>
                  <a:lnTo>
                    <a:pt x="265" y="7"/>
                  </a:lnTo>
                  <a:lnTo>
                    <a:pt x="44" y="342"/>
                  </a:lnTo>
                  <a:lnTo>
                    <a:pt x="13" y="317"/>
                  </a:lnTo>
                  <a:lnTo>
                    <a:pt x="9" y="322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995640" y="2860560"/>
              <a:ext cx="461880" cy="728280"/>
            </a:xfrm>
            <a:custGeom>
              <a:avLst/>
              <a:gdLst/>
              <a:ahLst/>
              <a:rect l="l" t="t" r="r" b="b"/>
              <a:pathLst>
                <a:path w="384" h="607">
                  <a:moveTo>
                    <a:pt x="200" y="607"/>
                  </a:moveTo>
                  <a:lnTo>
                    <a:pt x="165" y="494"/>
                  </a:lnTo>
                  <a:lnTo>
                    <a:pt x="132" y="492"/>
                  </a:lnTo>
                  <a:lnTo>
                    <a:pt x="94" y="471"/>
                  </a:lnTo>
                  <a:lnTo>
                    <a:pt x="67" y="442"/>
                  </a:lnTo>
                  <a:lnTo>
                    <a:pt x="44" y="409"/>
                  </a:lnTo>
                  <a:lnTo>
                    <a:pt x="13" y="342"/>
                  </a:lnTo>
                  <a:lnTo>
                    <a:pt x="0" y="282"/>
                  </a:lnTo>
                  <a:lnTo>
                    <a:pt x="86" y="282"/>
                  </a:lnTo>
                  <a:lnTo>
                    <a:pt x="86" y="132"/>
                  </a:lnTo>
                  <a:lnTo>
                    <a:pt x="144" y="132"/>
                  </a:lnTo>
                  <a:lnTo>
                    <a:pt x="144" y="0"/>
                  </a:lnTo>
                  <a:lnTo>
                    <a:pt x="215" y="0"/>
                  </a:lnTo>
                  <a:lnTo>
                    <a:pt x="215" y="94"/>
                  </a:lnTo>
                  <a:lnTo>
                    <a:pt x="246" y="94"/>
                  </a:lnTo>
                  <a:lnTo>
                    <a:pt x="250" y="186"/>
                  </a:lnTo>
                  <a:lnTo>
                    <a:pt x="303" y="186"/>
                  </a:lnTo>
                  <a:lnTo>
                    <a:pt x="307" y="280"/>
                  </a:lnTo>
                  <a:lnTo>
                    <a:pt x="384" y="398"/>
                  </a:lnTo>
                  <a:lnTo>
                    <a:pt x="200" y="607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120920" y="2803320"/>
              <a:ext cx="17640" cy="2901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203720" y="2622600"/>
              <a:ext cx="12600" cy="4917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09920" y="3313080"/>
              <a:ext cx="360" cy="60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3005280" y="3206880"/>
            <a:ext cx="609480" cy="380880"/>
          </a:xfrm>
          <a:prstGeom prst="rightArrow">
            <a:avLst>
              <a:gd name="adj1" fmla="val 50000"/>
              <a:gd name="adj2" fmla="val 4000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5" name=""/>
          <p:cNvGrpSpPr/>
          <p:nvPr/>
        </p:nvGrpSpPr>
        <p:grpSpPr>
          <a:xfrm>
            <a:off x="7167600" y="2597040"/>
            <a:ext cx="1339560" cy="1049400"/>
            <a:chOff x="7167600" y="2597040"/>
            <a:chExt cx="1339560" cy="1049400"/>
          </a:xfrm>
        </p:grpSpPr>
        <p:sp>
          <p:nvSpPr>
            <p:cNvPr id="386" name=""/>
            <p:cNvSpPr/>
            <p:nvPr/>
          </p:nvSpPr>
          <p:spPr>
            <a:xfrm>
              <a:off x="7489800" y="2913120"/>
              <a:ext cx="596880" cy="669960"/>
            </a:xfrm>
            <a:custGeom>
              <a:avLst/>
              <a:gdLst/>
              <a:ahLst/>
              <a:rect l="l" t="t" r="r" b="b"/>
              <a:pathLst>
                <a:path w="497" h="557">
                  <a:moveTo>
                    <a:pt x="497" y="546"/>
                  </a:moveTo>
                  <a:lnTo>
                    <a:pt x="292" y="546"/>
                  </a:lnTo>
                  <a:lnTo>
                    <a:pt x="292" y="0"/>
                  </a:lnTo>
                  <a:lnTo>
                    <a:pt x="13" y="0"/>
                  </a:lnTo>
                  <a:lnTo>
                    <a:pt x="13" y="102"/>
                  </a:lnTo>
                  <a:lnTo>
                    <a:pt x="0" y="144"/>
                  </a:lnTo>
                  <a:lnTo>
                    <a:pt x="12" y="148"/>
                  </a:lnTo>
                  <a:lnTo>
                    <a:pt x="25" y="102"/>
                  </a:lnTo>
                  <a:lnTo>
                    <a:pt x="25" y="12"/>
                  </a:lnTo>
                  <a:lnTo>
                    <a:pt x="280" y="12"/>
                  </a:lnTo>
                  <a:lnTo>
                    <a:pt x="280" y="557"/>
                  </a:lnTo>
                  <a:lnTo>
                    <a:pt x="497" y="557"/>
                  </a:lnTo>
                  <a:lnTo>
                    <a:pt x="497" y="546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7897680" y="2663640"/>
              <a:ext cx="69840" cy="8017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339040" y="2663640"/>
              <a:ext cx="71280" cy="8017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8191440" y="2663640"/>
              <a:ext cx="71280" cy="8017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8043840" y="2663640"/>
              <a:ext cx="71280" cy="8017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7862760" y="3343320"/>
              <a:ext cx="644400" cy="2584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8366040" y="2609640"/>
              <a:ext cx="14400" cy="1540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8216640" y="2609640"/>
              <a:ext cx="14400" cy="1540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8069040" y="2609640"/>
              <a:ext cx="14400" cy="1540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7927920" y="2597040"/>
              <a:ext cx="539640" cy="804960"/>
            </a:xfrm>
            <a:custGeom>
              <a:avLst/>
              <a:gdLst/>
              <a:ahLst/>
              <a:rect l="l" t="t" r="r" b="b"/>
              <a:pathLst>
                <a:path w="449" h="670">
                  <a:moveTo>
                    <a:pt x="0" y="0"/>
                  </a:moveTo>
                  <a:lnTo>
                    <a:pt x="0" y="670"/>
                  </a:lnTo>
                  <a:lnTo>
                    <a:pt x="449" y="670"/>
                  </a:lnTo>
                  <a:lnTo>
                    <a:pt x="449" y="0"/>
                  </a:lnTo>
                  <a:lnTo>
                    <a:pt x="0" y="0"/>
                  </a:lnTo>
                  <a:lnTo>
                    <a:pt x="11" y="12"/>
                  </a:lnTo>
                  <a:lnTo>
                    <a:pt x="438" y="12"/>
                  </a:lnTo>
                  <a:lnTo>
                    <a:pt x="438" y="659"/>
                  </a:lnTo>
                  <a:lnTo>
                    <a:pt x="11" y="659"/>
                  </a:lnTo>
                  <a:lnTo>
                    <a:pt x="11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7167600" y="3041640"/>
              <a:ext cx="577800" cy="604800"/>
            </a:xfrm>
            <a:prstGeom prst="ellipse">
              <a:avLst/>
            </a:prstGeom>
            <a:gradFill rotWithShape="0">
              <a:gsLst>
                <a:gs pos="0">
                  <a:srgbClr val="75002f"/>
                </a:gs>
                <a:gs pos="100000">
                  <a:srgbClr val="ff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/>
          <p:nvPr/>
        </p:nvSpPr>
        <p:spPr>
          <a:xfrm>
            <a:off x="6357960" y="3156120"/>
            <a:ext cx="609480" cy="380880"/>
          </a:xfrm>
          <a:prstGeom prst="rightArrow">
            <a:avLst>
              <a:gd name="adj1" fmla="val 50000"/>
              <a:gd name="adj2" fmla="val 4000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6629400" y="3809880"/>
            <a:ext cx="27432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Terminal de Regasificació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 rot="20625000">
            <a:off x="1709640" y="1326960"/>
            <a:ext cx="685800" cy="1523880"/>
          </a:xfrm>
          <a:custGeom>
            <a:avLst/>
            <a:gdLst>
              <a:gd name="textAreaLeft" fmla="*/ 91800 w 685800"/>
              <a:gd name="textAreaRight" fmla="*/ 594000 w 685800"/>
              <a:gd name="textAreaTop" fmla="*/ 276480 h 1523880"/>
              <a:gd name="textAreaBottom" fmla="*/ 102780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846" stAng="-5400000" swAng="5400000"/>
                <a:lnTo>
                  <a:pt x="21600" y="10647"/>
                </a:lnTo>
                <a:arcTo wR="21600" hR="7846" stAng="0" swAng="2029787"/>
                <a:lnTo>
                  <a:pt x="10292" y="20652"/>
                </a:lnTo>
                <a:lnTo>
                  <a:pt x="0" y="17092"/>
                </a:lnTo>
                <a:lnTo>
                  <a:pt x="10292" y="11635"/>
                </a:lnTo>
                <a:lnTo>
                  <a:pt x="10292" y="14743"/>
                </a:lnTo>
                <a:arcTo wR="21600" hR="7846" stAng="2029787" swAng="-1803579"/>
                <a:lnTo>
                  <a:pt x="21253" y="9246"/>
                </a:lnTo>
                <a:arcTo wR="21600" hR="7846" stAng="-226208" swAng="-5173792"/>
                <a:close/>
              </a:path>
              <a:path fill="darkenLess" w="21600" h="21600">
                <a:moveTo>
                  <a:pt x="0" y="0"/>
                </a:moveTo>
                <a:arcTo wR="21600" hR="7846" stAng="-5400000" swAng="5400000"/>
                <a:lnTo>
                  <a:pt x="21600" y="10647"/>
                </a:lnTo>
                <a:arcTo wR="21600" hR="7846" stAng="0" swAng="-226208"/>
                <a:lnTo>
                  <a:pt x="21253" y="9246"/>
                </a:lnTo>
                <a:arcTo wR="21600" hR="7846" stAng="-226208" swAng="-5173792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0" y="3862440"/>
            <a:ext cx="30481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dddddd"/>
                </a:solidFill>
                <a:latin typeface="Arial"/>
              </a:rPr>
              <a:t>L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Terminal de Licuefac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1" name=""/>
          <p:cNvGrpSpPr/>
          <p:nvPr/>
        </p:nvGrpSpPr>
        <p:grpSpPr>
          <a:xfrm>
            <a:off x="795240" y="2664000"/>
            <a:ext cx="1874880" cy="1099800"/>
            <a:chOff x="795240" y="2664000"/>
            <a:chExt cx="1874880" cy="1099800"/>
          </a:xfrm>
        </p:grpSpPr>
        <p:grpSp>
          <p:nvGrpSpPr>
            <p:cNvPr id="402" name=""/>
            <p:cNvGrpSpPr/>
            <p:nvPr/>
          </p:nvGrpSpPr>
          <p:grpSpPr>
            <a:xfrm>
              <a:off x="795240" y="2664000"/>
              <a:ext cx="1870200" cy="1087200"/>
              <a:chOff x="795240" y="2664000"/>
              <a:chExt cx="1870200" cy="1087200"/>
            </a:xfrm>
          </p:grpSpPr>
          <p:sp>
            <p:nvSpPr>
              <p:cNvPr id="403" name=""/>
              <p:cNvSpPr/>
              <p:nvPr/>
            </p:nvSpPr>
            <p:spPr>
              <a:xfrm>
                <a:off x="1903320" y="2949480"/>
                <a:ext cx="57240" cy="65736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1328760" y="2735280"/>
                <a:ext cx="85680" cy="86364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1444680" y="2735280"/>
                <a:ext cx="82440" cy="86364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911160" y="2735280"/>
                <a:ext cx="84240" cy="86364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1025280" y="2735280"/>
                <a:ext cx="86040" cy="86364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1141200" y="2735280"/>
                <a:ext cx="82800" cy="86364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1762200" y="2949480"/>
                <a:ext cx="55440" cy="65736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1617480" y="2949480"/>
                <a:ext cx="57240" cy="65736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1560240" y="3295800"/>
                <a:ext cx="433440" cy="44928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795240" y="3465360"/>
                <a:ext cx="770040" cy="27972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946080" y="2676600"/>
                <a:ext cx="12600" cy="16668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1058760" y="2676600"/>
                <a:ext cx="12600" cy="16668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1168200" y="2676600"/>
                <a:ext cx="14400" cy="16668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1360440" y="2676600"/>
                <a:ext cx="14400" cy="16668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841320" y="2664000"/>
                <a:ext cx="642960" cy="865080"/>
              </a:xfrm>
              <a:custGeom>
                <a:avLst/>
                <a:gdLst/>
                <a:ahLst/>
                <a:rect l="l" t="t" r="r" b="b"/>
                <a:pathLst>
                  <a:path w="536" h="720">
                    <a:moveTo>
                      <a:pt x="0" y="0"/>
                    </a:moveTo>
                    <a:lnTo>
                      <a:pt x="0" y="720"/>
                    </a:lnTo>
                    <a:lnTo>
                      <a:pt x="536" y="720"/>
                    </a:lnTo>
                    <a:lnTo>
                      <a:pt x="536" y="0"/>
                    </a:lnTo>
                    <a:lnTo>
                      <a:pt x="0" y="0"/>
                    </a:lnTo>
                    <a:lnTo>
                      <a:pt x="12" y="12"/>
                    </a:lnTo>
                    <a:lnTo>
                      <a:pt x="525" y="12"/>
                    </a:lnTo>
                    <a:lnTo>
                      <a:pt x="525" y="708"/>
                    </a:lnTo>
                    <a:lnTo>
                      <a:pt x="12" y="708"/>
                    </a:lnTo>
                    <a:lnTo>
                      <a:pt x="12" y="1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9900"/>
              </a:solidFill>
              <a:ln w="936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1717560" y="3019320"/>
                <a:ext cx="655560" cy="719280"/>
              </a:xfrm>
              <a:custGeom>
                <a:avLst/>
                <a:gdLst/>
                <a:ahLst/>
                <a:rect l="l" t="t" r="r" b="b"/>
                <a:pathLst>
                  <a:path w="545" h="599">
                    <a:moveTo>
                      <a:pt x="0" y="599"/>
                    </a:moveTo>
                    <a:lnTo>
                      <a:pt x="259" y="599"/>
                    </a:lnTo>
                    <a:lnTo>
                      <a:pt x="259" y="11"/>
                    </a:lnTo>
                    <a:lnTo>
                      <a:pt x="518" y="11"/>
                    </a:lnTo>
                    <a:lnTo>
                      <a:pt x="518" y="109"/>
                    </a:lnTo>
                    <a:lnTo>
                      <a:pt x="534" y="157"/>
                    </a:lnTo>
                    <a:lnTo>
                      <a:pt x="545" y="153"/>
                    </a:lnTo>
                    <a:lnTo>
                      <a:pt x="530" y="109"/>
                    </a:lnTo>
                    <a:lnTo>
                      <a:pt x="530" y="0"/>
                    </a:lnTo>
                    <a:lnTo>
                      <a:pt x="248" y="0"/>
                    </a:lnTo>
                    <a:lnTo>
                      <a:pt x="248" y="587"/>
                    </a:lnTo>
                    <a:lnTo>
                      <a:pt x="0" y="587"/>
                    </a:lnTo>
                    <a:lnTo>
                      <a:pt x="0" y="599"/>
                    </a:lnTo>
                    <a:close/>
                  </a:path>
                </a:pathLst>
              </a:custGeom>
              <a:solidFill>
                <a:srgbClr val="ff9900"/>
              </a:solidFill>
              <a:ln w="936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2066760" y="3122640"/>
                <a:ext cx="598680" cy="628560"/>
              </a:xfrm>
              <a:prstGeom prst="ellipse">
                <a:avLst/>
              </a:prstGeom>
              <a:solidFill>
                <a:srgbClr val="ff9900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0" name=""/>
            <p:cNvSpPr/>
            <p:nvPr/>
          </p:nvSpPr>
          <p:spPr>
            <a:xfrm>
              <a:off x="2062080" y="3125880"/>
              <a:ext cx="608040" cy="637920"/>
            </a:xfrm>
            <a:prstGeom prst="ellipse">
              <a:avLst/>
            </a:prstGeom>
            <a:gradFill rotWithShape="0">
              <a:gsLst>
                <a:gs pos="0">
                  <a:srgbClr val="75002f"/>
                </a:gs>
                <a:gs pos="100000">
                  <a:srgbClr val="ff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1" name=""/>
          <p:cNvSpPr/>
          <p:nvPr/>
        </p:nvSpPr>
        <p:spPr>
          <a:xfrm>
            <a:off x="3767040" y="3708360"/>
            <a:ext cx="2819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2" name=""/>
          <p:cNvGrpSpPr/>
          <p:nvPr/>
        </p:nvGrpSpPr>
        <p:grpSpPr>
          <a:xfrm>
            <a:off x="947880" y="260280"/>
            <a:ext cx="484200" cy="1424160"/>
            <a:chOff x="947880" y="260280"/>
            <a:chExt cx="484200" cy="1424160"/>
          </a:xfrm>
        </p:grpSpPr>
        <p:sp>
          <p:nvSpPr>
            <p:cNvPr id="423" name=""/>
            <p:cNvSpPr/>
            <p:nvPr/>
          </p:nvSpPr>
          <p:spPr>
            <a:xfrm>
              <a:off x="1008000" y="264960"/>
              <a:ext cx="366840" cy="1414440"/>
            </a:xfrm>
            <a:custGeom>
              <a:avLst/>
              <a:gdLst/>
              <a:ahLst/>
              <a:rect l="l" t="t" r="r" b="b"/>
              <a:pathLst>
                <a:path w="305" h="1177">
                  <a:moveTo>
                    <a:pt x="305" y="1177"/>
                  </a:moveTo>
                  <a:lnTo>
                    <a:pt x="240" y="0"/>
                  </a:lnTo>
                  <a:lnTo>
                    <a:pt x="63" y="0"/>
                  </a:lnTo>
                  <a:lnTo>
                    <a:pt x="0" y="1177"/>
                  </a:lnTo>
                  <a:lnTo>
                    <a:pt x="305" y="1177"/>
                  </a:lnTo>
                  <a:lnTo>
                    <a:pt x="290" y="1162"/>
                  </a:lnTo>
                  <a:lnTo>
                    <a:pt x="15" y="1162"/>
                  </a:lnTo>
                  <a:lnTo>
                    <a:pt x="79" y="15"/>
                  </a:lnTo>
                  <a:lnTo>
                    <a:pt x="225" y="15"/>
                  </a:lnTo>
                  <a:lnTo>
                    <a:pt x="290" y="1162"/>
                  </a:lnTo>
                  <a:lnTo>
                    <a:pt x="305" y="1177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1008000" y="662040"/>
              <a:ext cx="368280" cy="1490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998640" y="654120"/>
              <a:ext cx="385560" cy="164880"/>
            </a:xfrm>
            <a:custGeom>
              <a:avLst/>
              <a:gdLst/>
              <a:ahLst/>
              <a:rect l="l" t="t" r="r" b="b"/>
              <a:pathLst>
                <a:path w="321" h="138">
                  <a:moveTo>
                    <a:pt x="0" y="0"/>
                  </a:moveTo>
                  <a:lnTo>
                    <a:pt x="0" y="138"/>
                  </a:lnTo>
                  <a:lnTo>
                    <a:pt x="321" y="138"/>
                  </a:lnTo>
                  <a:lnTo>
                    <a:pt x="321" y="0"/>
                  </a:lnTo>
                  <a:lnTo>
                    <a:pt x="0" y="0"/>
                  </a:lnTo>
                  <a:lnTo>
                    <a:pt x="16" y="15"/>
                  </a:lnTo>
                  <a:lnTo>
                    <a:pt x="305" y="15"/>
                  </a:lnTo>
                  <a:lnTo>
                    <a:pt x="305" y="122"/>
                  </a:lnTo>
                  <a:lnTo>
                    <a:pt x="16" y="122"/>
                  </a:lnTo>
                  <a:lnTo>
                    <a:pt x="16" y="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947880" y="1633320"/>
              <a:ext cx="484200" cy="511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1055880" y="326880"/>
              <a:ext cx="269640" cy="493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1047600" y="317520"/>
              <a:ext cx="285840" cy="65160"/>
            </a:xfrm>
            <a:custGeom>
              <a:avLst/>
              <a:gdLst/>
              <a:ahLst/>
              <a:rect l="l" t="t" r="r" b="b"/>
              <a:pathLst>
                <a:path w="238" h="54">
                  <a:moveTo>
                    <a:pt x="0" y="0"/>
                  </a:moveTo>
                  <a:lnTo>
                    <a:pt x="0" y="54"/>
                  </a:lnTo>
                  <a:lnTo>
                    <a:pt x="238" y="54"/>
                  </a:lnTo>
                  <a:lnTo>
                    <a:pt x="238" y="0"/>
                  </a:lnTo>
                  <a:lnTo>
                    <a:pt x="0" y="0"/>
                  </a:lnTo>
                  <a:lnTo>
                    <a:pt x="15" y="15"/>
                  </a:lnTo>
                  <a:lnTo>
                    <a:pt x="222" y="15"/>
                  </a:lnTo>
                  <a:lnTo>
                    <a:pt x="222" y="38"/>
                  </a:lnTo>
                  <a:lnTo>
                    <a:pt x="15" y="38"/>
                  </a:lnTo>
                  <a:lnTo>
                    <a:pt x="15" y="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1030320" y="1395360"/>
              <a:ext cx="318960" cy="190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1039680" y="1181160"/>
              <a:ext cx="300240" cy="190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050840" y="987480"/>
              <a:ext cx="279360" cy="17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1073160" y="520560"/>
              <a:ext cx="233280" cy="190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073160" y="376200"/>
              <a:ext cx="233280" cy="0"/>
            </a:xfrm>
            <a:prstGeom prst="line">
              <a:avLst/>
            </a:prstGeom>
            <a:ln w="0">
              <a:solidFill>
                <a:srgbClr val="ff99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1019160" y="1606320"/>
              <a:ext cx="341280" cy="17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023840" y="1403280"/>
              <a:ext cx="331920" cy="214200"/>
            </a:xfrm>
            <a:custGeom>
              <a:avLst/>
              <a:gdLst/>
              <a:ahLst/>
              <a:rect l="l" t="t" r="r" b="b"/>
              <a:pathLst>
                <a:path w="277" h="178">
                  <a:moveTo>
                    <a:pt x="269" y="0"/>
                  </a:moveTo>
                  <a:lnTo>
                    <a:pt x="0" y="167"/>
                  </a:lnTo>
                  <a:lnTo>
                    <a:pt x="8" y="178"/>
                  </a:lnTo>
                  <a:lnTo>
                    <a:pt x="277" y="11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1020960" y="1403280"/>
              <a:ext cx="338040" cy="214200"/>
            </a:xfrm>
            <a:custGeom>
              <a:avLst/>
              <a:gdLst/>
              <a:ahLst/>
              <a:rect l="l" t="t" r="r" b="b"/>
              <a:pathLst>
                <a:path w="281" h="178">
                  <a:moveTo>
                    <a:pt x="0" y="11"/>
                  </a:moveTo>
                  <a:lnTo>
                    <a:pt x="273" y="178"/>
                  </a:lnTo>
                  <a:lnTo>
                    <a:pt x="281" y="167"/>
                  </a:lnTo>
                  <a:lnTo>
                    <a:pt x="8" y="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1035000" y="1187280"/>
              <a:ext cx="309600" cy="217440"/>
            </a:xfrm>
            <a:custGeom>
              <a:avLst/>
              <a:gdLst/>
              <a:ahLst/>
              <a:rect l="l" t="t" r="r" b="b"/>
              <a:pathLst>
                <a:path w="257" h="181">
                  <a:moveTo>
                    <a:pt x="250" y="0"/>
                  </a:moveTo>
                  <a:lnTo>
                    <a:pt x="0" y="169"/>
                  </a:lnTo>
                  <a:lnTo>
                    <a:pt x="8" y="181"/>
                  </a:lnTo>
                  <a:lnTo>
                    <a:pt x="257" y="12"/>
                  </a:lnTo>
                  <a:lnTo>
                    <a:pt x="250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1035000" y="1185840"/>
              <a:ext cx="311400" cy="222120"/>
            </a:xfrm>
            <a:custGeom>
              <a:avLst/>
              <a:gdLst/>
              <a:ahLst/>
              <a:rect l="l" t="t" r="r" b="b"/>
              <a:pathLst>
                <a:path w="259" h="185">
                  <a:moveTo>
                    <a:pt x="0" y="12"/>
                  </a:moveTo>
                  <a:lnTo>
                    <a:pt x="251" y="185"/>
                  </a:lnTo>
                  <a:lnTo>
                    <a:pt x="259" y="173"/>
                  </a:lnTo>
                  <a:lnTo>
                    <a:pt x="8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1044720" y="992160"/>
              <a:ext cx="290520" cy="200160"/>
            </a:xfrm>
            <a:custGeom>
              <a:avLst/>
              <a:gdLst/>
              <a:ahLst/>
              <a:rect l="l" t="t" r="r" b="b"/>
              <a:pathLst>
                <a:path w="242" h="167">
                  <a:moveTo>
                    <a:pt x="234" y="0"/>
                  </a:moveTo>
                  <a:lnTo>
                    <a:pt x="0" y="155"/>
                  </a:lnTo>
                  <a:lnTo>
                    <a:pt x="7" y="167"/>
                  </a:lnTo>
                  <a:lnTo>
                    <a:pt x="242" y="11"/>
                  </a:lnTo>
                  <a:lnTo>
                    <a:pt x="234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044720" y="992160"/>
              <a:ext cx="291960" cy="200160"/>
            </a:xfrm>
            <a:custGeom>
              <a:avLst/>
              <a:gdLst/>
              <a:ahLst/>
              <a:rect l="l" t="t" r="r" b="b"/>
              <a:pathLst>
                <a:path w="243" h="167">
                  <a:moveTo>
                    <a:pt x="0" y="11"/>
                  </a:moveTo>
                  <a:lnTo>
                    <a:pt x="236" y="167"/>
                  </a:lnTo>
                  <a:lnTo>
                    <a:pt x="243" y="155"/>
                  </a:lnTo>
                  <a:lnTo>
                    <a:pt x="7" y="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058760" y="806400"/>
              <a:ext cx="262080" cy="190440"/>
            </a:xfrm>
            <a:custGeom>
              <a:avLst/>
              <a:gdLst/>
              <a:ahLst/>
              <a:rect l="l" t="t" r="r" b="b"/>
              <a:pathLst>
                <a:path w="219" h="158">
                  <a:moveTo>
                    <a:pt x="211" y="0"/>
                  </a:moveTo>
                  <a:lnTo>
                    <a:pt x="0" y="146"/>
                  </a:lnTo>
                  <a:lnTo>
                    <a:pt x="8" y="158"/>
                  </a:lnTo>
                  <a:lnTo>
                    <a:pt x="219" y="12"/>
                  </a:lnTo>
                  <a:lnTo>
                    <a:pt x="211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55880" y="804960"/>
              <a:ext cx="268200" cy="191880"/>
            </a:xfrm>
            <a:custGeom>
              <a:avLst/>
              <a:gdLst/>
              <a:ahLst/>
              <a:rect l="l" t="t" r="r" b="b"/>
              <a:pathLst>
                <a:path w="223" h="160">
                  <a:moveTo>
                    <a:pt x="0" y="12"/>
                  </a:moveTo>
                  <a:lnTo>
                    <a:pt x="215" y="160"/>
                  </a:lnTo>
                  <a:lnTo>
                    <a:pt x="223" y="148"/>
                  </a:lnTo>
                  <a:lnTo>
                    <a:pt x="8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1074600" y="525240"/>
              <a:ext cx="231840" cy="141480"/>
            </a:xfrm>
            <a:custGeom>
              <a:avLst/>
              <a:gdLst/>
              <a:ahLst/>
              <a:rect l="l" t="t" r="r" b="b"/>
              <a:pathLst>
                <a:path w="193" h="117">
                  <a:moveTo>
                    <a:pt x="186" y="0"/>
                  </a:moveTo>
                  <a:lnTo>
                    <a:pt x="0" y="102"/>
                  </a:lnTo>
                  <a:lnTo>
                    <a:pt x="7" y="117"/>
                  </a:lnTo>
                  <a:lnTo>
                    <a:pt x="193" y="15"/>
                  </a:lnTo>
                  <a:lnTo>
                    <a:pt x="186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1074600" y="525240"/>
              <a:ext cx="231840" cy="141480"/>
            </a:xfrm>
            <a:custGeom>
              <a:avLst/>
              <a:gdLst/>
              <a:ahLst/>
              <a:rect l="l" t="t" r="r" b="b"/>
              <a:pathLst>
                <a:path w="193" h="117">
                  <a:moveTo>
                    <a:pt x="0" y="15"/>
                  </a:moveTo>
                  <a:lnTo>
                    <a:pt x="186" y="117"/>
                  </a:lnTo>
                  <a:lnTo>
                    <a:pt x="193" y="102"/>
                  </a:lnTo>
                  <a:lnTo>
                    <a:pt x="7" y="0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1081080" y="371520"/>
              <a:ext cx="217440" cy="161640"/>
            </a:xfrm>
            <a:custGeom>
              <a:avLst/>
              <a:gdLst/>
              <a:ahLst/>
              <a:rect l="l" t="t" r="r" b="b"/>
              <a:pathLst>
                <a:path w="181" h="135">
                  <a:moveTo>
                    <a:pt x="173" y="0"/>
                  </a:moveTo>
                  <a:lnTo>
                    <a:pt x="0" y="123"/>
                  </a:lnTo>
                  <a:lnTo>
                    <a:pt x="8" y="135"/>
                  </a:lnTo>
                  <a:lnTo>
                    <a:pt x="181" y="12"/>
                  </a:lnTo>
                  <a:lnTo>
                    <a:pt x="173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1081080" y="371520"/>
              <a:ext cx="217440" cy="161640"/>
            </a:xfrm>
            <a:custGeom>
              <a:avLst/>
              <a:gdLst/>
              <a:ahLst/>
              <a:rect l="l" t="t" r="r" b="b"/>
              <a:pathLst>
                <a:path w="181" h="135">
                  <a:moveTo>
                    <a:pt x="0" y="12"/>
                  </a:moveTo>
                  <a:lnTo>
                    <a:pt x="173" y="135"/>
                  </a:lnTo>
                  <a:lnTo>
                    <a:pt x="181" y="123"/>
                  </a:lnTo>
                  <a:lnTo>
                    <a:pt x="8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1095480" y="260280"/>
              <a:ext cx="189000" cy="507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8" name=""/>
          <p:cNvSpPr/>
          <p:nvPr/>
        </p:nvSpPr>
        <p:spPr>
          <a:xfrm>
            <a:off x="0" y="1650960"/>
            <a:ext cx="22096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Producción del Camp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2971800" y="4724280"/>
            <a:ext cx="5105520" cy="871200"/>
          </a:xfrm>
          <a:prstGeom prst="rect">
            <a:avLst/>
          </a:prstGeom>
          <a:solidFill>
            <a:srgbClr val="cc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s-ES" sz="2400" spc="-1" strike="noStrike">
                <a:solidFill>
                  <a:srgbClr val="ff0000"/>
                </a:solidFill>
                <a:latin typeface="Arial"/>
              </a:rPr>
              <a:t>Perú tendría la primera planta de LNG en Sudaméric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200400" y="380880"/>
            <a:ext cx="58672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00"/>
                </a:solidFill>
                <a:latin typeface="Arial"/>
              </a:rPr>
              <a:t>Proyecto de Exp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s-ES" sz="3600" spc="-1" strike="noStrike">
                <a:solidFill>
                  <a:srgbClr val="ffff00"/>
                </a:solidFill>
                <a:latin typeface="Arial"/>
              </a:rPr>
              <a:t>rtación 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adena de Val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98280" y="6464160"/>
            <a:ext cx="137160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7988400" y="6692760"/>
            <a:ext cx="114300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2209680" y="1876320"/>
            <a:ext cx="22100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Transpor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114800" y="3886200"/>
            <a:ext cx="22096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dddddd"/>
                </a:solidFill>
                <a:latin typeface="Arial"/>
              </a:rPr>
              <a:t>Barco Metan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28D680-73FD-48B2-B01D-7EDCDA8871D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/>
          <p:nvPr/>
        </p:nvSpPr>
        <p:spPr>
          <a:xfrm>
            <a:off x="3160440" y="2006640"/>
            <a:ext cx="2548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Humanst521 BT"/>
              </a:rPr>
              <a:t>Terminal de Regasific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128760" y="2666880"/>
            <a:ext cx="1975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Humanst521 BT"/>
              </a:rPr>
              <a:t>Transporte Marítim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4429080" y="3755880"/>
            <a:ext cx="207792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Humanst521 BT"/>
              </a:rPr>
              <a:t>Pozos y ampliación de instalaciones y gasoduc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351680" y="5103720"/>
            <a:ext cx="239652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Humanst521 BT"/>
              </a:rPr>
              <a:t>Planta, Almacenaje 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Humanst521 BT"/>
              </a:rPr>
              <a:t>Infraestructura portuar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629400" y="3543480"/>
            <a:ext cx="133200" cy="2438280"/>
          </a:xfrm>
          <a:custGeom>
            <a:avLst/>
            <a:gdLst>
              <a:gd name="textAreaLeft" fmla="*/ 0 w 133200"/>
              <a:gd name="textAreaRight" fmla="*/ 47880 w 133200"/>
              <a:gd name="textAreaTop" fmla="*/ 63360 h 2438280"/>
              <a:gd name="textAreaBottom" fmla="*/ 2374920 h 2438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6765840" y="4259160"/>
            <a:ext cx="2378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Humanst521 BT"/>
              </a:rPr>
              <a:t>Inversión 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Humanst521 BT"/>
              </a:rPr>
              <a:t>el Per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Humanst521 BT"/>
              </a:rPr>
              <a:t>$ 2,500 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876240" y="1828800"/>
            <a:ext cx="266760" cy="4114800"/>
          </a:xfrm>
          <a:custGeom>
            <a:avLst/>
            <a:gdLst>
              <a:gd name="textAreaLeft" fmla="*/ 170640 w 266760"/>
              <a:gd name="textAreaRight" fmla="*/ 266760 w 266760"/>
              <a:gd name="textAreaTop" fmla="*/ 107280 h 4114800"/>
              <a:gd name="textAreaBottom" fmla="*/ 4007520 h 4114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1247760" y="4613400"/>
            <a:ext cx="1847880" cy="13586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1247760" y="3892680"/>
            <a:ext cx="1847880" cy="7207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247760" y="3141720"/>
            <a:ext cx="1847880" cy="7509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1247760" y="2397240"/>
            <a:ext cx="1847880" cy="7444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1247760" y="1835280"/>
            <a:ext cx="1847880" cy="5619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1839240" y="5187960"/>
            <a:ext cx="586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Humanst521 BT"/>
              </a:rPr>
              <a:t>1,3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1935000" y="4148280"/>
            <a:ext cx="393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Humanst521 BT"/>
              </a:rPr>
              <a:t>6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1935000" y="3429000"/>
            <a:ext cx="393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Humanst521 BT"/>
              </a:rPr>
              <a:t>53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1935000" y="2666880"/>
            <a:ext cx="393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Humanst521 BT"/>
              </a:rPr>
              <a:t>6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1935000" y="2011320"/>
            <a:ext cx="393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Humanst521 BT"/>
              </a:rPr>
              <a:t>5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3165840" y="3429000"/>
            <a:ext cx="1052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Humanst521 BT"/>
              </a:rPr>
              <a:t>Transpor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3179160" y="4130640"/>
            <a:ext cx="1091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Humanst521 BT"/>
              </a:rPr>
              <a:t>“</a:t>
            </a:r>
            <a:r>
              <a:rPr b="0" lang="es-ES" sz="1600" spc="-1" strike="noStrike">
                <a:solidFill>
                  <a:srgbClr val="ffffff"/>
                </a:solidFill>
                <a:latin typeface="Humanst521 BT"/>
              </a:rPr>
              <a:t>Upstream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4214880" y="3473280"/>
            <a:ext cx="74520" cy="1133640"/>
          </a:xfrm>
          <a:custGeom>
            <a:avLst/>
            <a:gdLst>
              <a:gd name="textAreaLeft" fmla="*/ 0 w 74520"/>
              <a:gd name="textAreaRight" fmla="*/ 27000 w 74520"/>
              <a:gd name="textAreaTop" fmla="*/ 29520 h 1133640"/>
              <a:gd name="textAreaBottom" fmla="*/ 1104120 h 113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175920" y="5040360"/>
            <a:ext cx="104148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Humanst521 BT"/>
              </a:rPr>
              <a:t>Instal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Humanst521 BT"/>
              </a:rPr>
              <a:t>    </a:t>
            </a:r>
            <a:r>
              <a:rPr b="0" lang="es-ES" sz="1600" spc="-1" strike="noStrike">
                <a:solidFill>
                  <a:srgbClr val="ffffff"/>
                </a:solidFill>
                <a:latin typeface="Humanst521 BT"/>
              </a:rPr>
              <a:t>L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4210200" y="4768920"/>
            <a:ext cx="74520" cy="1133280"/>
          </a:xfrm>
          <a:custGeom>
            <a:avLst/>
            <a:gdLst>
              <a:gd name="textAreaLeft" fmla="*/ 0 w 74520"/>
              <a:gd name="textAreaRight" fmla="*/ 27000 w 74520"/>
              <a:gd name="textAreaTop" fmla="*/ 29520 h 1133280"/>
              <a:gd name="textAreaBottom" fmla="*/ 1103760 h 113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838080" y="1828800"/>
            <a:ext cx="304920" cy="4114800"/>
          </a:xfrm>
          <a:custGeom>
            <a:avLst/>
            <a:gdLst>
              <a:gd name="textAreaLeft" fmla="*/ 194760 w 304920"/>
              <a:gd name="textAreaRight" fmla="*/ 305280 w 304920"/>
              <a:gd name="textAreaTop" fmla="*/ 107280 h 4114800"/>
              <a:gd name="textAreaBottom" fmla="*/ 4007520 h 4114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553080" y="3581280"/>
            <a:ext cx="304920" cy="2133720"/>
          </a:xfrm>
          <a:custGeom>
            <a:avLst/>
            <a:gdLst>
              <a:gd name="textAreaLeft" fmla="*/ 0 w 304920"/>
              <a:gd name="textAreaRight" fmla="*/ 110160 w 304920"/>
              <a:gd name="textAreaTop" fmla="*/ 55440 h 2133720"/>
              <a:gd name="textAreaBottom" fmla="*/ 2078280 h 2133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191120" y="4724280"/>
            <a:ext cx="152280" cy="1219320"/>
          </a:xfrm>
          <a:custGeom>
            <a:avLst/>
            <a:gdLst>
              <a:gd name="textAreaLeft" fmla="*/ 0 w 152280"/>
              <a:gd name="textAreaRight" fmla="*/ 55080 w 15228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191120" y="3200400"/>
            <a:ext cx="152280" cy="1447920"/>
          </a:xfrm>
          <a:custGeom>
            <a:avLst/>
            <a:gdLst>
              <a:gd name="textAreaLeft" fmla="*/ 0 w 152280"/>
              <a:gd name="textAreaRight" fmla="*/ 55080 w 15228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 rot="16200000">
            <a:off x="-403560" y="3660840"/>
            <a:ext cx="192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Humanst521 BT"/>
              </a:rPr>
              <a:t>MM US$ 3,3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228600" y="228600"/>
            <a:ext cx="8915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Inversiones en el Proyecto de L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201050-7AED-4FCE-8E3E-35FADCE7094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"/>
          <p:cNvSpPr/>
          <p:nvPr/>
        </p:nvSpPr>
        <p:spPr>
          <a:xfrm>
            <a:off x="1039680" y="5881680"/>
            <a:ext cx="377856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1042920" y="5950080"/>
            <a:ext cx="590544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00"/>
                </a:solidFill>
                <a:latin typeface="Arial"/>
              </a:rPr>
              <a:t>El valor de las exportaciones del proyecto LNG  es el  promedio  anual 2009-2026,  para Yanacocha y Antamina es del 20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ffff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00"/>
                </a:solidFill>
                <a:latin typeface="Arial"/>
              </a:rPr>
              <a:t>Promedio de valor de exportación anual a precios actua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2325960" y="6669000"/>
            <a:ext cx="1960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Arial"/>
              </a:rPr>
              <a:t>Fuente: Aduanas, BCR, empresa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1819440" y="1700280"/>
            <a:ext cx="653760" cy="37526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4094280" y="2381400"/>
            <a:ext cx="652320" cy="3071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6357960" y="3625920"/>
            <a:ext cx="652320" cy="18270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2473200" y="2781360"/>
            <a:ext cx="652680" cy="2671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4746600" y="3933720"/>
            <a:ext cx="641520" cy="1519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7010280" y="3573360"/>
            <a:ext cx="652680" cy="1879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1311120" y="5452920"/>
            <a:ext cx="28800" cy="3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1311120" y="4689360"/>
            <a:ext cx="28800" cy="1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1311120" y="3924360"/>
            <a:ext cx="2880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1311120" y="3176640"/>
            <a:ext cx="2880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1311120" y="2411280"/>
            <a:ext cx="28800" cy="1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1311120" y="1649520"/>
            <a:ext cx="2880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1339920" y="5452920"/>
            <a:ext cx="681192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V="1">
            <a:off x="1339920" y="5452920"/>
            <a:ext cx="1440" cy="446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 flipV="1">
            <a:off x="3614760" y="5452920"/>
            <a:ext cx="1440" cy="446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 flipV="1">
            <a:off x="5877000" y="5452920"/>
            <a:ext cx="1440" cy="446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 flipV="1">
            <a:off x="8151840" y="5452920"/>
            <a:ext cx="1440" cy="446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1977480" y="1268280"/>
            <a:ext cx="447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00"/>
                </a:solidFill>
                <a:latin typeface="Arial"/>
              </a:rPr>
              <a:t>2,5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4282560" y="2060640"/>
            <a:ext cx="447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00"/>
                </a:solidFill>
                <a:latin typeface="Arial"/>
              </a:rPr>
              <a:t>2,02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6494040" y="3305160"/>
            <a:ext cx="447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00"/>
                </a:solidFill>
                <a:latin typeface="Arial"/>
              </a:rPr>
              <a:t>1,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2623680" y="2492280"/>
            <a:ext cx="715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00"/>
                </a:solidFill>
                <a:latin typeface="Arial"/>
              </a:rPr>
              <a:t>1,800 (2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4785840" y="3648240"/>
            <a:ext cx="447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00"/>
                </a:solidFill>
                <a:latin typeface="Arial"/>
              </a:rPr>
              <a:t>1,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162200" y="3284640"/>
            <a:ext cx="447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00"/>
                </a:solidFill>
                <a:latin typeface="Arial"/>
              </a:rPr>
              <a:t>1,23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1005120" y="4599000"/>
            <a:ext cx="298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00"/>
                </a:solidFill>
                <a:latin typeface="Arial"/>
              </a:rPr>
              <a:t>5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856800" y="3835440"/>
            <a:ext cx="447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00"/>
                </a:solidFill>
                <a:latin typeface="Arial"/>
              </a:rPr>
              <a:t>1,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856800" y="3086280"/>
            <a:ext cx="447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00"/>
                </a:solidFill>
                <a:latin typeface="Arial"/>
              </a:rPr>
              <a:t>1,5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856800" y="2322360"/>
            <a:ext cx="447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00"/>
                </a:solidFill>
                <a:latin typeface="Arial"/>
              </a:rPr>
              <a:t>2,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856800" y="1558800"/>
            <a:ext cx="447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00"/>
                </a:solidFill>
                <a:latin typeface="Arial"/>
              </a:rPr>
              <a:t>2,5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1858320" y="5573880"/>
            <a:ext cx="1122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00"/>
                </a:solidFill>
                <a:latin typeface="Arial"/>
              </a:rPr>
              <a:t>Proyecto L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4381200" y="5573880"/>
            <a:ext cx="753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00"/>
                </a:solidFill>
                <a:latin typeface="Arial"/>
              </a:rPr>
              <a:t>Antami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6505560" y="5605560"/>
            <a:ext cx="893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00"/>
                </a:solidFill>
                <a:latin typeface="Arial"/>
              </a:rPr>
              <a:t>Yanacoch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5721480" y="2549520"/>
            <a:ext cx="88920" cy="1159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5881320" y="2502000"/>
            <a:ext cx="726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00"/>
                </a:solidFill>
                <a:latin typeface="Arial"/>
              </a:rPr>
              <a:t>Invers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6745320" y="2549520"/>
            <a:ext cx="88920" cy="115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6940440" y="2502000"/>
            <a:ext cx="1592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00"/>
                </a:solidFill>
                <a:latin typeface="Arial"/>
              </a:rPr>
              <a:t>Exportación (1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556000" y="4724280"/>
            <a:ext cx="53028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3349080" y="3860640"/>
            <a:ext cx="636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00"/>
                </a:solidFill>
                <a:latin typeface="Arial"/>
              </a:rPr>
              <a:t>Líquid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s-ES" sz="1200" spc="-1" strike="noStrike">
                <a:solidFill>
                  <a:srgbClr val="ffff00"/>
                </a:solidFill>
                <a:latin typeface="Arial"/>
              </a:rPr>
              <a:t>+ ga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3203640" y="2852640"/>
            <a:ext cx="73080" cy="2557440"/>
          </a:xfrm>
          <a:custGeom>
            <a:avLst/>
            <a:gdLst/>
            <a:ahLst/>
            <a:rect l="l" t="t" r="r" b="b"/>
            <a:pathLst>
              <a:path w="16" h="70">
                <a:moveTo>
                  <a:pt x="0" y="0"/>
                </a:moveTo>
                <a:cubicBezTo>
                  <a:pt x="4" y="0"/>
                  <a:pt x="8" y="3"/>
                  <a:pt x="8" y="6"/>
                </a:cubicBezTo>
                <a:lnTo>
                  <a:pt x="8" y="29"/>
                </a:lnTo>
                <a:cubicBezTo>
                  <a:pt x="8" y="32"/>
                  <a:pt x="12" y="35"/>
                  <a:pt x="16" y="35"/>
                </a:cubicBezTo>
                <a:cubicBezTo>
                  <a:pt x="12" y="35"/>
                  <a:pt x="8" y="38"/>
                  <a:pt x="8" y="41"/>
                </a:cubicBezTo>
                <a:lnTo>
                  <a:pt x="8" y="64"/>
                </a:lnTo>
                <a:cubicBezTo>
                  <a:pt x="8" y="67"/>
                  <a:pt x="4" y="70"/>
                  <a:pt x="0" y="70"/>
                </a:cubicBezTo>
              </a:path>
            </a:pathLst>
          </a:custGeom>
          <a:noFill/>
          <a:ln w="367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 flipV="1">
            <a:off x="1311120" y="1447560"/>
            <a:ext cx="0" cy="3979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 rot="16200000">
            <a:off x="304920" y="3378960"/>
            <a:ext cx="560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00"/>
                </a:solidFill>
                <a:latin typeface="Humanst521 BT"/>
              </a:rPr>
              <a:t>MMUS$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2484360" y="2781360"/>
            <a:ext cx="647640" cy="1511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2556000" y="4653000"/>
            <a:ext cx="396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88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304920" y="533520"/>
            <a:ext cx="7772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Importancia del Proyecto de L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30385A-4384-4754-AF5B-8E4D57A2B9B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44160" y="196920"/>
            <a:ext cx="7467480" cy="56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600" spc="-1" strike="noStrike">
                <a:solidFill>
                  <a:srgbClr val="ffff00"/>
                </a:solidFill>
                <a:latin typeface="Arial"/>
              </a:rPr>
              <a:t>Valorización del Gas Natural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457200" y="1143000"/>
            <a:ext cx="830592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marL="457200" indent="-457200">
              <a:lnSpc>
                <a:spcPct val="8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Arial"/>
              </a:rPr>
              <a:t>Mercado Loc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-828720" y="3429000"/>
            <a:ext cx="907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3716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s-PE" sz="3200" spc="-1" strike="noStrike">
                <a:solidFill>
                  <a:srgbClr val="ffffff"/>
                </a:solidFill>
                <a:latin typeface="Arial"/>
              </a:rPr>
              <a:t>Exportación L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762120" y="1295280"/>
            <a:ext cx="8001000" cy="20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spcBef>
                <a:spcPts val="125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Generadores Eléctricos: US$ 1.00 / mmbt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spcBef>
                <a:spcPts val="125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Otros $ 1.80 / mmbt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(precios indexados anualment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-181080" y="4365720"/>
            <a:ext cx="9144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1.   Regalías en Upstrea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Precio Internacional menor o igual a $4.00/mmbtu </a:t>
            </a:r>
            <a:r>
              <a:rPr b="0" lang="es-PE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 30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Precio Internacional mayor a $4.00/mmbtu </a:t>
            </a:r>
            <a:r>
              <a:rPr b="0" lang="es-PE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             38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2.   Precio Gas en Boca de Pozo para Planta LNG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202F31-6B42-4CBE-9608-4396047479C3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44160" y="196560"/>
            <a:ext cx="746748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600" spc="-1" strike="noStrike">
                <a:solidFill>
                  <a:srgbClr val="ffff00"/>
                </a:solidFill>
                <a:latin typeface="Arial"/>
              </a:rPr>
              <a:t>Proyectos en competencia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457200" y="1143000"/>
            <a:ext cx="830592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marL="457200" indent="-457200">
              <a:lnSpc>
                <a:spcPct val="8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Arial"/>
              </a:rPr>
              <a:t>¿Quiénes compiten con  el Perú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-152280" y="40384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600" spc="-1" strike="noStrike">
                <a:solidFill>
                  <a:srgbClr val="ffffff"/>
                </a:solidFill>
                <a:latin typeface="Arial"/>
              </a:rPr>
              <a:t>Camisea: fuente más cercana al mercad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762120" y="1295280"/>
            <a:ext cx="8001000" cy="249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spcBef>
                <a:spcPts val="125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Sakhalin Rusia</a:t>
            </a:r>
            <a:r>
              <a:rPr b="1" lang="es-PE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(en construcción, operación en 2006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spcBef>
                <a:spcPts val="125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Zócalo NW de Austral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3.   Malasia e Indones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4.   Mercado “Spot” en el Pacíf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0" y="541008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Arial"/>
              </a:rPr>
              <a:t>El primer proyecto en llegar asegurará el mercado a largo plaz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9C92F1-C7EA-4C44-9A9A-A87D959471B1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</a:rPr>
              <a:t>¿Qué es el gas natural?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l gas natural es una mezcla de hidrocarburos con cantidades variables de impurezas, que en estado natural se encuentra en estado gaseos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l gas natural que llega a Lima vía gaseoducto es conocido como “Gas Natural Seco” y contiene principalmente metano (90%) y algo de etano (10%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590920" y="3505320"/>
            <a:ext cx="3276360" cy="30319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867280" y="3809880"/>
            <a:ext cx="304920" cy="609840"/>
          </a:xfrm>
          <a:custGeom>
            <a:avLst/>
            <a:gdLst>
              <a:gd name="textAreaLeft" fmla="*/ 0 w 304920"/>
              <a:gd name="textAreaRight" fmla="*/ 110160 w 3049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867280" y="4495680"/>
            <a:ext cx="304920" cy="609840"/>
          </a:xfrm>
          <a:custGeom>
            <a:avLst/>
            <a:gdLst>
              <a:gd name="textAreaLeft" fmla="*/ 0 w 304920"/>
              <a:gd name="textAreaRight" fmla="*/ 110160 w 3049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324480" y="3930480"/>
            <a:ext cx="1371600" cy="337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Gas Natu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324480" y="4648320"/>
            <a:ext cx="762120" cy="337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GL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"/>
          <p:cNvSpPr/>
          <p:nvPr/>
        </p:nvSpPr>
        <p:spPr>
          <a:xfrm>
            <a:off x="231840" y="228600"/>
            <a:ext cx="9524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Comparación de la Ubicación de Camise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0" name="" descr=""/>
          <p:cNvPicPr/>
          <p:nvPr/>
        </p:nvPicPr>
        <p:blipFill>
          <a:blip r:embed="rId1"/>
          <a:stretch/>
        </p:blipFill>
        <p:spPr>
          <a:xfrm>
            <a:off x="324000" y="836640"/>
            <a:ext cx="8569080" cy="5932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2C48A5-6C2A-48D1-BE76-83C9EDF237A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/>
          <p:nvPr/>
        </p:nvSpPr>
        <p:spPr>
          <a:xfrm>
            <a:off x="1116000" y="1741320"/>
            <a:ext cx="6642000" cy="3921120"/>
          </a:xfrm>
          <a:custGeom>
            <a:avLst/>
            <a:gdLst/>
            <a:ahLst/>
            <a:rect l="l" t="t" r="r" b="b"/>
            <a:pathLst>
              <a:path w="4184" h="2470">
                <a:moveTo>
                  <a:pt x="0" y="2470"/>
                </a:moveTo>
                <a:lnTo>
                  <a:pt x="0" y="2470"/>
                </a:lnTo>
                <a:lnTo>
                  <a:pt x="199" y="2470"/>
                </a:lnTo>
                <a:lnTo>
                  <a:pt x="398" y="2470"/>
                </a:lnTo>
                <a:lnTo>
                  <a:pt x="598" y="2189"/>
                </a:lnTo>
                <a:lnTo>
                  <a:pt x="797" y="1723"/>
                </a:lnTo>
                <a:lnTo>
                  <a:pt x="996" y="1715"/>
                </a:lnTo>
                <a:lnTo>
                  <a:pt x="1196" y="1496"/>
                </a:lnTo>
                <a:lnTo>
                  <a:pt x="1395" y="1306"/>
                </a:lnTo>
                <a:lnTo>
                  <a:pt x="1595" y="1221"/>
                </a:lnTo>
                <a:lnTo>
                  <a:pt x="1794" y="1221"/>
                </a:lnTo>
                <a:lnTo>
                  <a:pt x="1993" y="1136"/>
                </a:lnTo>
                <a:lnTo>
                  <a:pt x="2192" y="1136"/>
                </a:lnTo>
                <a:lnTo>
                  <a:pt x="2391" y="1136"/>
                </a:lnTo>
                <a:lnTo>
                  <a:pt x="2590" y="1080"/>
                </a:lnTo>
                <a:lnTo>
                  <a:pt x="2790" y="1080"/>
                </a:lnTo>
                <a:lnTo>
                  <a:pt x="2989" y="995"/>
                </a:lnTo>
                <a:lnTo>
                  <a:pt x="3188" y="663"/>
                </a:lnTo>
                <a:lnTo>
                  <a:pt x="3387" y="663"/>
                </a:lnTo>
                <a:lnTo>
                  <a:pt x="3586" y="332"/>
                </a:lnTo>
                <a:lnTo>
                  <a:pt x="3786" y="332"/>
                </a:lnTo>
                <a:lnTo>
                  <a:pt x="3985" y="0"/>
                </a:lnTo>
                <a:lnTo>
                  <a:pt x="4184" y="0"/>
                </a:lnTo>
                <a:lnTo>
                  <a:pt x="4184" y="2470"/>
                </a:lnTo>
                <a:lnTo>
                  <a:pt x="3985" y="2470"/>
                </a:lnTo>
                <a:lnTo>
                  <a:pt x="3786" y="2470"/>
                </a:lnTo>
                <a:lnTo>
                  <a:pt x="3586" y="2470"/>
                </a:lnTo>
                <a:lnTo>
                  <a:pt x="3387" y="2470"/>
                </a:lnTo>
                <a:lnTo>
                  <a:pt x="3188" y="2470"/>
                </a:lnTo>
                <a:lnTo>
                  <a:pt x="2989" y="2470"/>
                </a:lnTo>
                <a:lnTo>
                  <a:pt x="2790" y="2470"/>
                </a:lnTo>
                <a:lnTo>
                  <a:pt x="2590" y="2470"/>
                </a:lnTo>
                <a:lnTo>
                  <a:pt x="2391" y="2470"/>
                </a:lnTo>
                <a:lnTo>
                  <a:pt x="2192" y="2470"/>
                </a:lnTo>
                <a:lnTo>
                  <a:pt x="1993" y="2470"/>
                </a:lnTo>
                <a:lnTo>
                  <a:pt x="1794" y="2470"/>
                </a:lnTo>
                <a:lnTo>
                  <a:pt x="1595" y="2470"/>
                </a:lnTo>
                <a:lnTo>
                  <a:pt x="1395" y="2470"/>
                </a:lnTo>
                <a:lnTo>
                  <a:pt x="1196" y="2470"/>
                </a:lnTo>
                <a:lnTo>
                  <a:pt x="996" y="2470"/>
                </a:lnTo>
                <a:lnTo>
                  <a:pt x="797" y="2470"/>
                </a:lnTo>
                <a:lnTo>
                  <a:pt x="598" y="2470"/>
                </a:lnTo>
                <a:lnTo>
                  <a:pt x="398" y="2470"/>
                </a:lnTo>
                <a:lnTo>
                  <a:pt x="199" y="2470"/>
                </a:lnTo>
                <a:lnTo>
                  <a:pt x="0" y="247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1116000" y="1741320"/>
            <a:ext cx="6642000" cy="3921120"/>
          </a:xfrm>
          <a:custGeom>
            <a:avLst/>
            <a:gdLst/>
            <a:ahLst/>
            <a:rect l="l" t="t" r="r" b="b"/>
            <a:pathLst>
              <a:path w="4184" h="2470">
                <a:moveTo>
                  <a:pt x="0" y="2470"/>
                </a:moveTo>
                <a:lnTo>
                  <a:pt x="0" y="2470"/>
                </a:lnTo>
                <a:lnTo>
                  <a:pt x="199" y="2470"/>
                </a:lnTo>
                <a:lnTo>
                  <a:pt x="398" y="2470"/>
                </a:lnTo>
                <a:lnTo>
                  <a:pt x="598" y="2189"/>
                </a:lnTo>
                <a:lnTo>
                  <a:pt x="797" y="1723"/>
                </a:lnTo>
                <a:lnTo>
                  <a:pt x="996" y="1715"/>
                </a:lnTo>
                <a:lnTo>
                  <a:pt x="1196" y="1496"/>
                </a:lnTo>
                <a:lnTo>
                  <a:pt x="1395" y="1306"/>
                </a:lnTo>
                <a:lnTo>
                  <a:pt x="1595" y="1221"/>
                </a:lnTo>
                <a:lnTo>
                  <a:pt x="1794" y="1221"/>
                </a:lnTo>
                <a:lnTo>
                  <a:pt x="1968" y="1148"/>
                </a:lnTo>
                <a:lnTo>
                  <a:pt x="2338" y="1127"/>
                </a:lnTo>
                <a:lnTo>
                  <a:pt x="2590" y="1080"/>
                </a:lnTo>
                <a:lnTo>
                  <a:pt x="2790" y="1080"/>
                </a:lnTo>
                <a:lnTo>
                  <a:pt x="2989" y="995"/>
                </a:lnTo>
                <a:lnTo>
                  <a:pt x="3188" y="663"/>
                </a:lnTo>
                <a:lnTo>
                  <a:pt x="3387" y="663"/>
                </a:lnTo>
                <a:lnTo>
                  <a:pt x="3586" y="332"/>
                </a:lnTo>
                <a:lnTo>
                  <a:pt x="3786" y="332"/>
                </a:lnTo>
                <a:lnTo>
                  <a:pt x="3985" y="0"/>
                </a:lnTo>
                <a:lnTo>
                  <a:pt x="4184" y="0"/>
                </a:lnTo>
                <a:lnTo>
                  <a:pt x="4184" y="2470"/>
                </a:lnTo>
                <a:lnTo>
                  <a:pt x="3985" y="2470"/>
                </a:lnTo>
                <a:lnTo>
                  <a:pt x="3786" y="2470"/>
                </a:lnTo>
                <a:lnTo>
                  <a:pt x="3586" y="2470"/>
                </a:lnTo>
                <a:lnTo>
                  <a:pt x="3387" y="2470"/>
                </a:lnTo>
                <a:lnTo>
                  <a:pt x="3188" y="2470"/>
                </a:lnTo>
                <a:lnTo>
                  <a:pt x="2989" y="2470"/>
                </a:lnTo>
                <a:lnTo>
                  <a:pt x="2790" y="2470"/>
                </a:lnTo>
                <a:lnTo>
                  <a:pt x="2590" y="2470"/>
                </a:lnTo>
                <a:lnTo>
                  <a:pt x="2391" y="2470"/>
                </a:lnTo>
                <a:lnTo>
                  <a:pt x="2192" y="2470"/>
                </a:lnTo>
                <a:lnTo>
                  <a:pt x="1993" y="2470"/>
                </a:lnTo>
                <a:lnTo>
                  <a:pt x="1794" y="2470"/>
                </a:lnTo>
                <a:lnTo>
                  <a:pt x="1595" y="2470"/>
                </a:lnTo>
                <a:lnTo>
                  <a:pt x="1395" y="2470"/>
                </a:lnTo>
                <a:lnTo>
                  <a:pt x="1196" y="2470"/>
                </a:lnTo>
                <a:lnTo>
                  <a:pt x="996" y="2470"/>
                </a:lnTo>
                <a:lnTo>
                  <a:pt x="797" y="2470"/>
                </a:lnTo>
                <a:lnTo>
                  <a:pt x="598" y="2470"/>
                </a:lnTo>
                <a:lnTo>
                  <a:pt x="398" y="2470"/>
                </a:lnTo>
                <a:lnTo>
                  <a:pt x="199" y="2470"/>
                </a:lnTo>
                <a:lnTo>
                  <a:pt x="0" y="2470"/>
                </a:lnTo>
              </a:path>
            </a:pathLst>
          </a:custGeom>
          <a:gradFill rotWithShape="0">
            <a:gsLst>
              <a:gs pos="0">
                <a:srgbClr val="ff0381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1116000" y="1628640"/>
            <a:ext cx="0" cy="40323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1076400" y="5662440"/>
            <a:ext cx="39600" cy="180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1076400" y="5103720"/>
            <a:ext cx="39600" cy="180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1076400" y="4543560"/>
            <a:ext cx="39600" cy="144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1076400" y="3983040"/>
            <a:ext cx="396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1076400" y="3422520"/>
            <a:ext cx="3960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1076400" y="2862360"/>
            <a:ext cx="396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1042920" y="2276640"/>
            <a:ext cx="396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1076400" y="1741320"/>
            <a:ext cx="39600" cy="180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1116000" y="5661000"/>
            <a:ext cx="6642000" cy="32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 flipV="1">
            <a:off x="1116000" y="5662080"/>
            <a:ext cx="1440" cy="3996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 flipV="1">
            <a:off x="1432080" y="5662080"/>
            <a:ext cx="1440" cy="399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 flipV="1">
            <a:off x="1747800" y="5662080"/>
            <a:ext cx="1800" cy="3996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 flipV="1">
            <a:off x="2065320" y="5662080"/>
            <a:ext cx="1440" cy="3996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 flipV="1">
            <a:off x="2381400" y="5662080"/>
            <a:ext cx="1440" cy="3996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 flipV="1">
            <a:off x="2697120" y="5662080"/>
            <a:ext cx="1800" cy="3996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 flipV="1">
            <a:off x="3014640" y="5662080"/>
            <a:ext cx="1440" cy="3996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 flipV="1">
            <a:off x="3330720" y="5662080"/>
            <a:ext cx="1440" cy="3996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 flipV="1">
            <a:off x="3648240" y="5662080"/>
            <a:ext cx="1440" cy="3996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 flipV="1">
            <a:off x="3963960" y="5662080"/>
            <a:ext cx="1440" cy="3996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280040" y="5662080"/>
            <a:ext cx="1440" cy="3996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4595760" y="5662080"/>
            <a:ext cx="1800" cy="3996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 flipV="1">
            <a:off x="4911840" y="5662080"/>
            <a:ext cx="1440" cy="3996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 flipV="1">
            <a:off x="5227560" y="5662080"/>
            <a:ext cx="1800" cy="3996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 flipV="1">
            <a:off x="5545080" y="5662080"/>
            <a:ext cx="1800" cy="3996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861160" y="5662080"/>
            <a:ext cx="1440" cy="3996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 flipV="1">
            <a:off x="6176880" y="5662080"/>
            <a:ext cx="1800" cy="3996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 flipV="1">
            <a:off x="6492960" y="5662080"/>
            <a:ext cx="1440" cy="3996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 flipV="1">
            <a:off x="6808680" y="5662080"/>
            <a:ext cx="1800" cy="3996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 flipV="1">
            <a:off x="7126200" y="5662080"/>
            <a:ext cx="1800" cy="3996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 flipV="1">
            <a:off x="7442280" y="5662080"/>
            <a:ext cx="1440" cy="3996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 flipV="1">
            <a:off x="7758000" y="5662080"/>
            <a:ext cx="1800" cy="3996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794880" y="55767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725040" y="445788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725040" y="333684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725040" y="221616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1080720" y="571644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2661840" y="571644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4209840" y="571644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5790960" y="571644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7372080" y="571644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2513880" y="5897520"/>
            <a:ext cx="38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zos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 perforados para explor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 rot="16200000">
            <a:off x="-255960" y="3211920"/>
            <a:ext cx="1374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as,  T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1135080" y="5005440"/>
            <a:ext cx="136440" cy="638280"/>
          </a:xfrm>
          <a:custGeom>
            <a:avLst/>
            <a:gdLst/>
            <a:ahLst/>
            <a:rect l="l" t="t" r="r" b="b"/>
            <a:pathLst>
              <a:path w="86" h="402">
                <a:moveTo>
                  <a:pt x="86" y="0"/>
                </a:moveTo>
                <a:lnTo>
                  <a:pt x="86" y="277"/>
                </a:lnTo>
                <a:lnTo>
                  <a:pt x="0" y="402"/>
                </a:lnTo>
              </a:path>
            </a:pathLst>
          </a:custGeom>
          <a:noFill/>
          <a:ln w="19080">
            <a:solidFill>
              <a:srgbClr val="ffcc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3332160" y="3144960"/>
            <a:ext cx="4680" cy="630000"/>
          </a:xfrm>
          <a:custGeom>
            <a:avLst/>
            <a:gdLst/>
            <a:ahLst/>
            <a:rect l="l" t="t" r="r" b="b"/>
            <a:pathLst>
              <a:path w="3" h="397">
                <a:moveTo>
                  <a:pt x="2" y="0"/>
                </a:moveTo>
                <a:lnTo>
                  <a:pt x="0" y="322"/>
                </a:lnTo>
                <a:lnTo>
                  <a:pt x="3" y="397"/>
                </a:lnTo>
              </a:path>
            </a:pathLst>
          </a:custGeom>
          <a:noFill/>
          <a:ln w="19080">
            <a:solidFill>
              <a:srgbClr val="ffcc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1139400" y="4759200"/>
            <a:ext cx="45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00"/>
                </a:solidFill>
                <a:latin typeface="Arial"/>
              </a:rPr>
              <a:t>198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3072960" y="2854440"/>
            <a:ext cx="45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00"/>
                </a:solidFill>
                <a:latin typeface="Arial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7736040" y="1096920"/>
            <a:ext cx="0" cy="630360"/>
          </a:xfrm>
          <a:prstGeom prst="line">
            <a:avLst/>
          </a:prstGeom>
          <a:ln w="19080">
            <a:solidFill>
              <a:srgbClr val="ffcc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7473600" y="762120"/>
            <a:ext cx="45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00"/>
                </a:solidFill>
                <a:latin typeface="Arial"/>
              </a:rPr>
              <a:t>20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738440" y="3814920"/>
            <a:ext cx="1582560" cy="1847520"/>
          </a:xfrm>
          <a:custGeom>
            <a:avLst/>
            <a:gdLst/>
            <a:ahLst/>
            <a:rect l="l" t="t" r="r" b="b"/>
            <a:pathLst>
              <a:path w="997" h="1164">
                <a:moveTo>
                  <a:pt x="0" y="1164"/>
                </a:moveTo>
                <a:lnTo>
                  <a:pt x="0" y="1164"/>
                </a:lnTo>
                <a:lnTo>
                  <a:pt x="200" y="883"/>
                </a:lnTo>
                <a:lnTo>
                  <a:pt x="399" y="417"/>
                </a:lnTo>
                <a:lnTo>
                  <a:pt x="598" y="409"/>
                </a:lnTo>
                <a:lnTo>
                  <a:pt x="798" y="190"/>
                </a:lnTo>
                <a:lnTo>
                  <a:pt x="997" y="0"/>
                </a:ln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738440" y="1735200"/>
            <a:ext cx="6016320" cy="3927240"/>
          </a:xfrm>
          <a:custGeom>
            <a:avLst/>
            <a:gdLst/>
            <a:ahLst/>
            <a:rect l="l" t="t" r="r" b="b"/>
            <a:pathLst>
              <a:path w="3790" h="2474">
                <a:moveTo>
                  <a:pt x="0" y="2474"/>
                </a:moveTo>
                <a:lnTo>
                  <a:pt x="0" y="2474"/>
                </a:lnTo>
                <a:lnTo>
                  <a:pt x="200" y="2193"/>
                </a:lnTo>
                <a:lnTo>
                  <a:pt x="399" y="1727"/>
                </a:lnTo>
                <a:lnTo>
                  <a:pt x="598" y="1719"/>
                </a:lnTo>
                <a:lnTo>
                  <a:pt x="798" y="1500"/>
                </a:lnTo>
                <a:lnTo>
                  <a:pt x="997" y="1310"/>
                </a:lnTo>
                <a:lnTo>
                  <a:pt x="1197" y="1225"/>
                </a:lnTo>
                <a:lnTo>
                  <a:pt x="1396" y="1225"/>
                </a:lnTo>
                <a:lnTo>
                  <a:pt x="1595" y="1140"/>
                </a:lnTo>
                <a:lnTo>
                  <a:pt x="1794" y="1140"/>
                </a:lnTo>
                <a:lnTo>
                  <a:pt x="1993" y="1140"/>
                </a:lnTo>
                <a:lnTo>
                  <a:pt x="2192" y="1084"/>
                </a:lnTo>
                <a:lnTo>
                  <a:pt x="2392" y="1084"/>
                </a:lnTo>
                <a:lnTo>
                  <a:pt x="2591" y="999"/>
                </a:lnTo>
                <a:lnTo>
                  <a:pt x="2790" y="667"/>
                </a:lnTo>
                <a:lnTo>
                  <a:pt x="2989" y="667"/>
                </a:lnTo>
                <a:lnTo>
                  <a:pt x="3188" y="336"/>
                </a:lnTo>
                <a:lnTo>
                  <a:pt x="3388" y="336"/>
                </a:lnTo>
                <a:lnTo>
                  <a:pt x="3587" y="4"/>
                </a:lnTo>
                <a:lnTo>
                  <a:pt x="3790" y="0"/>
                </a:lnTo>
              </a:path>
            </a:pathLst>
          </a:custGeom>
          <a:noFill/>
          <a:ln w="28440">
            <a:solidFill>
              <a:srgbClr val="ffff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228600" y="228600"/>
            <a:ext cx="9296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Posibles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descubrimientos adicionales con mercado de e</a:t>
            </a: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xport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5" name=""/>
          <p:cNvGrpSpPr/>
          <p:nvPr/>
        </p:nvGrpSpPr>
        <p:grpSpPr>
          <a:xfrm>
            <a:off x="2380680" y="4502880"/>
            <a:ext cx="1732680" cy="547560"/>
            <a:chOff x="2380680" y="4502880"/>
            <a:chExt cx="1732680" cy="547560"/>
          </a:xfrm>
        </p:grpSpPr>
        <p:sp>
          <p:nvSpPr>
            <p:cNvPr id="596" name=""/>
            <p:cNvSpPr/>
            <p:nvPr/>
          </p:nvSpPr>
          <p:spPr>
            <a:xfrm>
              <a:off x="3035160" y="4745160"/>
              <a:ext cx="10782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ffff"/>
                  </a:solidFill>
                  <a:latin typeface="Arial"/>
                </a:rPr>
                <a:t>Cashiri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 rot="1707600">
              <a:off x="2360520" y="4647960"/>
              <a:ext cx="628920" cy="74520"/>
            </a:xfrm>
            <a:prstGeom prst="leftArrow">
              <a:avLst>
                <a:gd name="adj1" fmla="val 100000"/>
                <a:gd name="adj2" fmla="val 843961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8" name=""/>
          <p:cNvGrpSpPr/>
          <p:nvPr/>
        </p:nvGrpSpPr>
        <p:grpSpPr>
          <a:xfrm>
            <a:off x="2883960" y="4121640"/>
            <a:ext cx="1715040" cy="507960"/>
            <a:chOff x="2883960" y="4121640"/>
            <a:chExt cx="1715040" cy="507960"/>
          </a:xfrm>
        </p:grpSpPr>
        <p:sp>
          <p:nvSpPr>
            <p:cNvPr id="599" name=""/>
            <p:cNvSpPr/>
            <p:nvPr/>
          </p:nvSpPr>
          <p:spPr>
            <a:xfrm rot="1707600">
              <a:off x="2863800" y="4266720"/>
              <a:ext cx="628920" cy="74520"/>
            </a:xfrm>
            <a:prstGeom prst="leftArrow">
              <a:avLst>
                <a:gd name="adj1" fmla="val 100000"/>
                <a:gd name="adj2" fmla="val 843961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3578760" y="4324320"/>
              <a:ext cx="10202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ffff"/>
                  </a:solidFill>
                  <a:latin typeface="Arial"/>
                </a:rPr>
                <a:t>Pagoren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1" name=""/>
          <p:cNvGrpSpPr/>
          <p:nvPr/>
        </p:nvGrpSpPr>
        <p:grpSpPr>
          <a:xfrm>
            <a:off x="3179520" y="3851640"/>
            <a:ext cx="1514880" cy="339840"/>
            <a:chOff x="3179520" y="3851640"/>
            <a:chExt cx="1514880" cy="339840"/>
          </a:xfrm>
        </p:grpSpPr>
        <p:sp>
          <p:nvSpPr>
            <p:cNvPr id="602" name=""/>
            <p:cNvSpPr/>
            <p:nvPr/>
          </p:nvSpPr>
          <p:spPr>
            <a:xfrm rot="1001400">
              <a:off x="3177720" y="3940200"/>
              <a:ext cx="628920" cy="81000"/>
            </a:xfrm>
            <a:prstGeom prst="leftArrow">
              <a:avLst>
                <a:gd name="adj1" fmla="val 100000"/>
                <a:gd name="adj2" fmla="val 776444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3844800" y="3886200"/>
              <a:ext cx="8496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2000" spc="-1" strike="noStrike">
                  <a:solidFill>
                    <a:srgbClr val="ffffff"/>
                  </a:solidFill>
                  <a:latin typeface="Arial"/>
                </a:rPr>
                <a:t>Lote 7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4" name=""/>
          <p:cNvGrpSpPr/>
          <p:nvPr/>
        </p:nvGrpSpPr>
        <p:grpSpPr>
          <a:xfrm>
            <a:off x="2045160" y="5268600"/>
            <a:ext cx="2718000" cy="338760"/>
            <a:chOff x="2045160" y="5268600"/>
            <a:chExt cx="2718000" cy="338760"/>
          </a:xfrm>
        </p:grpSpPr>
        <p:sp>
          <p:nvSpPr>
            <p:cNvPr id="605" name=""/>
            <p:cNvSpPr/>
            <p:nvPr/>
          </p:nvSpPr>
          <p:spPr>
            <a:xfrm rot="732000">
              <a:off x="2045880" y="5334120"/>
              <a:ext cx="628560" cy="74520"/>
            </a:xfrm>
            <a:prstGeom prst="leftArrow">
              <a:avLst>
                <a:gd name="adj1" fmla="val 100000"/>
                <a:gd name="adj2" fmla="val 843478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2813400" y="5302080"/>
              <a:ext cx="19497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ffff"/>
                  </a:solidFill>
                  <a:latin typeface="Arial"/>
                </a:rPr>
                <a:t>San Martin</a:t>
              </a:r>
              <a:r>
                <a:rPr b="0" i="1" lang="es-ES" sz="2000" spc="-1" strike="noStrike">
                  <a:solidFill>
                    <a:srgbClr val="ffffff"/>
                  </a:solidFill>
                  <a:latin typeface="Arial"/>
                </a:rPr>
                <a:t> (I y II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7" name=""/>
          <p:cNvSpPr/>
          <p:nvPr/>
        </p:nvSpPr>
        <p:spPr>
          <a:xfrm>
            <a:off x="4952880" y="3809880"/>
            <a:ext cx="3894120" cy="1401480"/>
          </a:xfrm>
          <a:prstGeom prst="rect">
            <a:avLst/>
          </a:prstGeom>
          <a:solidFill>
            <a:srgbClr val="ffffff"/>
          </a:solidFill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6 Pozos perfor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125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5 Descubrimien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25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83 % Exi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1476360" y="1555920"/>
            <a:ext cx="4753080" cy="1081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ff0000"/>
                </a:solidFill>
                <a:latin typeface="Arial"/>
              </a:rPr>
              <a:t>Perupetro ha negociado nuevos lotes en el área: 56, 57, 58, 76, 9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FBA358-B6EE-4DA8-9AB1-07FF04A3830D}" type="slidenum">
              <a:t>21</a:t>
            </a:fld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500"/>
                            </p:stCondLst>
                            <p:childTnLst>
                              <p:par>
                                <p:cTn id="42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3000"/>
                            </p:stCondLst>
                            <p:childTnLst>
                              <p:par>
                                <p:cTn id="4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4500"/>
                            </p:stCondLst>
                            <p:childTnLst>
                              <p:par>
                                <p:cTn id="51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6000"/>
                            </p:stCondLst>
                            <p:childTnLst>
                              <p:par>
                                <p:cTn id="56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Caso boliviano / Reserva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533520" y="6095880"/>
            <a:ext cx="25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Fuente: YPFB Abril 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1" name=""/>
          <p:cNvGraphicFramePr/>
          <p:nvPr/>
        </p:nvGraphicFramePr>
        <p:xfrm>
          <a:off x="838080" y="990720"/>
          <a:ext cx="7467840" cy="487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990720"/>
                    <a:ext cx="7467840" cy="487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3" name=""/>
          <p:cNvSpPr/>
          <p:nvPr/>
        </p:nvSpPr>
        <p:spPr>
          <a:xfrm>
            <a:off x="2286000" y="2984400"/>
            <a:ext cx="1676520" cy="1170360"/>
          </a:xfrm>
          <a:prstGeom prst="wedgeEllipseCallout">
            <a:avLst>
              <a:gd name="adj1" fmla="val -46310"/>
              <a:gd name="adj2" fmla="val 7456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99"/>
                </a:solidFill>
                <a:latin typeface="Arial"/>
              </a:rPr>
              <a:t>Firma del contrato con Brasi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3657600" y="1295280"/>
            <a:ext cx="4114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33cc"/>
                </a:solidFill>
                <a:latin typeface="Arial"/>
              </a:rPr>
              <a:t>Inversión comprometida  en Exploración hasta el 2003: 1,676 MMUS$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D7FA54-987C-4820-8C83-B995503EB9F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237960" y="237960"/>
            <a:ext cx="7647120" cy="5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Cronograma del Proyecto LNG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1447920" y="4387680"/>
            <a:ext cx="1069920" cy="82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2819520" y="4876920"/>
            <a:ext cx="32511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3429000" y="5492880"/>
            <a:ext cx="22860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685800" y="16002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20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700360" y="16002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20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708360" y="16002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20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4643280" y="16002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609480" y="2209680"/>
            <a:ext cx="1371600" cy="713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studio Técnico  Factibil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5580000" y="16002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200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1447920" y="4387680"/>
            <a:ext cx="1069920" cy="82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19520" y="4876920"/>
            <a:ext cx="32511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3429000" y="5492880"/>
            <a:ext cx="22860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609480" y="2209680"/>
            <a:ext cx="1009800" cy="3275280"/>
          </a:xfrm>
          <a:prstGeom prst="rect">
            <a:avLst/>
          </a:prstGeom>
          <a:solidFill>
            <a:srgbClr val="00cc99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1692360" y="16002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20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4495680" y="5562720"/>
            <a:ext cx="228600" cy="914400"/>
          </a:xfrm>
          <a:prstGeom prst="upArrow">
            <a:avLst>
              <a:gd name="adj1" fmla="val 50000"/>
              <a:gd name="adj2" fmla="val 100000"/>
            </a:avLst>
          </a:prstGeom>
          <a:solidFill>
            <a:srgbClr val="000000"/>
          </a:solidFill>
          <a:ln w="57240">
            <a:solidFill>
              <a:srgbClr val="ff3d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619280" y="2209680"/>
            <a:ext cx="1008000" cy="3275280"/>
          </a:xfrm>
          <a:prstGeom prst="rect">
            <a:avLst/>
          </a:prstGeom>
          <a:solidFill>
            <a:srgbClr val="00cc99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27280" y="2209680"/>
            <a:ext cx="1008000" cy="3275280"/>
          </a:xfrm>
          <a:prstGeom prst="rect">
            <a:avLst/>
          </a:prstGeom>
          <a:solidFill>
            <a:srgbClr val="00cc99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3635280" y="2209680"/>
            <a:ext cx="965160" cy="3275280"/>
          </a:xfrm>
          <a:prstGeom prst="rect">
            <a:avLst/>
          </a:prstGeom>
          <a:solidFill>
            <a:srgbClr val="00cc99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4605480" y="2209680"/>
            <a:ext cx="974520" cy="3275280"/>
          </a:xfrm>
          <a:prstGeom prst="rect">
            <a:avLst/>
          </a:prstGeom>
          <a:solidFill>
            <a:srgbClr val="00cc99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580000" y="2209680"/>
            <a:ext cx="984240" cy="3275280"/>
          </a:xfrm>
          <a:prstGeom prst="rect">
            <a:avLst/>
          </a:prstGeom>
          <a:solidFill>
            <a:srgbClr val="00cc99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6588000" y="2209680"/>
            <a:ext cx="992160" cy="3275280"/>
          </a:xfrm>
          <a:prstGeom prst="rect">
            <a:avLst/>
          </a:prstGeom>
          <a:solidFill>
            <a:srgbClr val="00cc99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6588000" y="16002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200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609480" y="2209680"/>
            <a:ext cx="1219320" cy="637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Estudio Técnico  Factibilid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609480" y="3065400"/>
            <a:ext cx="3962520" cy="669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IA, Permisos, Acuerdos Comerciales, Reserv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(Lote 56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609480" y="4013280"/>
            <a:ext cx="3962520" cy="559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Mercadeo, Financiación, Licitación E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7596360" y="2205000"/>
            <a:ext cx="992160" cy="3274920"/>
          </a:xfrm>
          <a:prstGeom prst="rect">
            <a:avLst/>
          </a:prstGeom>
          <a:solidFill>
            <a:srgbClr val="00cc99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4572000" y="4869000"/>
            <a:ext cx="3529080" cy="34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onstruc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7618320" y="160344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02E63D-C00D-4741-9EB8-AD659DE5579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">
            <a:hlinkClick r:id="rId1"/>
          </p:cNvPr>
          <p:cNvSpPr/>
          <p:nvPr/>
        </p:nvSpPr>
        <p:spPr>
          <a:xfrm>
            <a:off x="250920" y="476280"/>
            <a:ext cx="70801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ffff00"/>
                </a:solidFill>
                <a:latin typeface="Arial"/>
              </a:rPr>
              <a:t>Beneficios para el Perú al Exportar GN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393840" y="907920"/>
            <a:ext cx="864216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ffffff"/>
                </a:solidFill>
                <a:latin typeface="Arial"/>
              </a:rPr>
              <a:t>Fuente de trabajos (35,000 puestos directos e indirecto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ffffff"/>
                </a:solidFill>
                <a:latin typeface="Arial"/>
              </a:rPr>
              <a:t>Inversión de US$ 2,500 M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ffffff"/>
                </a:solidFill>
                <a:latin typeface="Arial"/>
              </a:rPr>
              <a:t>Nuevos ingresos fisc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ffffff"/>
                </a:solidFill>
                <a:latin typeface="Arial"/>
              </a:rPr>
              <a:t>Revierte déficit de la balanza comercial de hidrocarbu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ffffff"/>
                </a:solidFill>
                <a:latin typeface="Arial"/>
              </a:rPr>
              <a:t>Incentivo para mayores explora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17DE26-17CD-4D17-AA99-6E3FA8584851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">
            <a:hlinkClick r:id="rId1"/>
          </p:cNvPr>
          <p:cNvSpPr/>
          <p:nvPr/>
        </p:nvSpPr>
        <p:spPr>
          <a:xfrm>
            <a:off x="228600" y="228600"/>
            <a:ext cx="70801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ffff00"/>
                </a:solidFill>
                <a:latin typeface="Arial"/>
              </a:rPr>
              <a:t>Conclus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393840" y="907920"/>
            <a:ext cx="864216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Arial"/>
              </a:rPr>
              <a:t>Perú cuenta con las reservas necesarias para desarrollar un proyecto de exportac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Arial"/>
              </a:rPr>
              <a:t>Perú es la fuente más cercana de abastecimiento para Norteamérica y Chil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Arial"/>
              </a:rPr>
              <a:t>Es un proyecto prioritario para la economía y gobierno peruan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44630E-4DFF-4D38-A597-7AAB73363E77}" type="slidenum">
              <a:t>25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533520" y="1371600"/>
            <a:ext cx="8076960" cy="4572000"/>
          </a:xfrm>
          <a:prstGeom prst="rect">
            <a:avLst/>
          </a:prstGeom>
          <a:solidFill>
            <a:srgbClr val="006666"/>
          </a:solidFill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808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</a:rPr>
              <a:t>PROPIEDADES FÍSICA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55000"/>
              </a:lnSpc>
              <a:spcBef>
                <a:spcPts val="9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ct val="55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Más ligero que el ai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Incolor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Inolor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Sin sab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No tóxic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Comprim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Inflam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5816520" y="1676520"/>
            <a:ext cx="2692080" cy="4038120"/>
            <a:chOff x="5816520" y="1676520"/>
            <a:chExt cx="2692080" cy="4038120"/>
          </a:xfrm>
        </p:grpSpPr>
        <p:sp>
          <p:nvSpPr>
            <p:cNvPr id="63" name=""/>
            <p:cNvSpPr/>
            <p:nvPr/>
          </p:nvSpPr>
          <p:spPr>
            <a:xfrm>
              <a:off x="5816520" y="1676520"/>
              <a:ext cx="2692080" cy="40381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1"/>
            <a:stretch/>
          </p:blipFill>
          <p:spPr>
            <a:xfrm>
              <a:off x="5832000" y="1690920"/>
              <a:ext cx="2664360" cy="4012200"/>
            </a:xfrm>
            <a:prstGeom prst="rect">
              <a:avLst/>
            </a:prstGeom>
            <a:ln w="57240">
              <a:solidFill>
                <a:srgbClr val="ff9900"/>
              </a:solidFill>
              <a:miter/>
            </a:ln>
          </p:spPr>
        </p:pic>
      </p:grpSp>
      <p:sp>
        <p:nvSpPr>
          <p:cNvPr id="65" name=""/>
          <p:cNvSpPr/>
          <p:nvPr/>
        </p:nvSpPr>
        <p:spPr>
          <a:xfrm>
            <a:off x="537840" y="411120"/>
            <a:ext cx="57128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Propiedades del Gas Natu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9E388F-AD9B-4A14-AAA3-04C9B1E7D4D3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¿Qué es el LNG?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Es el mismo gas natural, pero en estado líquid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El gas natural reduce su volumen en 600 veces al convertirse en L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Para convertir el gas natural en líquido hay que enfríarlo a menos 160 °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299B6D-1A42-4CE2-8702-FF0C274D85D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627120" y="765000"/>
            <a:ext cx="7951680" cy="47372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391520" y="6095880"/>
            <a:ext cx="15238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97640" y="2536920"/>
            <a:ext cx="36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703600" y="2008080"/>
            <a:ext cx="36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7120" y="765000"/>
            <a:ext cx="7951680" cy="47372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391520" y="6095880"/>
            <a:ext cx="15238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765000"/>
            <a:ext cx="91440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400880" y="5457960"/>
            <a:ext cx="30240" cy="19080"/>
          </a:xfrm>
          <a:custGeom>
            <a:avLst/>
            <a:gdLst/>
            <a:ahLst/>
            <a:rect l="l" t="t" r="r" b="b"/>
            <a:pathLst>
              <a:path w="18" h="12">
                <a:moveTo>
                  <a:pt x="0" y="0"/>
                </a:moveTo>
                <a:cubicBezTo>
                  <a:pt x="6" y="4"/>
                  <a:pt x="18" y="12"/>
                  <a:pt x="18" y="12"/>
                </a:cubicBezTo>
                <a:cubicBezTo>
                  <a:pt x="18" y="12"/>
                  <a:pt x="6" y="4"/>
                  <a:pt x="0" y="0"/>
                </a:cubicBezTo>
                <a:close/>
              </a:path>
            </a:pathLst>
          </a:cu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-26640" bIns="-266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035600" y="5051520"/>
            <a:ext cx="124776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4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30280" y="1006560"/>
            <a:ext cx="6037200" cy="5065560"/>
          </a:xfrm>
          <a:prstGeom prst="rect">
            <a:avLst/>
          </a:prstGeom>
          <a:solidFill>
            <a:srgbClr val="ccecff"/>
          </a:solidFill>
          <a:ln w="381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590920" y="1036800"/>
            <a:ext cx="4456080" cy="5000400"/>
          </a:xfrm>
          <a:custGeom>
            <a:avLst/>
            <a:gdLst/>
            <a:ahLst/>
            <a:rect l="l" t="t" r="r" b="b"/>
            <a:pathLst>
              <a:path w="10259" h="16146">
                <a:moveTo>
                  <a:pt x="8516" y="16060"/>
                </a:moveTo>
                <a:lnTo>
                  <a:pt x="8483" y="16010"/>
                </a:lnTo>
                <a:lnTo>
                  <a:pt x="8403" y="15985"/>
                </a:lnTo>
                <a:lnTo>
                  <a:pt x="8360" y="15911"/>
                </a:lnTo>
                <a:lnTo>
                  <a:pt x="8304" y="15860"/>
                </a:lnTo>
                <a:lnTo>
                  <a:pt x="8259" y="15823"/>
                </a:lnTo>
                <a:lnTo>
                  <a:pt x="8180" y="15760"/>
                </a:lnTo>
                <a:lnTo>
                  <a:pt x="8146" y="15712"/>
                </a:lnTo>
                <a:lnTo>
                  <a:pt x="8090" y="15637"/>
                </a:lnTo>
                <a:lnTo>
                  <a:pt x="7990" y="15611"/>
                </a:lnTo>
                <a:lnTo>
                  <a:pt x="7920" y="15525"/>
                </a:lnTo>
                <a:lnTo>
                  <a:pt x="7854" y="15474"/>
                </a:lnTo>
                <a:lnTo>
                  <a:pt x="7786" y="15461"/>
                </a:lnTo>
                <a:lnTo>
                  <a:pt x="7777" y="15349"/>
                </a:lnTo>
                <a:lnTo>
                  <a:pt x="7768" y="15239"/>
                </a:lnTo>
                <a:lnTo>
                  <a:pt x="7700" y="15139"/>
                </a:lnTo>
                <a:lnTo>
                  <a:pt x="7655" y="15091"/>
                </a:lnTo>
                <a:lnTo>
                  <a:pt x="7589" y="15052"/>
                </a:lnTo>
                <a:lnTo>
                  <a:pt x="7452" y="14988"/>
                </a:lnTo>
                <a:lnTo>
                  <a:pt x="7351" y="14889"/>
                </a:lnTo>
                <a:lnTo>
                  <a:pt x="7260" y="14875"/>
                </a:lnTo>
                <a:lnTo>
                  <a:pt x="7171" y="14813"/>
                </a:lnTo>
                <a:lnTo>
                  <a:pt x="7059" y="14664"/>
                </a:lnTo>
                <a:lnTo>
                  <a:pt x="7014" y="14591"/>
                </a:lnTo>
                <a:lnTo>
                  <a:pt x="6946" y="14563"/>
                </a:lnTo>
                <a:lnTo>
                  <a:pt x="6844" y="14550"/>
                </a:lnTo>
                <a:lnTo>
                  <a:pt x="6741" y="14536"/>
                </a:lnTo>
                <a:lnTo>
                  <a:pt x="6652" y="14461"/>
                </a:lnTo>
                <a:lnTo>
                  <a:pt x="6596" y="14386"/>
                </a:lnTo>
                <a:lnTo>
                  <a:pt x="6527" y="14384"/>
                </a:lnTo>
                <a:lnTo>
                  <a:pt x="6426" y="14321"/>
                </a:lnTo>
                <a:lnTo>
                  <a:pt x="6359" y="14296"/>
                </a:lnTo>
                <a:lnTo>
                  <a:pt x="6190" y="14170"/>
                </a:lnTo>
                <a:lnTo>
                  <a:pt x="6064" y="14157"/>
                </a:lnTo>
                <a:lnTo>
                  <a:pt x="5997" y="14107"/>
                </a:lnTo>
                <a:lnTo>
                  <a:pt x="5829" y="13970"/>
                </a:lnTo>
                <a:lnTo>
                  <a:pt x="5728" y="13895"/>
                </a:lnTo>
                <a:lnTo>
                  <a:pt x="5615" y="13806"/>
                </a:lnTo>
                <a:lnTo>
                  <a:pt x="5523" y="13804"/>
                </a:lnTo>
                <a:lnTo>
                  <a:pt x="5468" y="13754"/>
                </a:lnTo>
                <a:lnTo>
                  <a:pt x="5344" y="13643"/>
                </a:lnTo>
                <a:lnTo>
                  <a:pt x="5276" y="13604"/>
                </a:lnTo>
                <a:lnTo>
                  <a:pt x="5162" y="13553"/>
                </a:lnTo>
                <a:lnTo>
                  <a:pt x="5062" y="13490"/>
                </a:lnTo>
                <a:lnTo>
                  <a:pt x="4938" y="13402"/>
                </a:lnTo>
                <a:lnTo>
                  <a:pt x="4871" y="13291"/>
                </a:lnTo>
                <a:lnTo>
                  <a:pt x="4827" y="13205"/>
                </a:lnTo>
                <a:lnTo>
                  <a:pt x="4783" y="13180"/>
                </a:lnTo>
                <a:lnTo>
                  <a:pt x="4693" y="13056"/>
                </a:lnTo>
                <a:lnTo>
                  <a:pt x="4626" y="12957"/>
                </a:lnTo>
                <a:lnTo>
                  <a:pt x="4558" y="12918"/>
                </a:lnTo>
                <a:lnTo>
                  <a:pt x="4480" y="12867"/>
                </a:lnTo>
                <a:lnTo>
                  <a:pt x="4335" y="12730"/>
                </a:lnTo>
                <a:lnTo>
                  <a:pt x="4280" y="12584"/>
                </a:lnTo>
                <a:lnTo>
                  <a:pt x="4212" y="12533"/>
                </a:lnTo>
                <a:lnTo>
                  <a:pt x="4178" y="12496"/>
                </a:lnTo>
                <a:lnTo>
                  <a:pt x="4201" y="12461"/>
                </a:lnTo>
                <a:lnTo>
                  <a:pt x="4144" y="12435"/>
                </a:lnTo>
                <a:lnTo>
                  <a:pt x="4145" y="12398"/>
                </a:lnTo>
                <a:lnTo>
                  <a:pt x="4101" y="12372"/>
                </a:lnTo>
                <a:lnTo>
                  <a:pt x="4057" y="12322"/>
                </a:lnTo>
                <a:lnTo>
                  <a:pt x="4069" y="12250"/>
                </a:lnTo>
                <a:lnTo>
                  <a:pt x="4059" y="12177"/>
                </a:lnTo>
                <a:lnTo>
                  <a:pt x="4013" y="12139"/>
                </a:lnTo>
                <a:lnTo>
                  <a:pt x="3957" y="12114"/>
                </a:lnTo>
                <a:lnTo>
                  <a:pt x="3946" y="12039"/>
                </a:lnTo>
                <a:lnTo>
                  <a:pt x="3981" y="12003"/>
                </a:lnTo>
                <a:lnTo>
                  <a:pt x="4015" y="12003"/>
                </a:lnTo>
                <a:lnTo>
                  <a:pt x="4038" y="12029"/>
                </a:lnTo>
                <a:lnTo>
                  <a:pt x="4059" y="12066"/>
                </a:lnTo>
                <a:lnTo>
                  <a:pt x="4082" y="12054"/>
                </a:lnTo>
                <a:lnTo>
                  <a:pt x="4098" y="11835"/>
                </a:lnTo>
                <a:lnTo>
                  <a:pt x="4100" y="11689"/>
                </a:lnTo>
                <a:lnTo>
                  <a:pt x="4057" y="11588"/>
                </a:lnTo>
                <a:lnTo>
                  <a:pt x="3966" y="11489"/>
                </a:lnTo>
                <a:lnTo>
                  <a:pt x="3900" y="11378"/>
                </a:lnTo>
                <a:lnTo>
                  <a:pt x="3879" y="11305"/>
                </a:lnTo>
                <a:lnTo>
                  <a:pt x="3858" y="11219"/>
                </a:lnTo>
                <a:lnTo>
                  <a:pt x="3768" y="11095"/>
                </a:lnTo>
                <a:lnTo>
                  <a:pt x="3714" y="10972"/>
                </a:lnTo>
                <a:lnTo>
                  <a:pt x="3658" y="10923"/>
                </a:lnTo>
                <a:lnTo>
                  <a:pt x="3659" y="10848"/>
                </a:lnTo>
                <a:lnTo>
                  <a:pt x="3625" y="10786"/>
                </a:lnTo>
                <a:lnTo>
                  <a:pt x="3558" y="10700"/>
                </a:lnTo>
                <a:lnTo>
                  <a:pt x="3480" y="10638"/>
                </a:lnTo>
                <a:lnTo>
                  <a:pt x="3446" y="10575"/>
                </a:lnTo>
                <a:lnTo>
                  <a:pt x="3413" y="10552"/>
                </a:lnTo>
                <a:lnTo>
                  <a:pt x="3378" y="10538"/>
                </a:lnTo>
                <a:lnTo>
                  <a:pt x="3369" y="10464"/>
                </a:lnTo>
                <a:lnTo>
                  <a:pt x="3359" y="10330"/>
                </a:lnTo>
                <a:lnTo>
                  <a:pt x="3316" y="10208"/>
                </a:lnTo>
                <a:lnTo>
                  <a:pt x="3228" y="10072"/>
                </a:lnTo>
                <a:lnTo>
                  <a:pt x="3148" y="9959"/>
                </a:lnTo>
                <a:lnTo>
                  <a:pt x="3070" y="9885"/>
                </a:lnTo>
                <a:lnTo>
                  <a:pt x="2958" y="9810"/>
                </a:lnTo>
                <a:lnTo>
                  <a:pt x="2984" y="9700"/>
                </a:lnTo>
                <a:lnTo>
                  <a:pt x="2984" y="9628"/>
                </a:lnTo>
                <a:lnTo>
                  <a:pt x="2894" y="9515"/>
                </a:lnTo>
                <a:lnTo>
                  <a:pt x="2808" y="9306"/>
                </a:lnTo>
                <a:lnTo>
                  <a:pt x="2707" y="9156"/>
                </a:lnTo>
                <a:lnTo>
                  <a:pt x="2608" y="8959"/>
                </a:lnTo>
                <a:lnTo>
                  <a:pt x="2553" y="8776"/>
                </a:lnTo>
                <a:lnTo>
                  <a:pt x="2489" y="8518"/>
                </a:lnTo>
                <a:lnTo>
                  <a:pt x="2366" y="8356"/>
                </a:lnTo>
                <a:lnTo>
                  <a:pt x="2379" y="8283"/>
                </a:lnTo>
                <a:lnTo>
                  <a:pt x="2358" y="8197"/>
                </a:lnTo>
                <a:lnTo>
                  <a:pt x="2302" y="8123"/>
                </a:lnTo>
                <a:lnTo>
                  <a:pt x="2293" y="8061"/>
                </a:lnTo>
                <a:lnTo>
                  <a:pt x="2236" y="8012"/>
                </a:lnTo>
                <a:lnTo>
                  <a:pt x="2214" y="7914"/>
                </a:lnTo>
                <a:lnTo>
                  <a:pt x="2116" y="7716"/>
                </a:lnTo>
                <a:lnTo>
                  <a:pt x="2105" y="7667"/>
                </a:lnTo>
                <a:lnTo>
                  <a:pt x="2107" y="7569"/>
                </a:lnTo>
                <a:lnTo>
                  <a:pt x="2052" y="7458"/>
                </a:lnTo>
                <a:lnTo>
                  <a:pt x="1908" y="7200"/>
                </a:lnTo>
                <a:lnTo>
                  <a:pt x="1751" y="7050"/>
                </a:lnTo>
                <a:lnTo>
                  <a:pt x="1650" y="6950"/>
                </a:lnTo>
                <a:lnTo>
                  <a:pt x="1538" y="6801"/>
                </a:lnTo>
                <a:lnTo>
                  <a:pt x="1462" y="6640"/>
                </a:lnTo>
                <a:lnTo>
                  <a:pt x="1341" y="6333"/>
                </a:lnTo>
                <a:lnTo>
                  <a:pt x="1220" y="6063"/>
                </a:lnTo>
                <a:lnTo>
                  <a:pt x="1074" y="5900"/>
                </a:lnTo>
                <a:lnTo>
                  <a:pt x="849" y="5725"/>
                </a:lnTo>
                <a:lnTo>
                  <a:pt x="714" y="5710"/>
                </a:lnTo>
                <a:lnTo>
                  <a:pt x="578" y="5597"/>
                </a:lnTo>
                <a:lnTo>
                  <a:pt x="409" y="5521"/>
                </a:lnTo>
                <a:lnTo>
                  <a:pt x="330" y="5459"/>
                </a:lnTo>
                <a:lnTo>
                  <a:pt x="217" y="5433"/>
                </a:lnTo>
                <a:lnTo>
                  <a:pt x="126" y="5357"/>
                </a:lnTo>
                <a:lnTo>
                  <a:pt x="128" y="5260"/>
                </a:lnTo>
                <a:lnTo>
                  <a:pt x="187" y="5162"/>
                </a:lnTo>
                <a:lnTo>
                  <a:pt x="244" y="5176"/>
                </a:lnTo>
                <a:lnTo>
                  <a:pt x="311" y="5177"/>
                </a:lnTo>
                <a:lnTo>
                  <a:pt x="358" y="5130"/>
                </a:lnTo>
                <a:lnTo>
                  <a:pt x="394" y="5056"/>
                </a:lnTo>
                <a:lnTo>
                  <a:pt x="397" y="4837"/>
                </a:lnTo>
                <a:lnTo>
                  <a:pt x="303" y="4695"/>
                </a:lnTo>
                <a:lnTo>
                  <a:pt x="227" y="4648"/>
                </a:lnTo>
                <a:lnTo>
                  <a:pt x="163" y="4625"/>
                </a:lnTo>
                <a:lnTo>
                  <a:pt x="125" y="4561"/>
                </a:lnTo>
                <a:lnTo>
                  <a:pt x="146" y="4515"/>
                </a:lnTo>
                <a:lnTo>
                  <a:pt x="163" y="4434"/>
                </a:lnTo>
                <a:lnTo>
                  <a:pt x="174" y="4370"/>
                </a:lnTo>
                <a:lnTo>
                  <a:pt x="146" y="4307"/>
                </a:lnTo>
                <a:lnTo>
                  <a:pt x="104" y="4272"/>
                </a:lnTo>
                <a:lnTo>
                  <a:pt x="49" y="4197"/>
                </a:lnTo>
                <a:lnTo>
                  <a:pt x="17" y="4116"/>
                </a:lnTo>
                <a:lnTo>
                  <a:pt x="0" y="4046"/>
                </a:lnTo>
                <a:lnTo>
                  <a:pt x="0" y="3994"/>
                </a:lnTo>
                <a:lnTo>
                  <a:pt x="12" y="3949"/>
                </a:lnTo>
                <a:lnTo>
                  <a:pt x="17" y="3897"/>
                </a:lnTo>
                <a:lnTo>
                  <a:pt x="33" y="3844"/>
                </a:lnTo>
                <a:lnTo>
                  <a:pt x="60" y="3792"/>
                </a:lnTo>
                <a:lnTo>
                  <a:pt x="82" y="3752"/>
                </a:lnTo>
                <a:lnTo>
                  <a:pt x="109" y="3717"/>
                </a:lnTo>
                <a:lnTo>
                  <a:pt x="135" y="3677"/>
                </a:lnTo>
                <a:lnTo>
                  <a:pt x="163" y="3653"/>
                </a:lnTo>
                <a:lnTo>
                  <a:pt x="189" y="3625"/>
                </a:lnTo>
                <a:lnTo>
                  <a:pt x="211" y="3602"/>
                </a:lnTo>
                <a:lnTo>
                  <a:pt x="265" y="3537"/>
                </a:lnTo>
                <a:lnTo>
                  <a:pt x="313" y="3520"/>
                </a:lnTo>
                <a:lnTo>
                  <a:pt x="352" y="3451"/>
                </a:lnTo>
                <a:lnTo>
                  <a:pt x="367" y="3377"/>
                </a:lnTo>
                <a:lnTo>
                  <a:pt x="426" y="3324"/>
                </a:lnTo>
                <a:lnTo>
                  <a:pt x="508" y="3294"/>
                </a:lnTo>
                <a:lnTo>
                  <a:pt x="567" y="3219"/>
                </a:lnTo>
                <a:lnTo>
                  <a:pt x="610" y="3191"/>
                </a:lnTo>
                <a:lnTo>
                  <a:pt x="647" y="3138"/>
                </a:lnTo>
                <a:lnTo>
                  <a:pt x="702" y="3127"/>
                </a:lnTo>
                <a:lnTo>
                  <a:pt x="756" y="3098"/>
                </a:lnTo>
                <a:lnTo>
                  <a:pt x="799" y="3080"/>
                </a:lnTo>
                <a:lnTo>
                  <a:pt x="870" y="3086"/>
                </a:lnTo>
                <a:lnTo>
                  <a:pt x="903" y="3111"/>
                </a:lnTo>
                <a:lnTo>
                  <a:pt x="915" y="3100"/>
                </a:lnTo>
                <a:lnTo>
                  <a:pt x="1254" y="3203"/>
                </a:lnTo>
                <a:lnTo>
                  <a:pt x="4229" y="1097"/>
                </a:lnTo>
                <a:lnTo>
                  <a:pt x="4384" y="0"/>
                </a:lnTo>
                <a:lnTo>
                  <a:pt x="9689" y="1492"/>
                </a:lnTo>
                <a:lnTo>
                  <a:pt x="9607" y="9312"/>
                </a:lnTo>
                <a:lnTo>
                  <a:pt x="10259" y="11181"/>
                </a:lnTo>
                <a:lnTo>
                  <a:pt x="9973" y="14892"/>
                </a:lnTo>
                <a:lnTo>
                  <a:pt x="8995" y="16146"/>
                </a:lnTo>
                <a:lnTo>
                  <a:pt x="8995" y="16146"/>
                </a:lnTo>
                <a:lnTo>
                  <a:pt x="8516" y="1606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805120" y="1006560"/>
            <a:ext cx="4392720" cy="5075280"/>
          </a:xfrm>
          <a:custGeom>
            <a:avLst/>
            <a:gdLst/>
            <a:ahLst/>
            <a:rect l="l" t="t" r="r" b="b"/>
            <a:pathLst>
              <a:path w="10114" h="16388">
                <a:moveTo>
                  <a:pt x="760" y="0"/>
                </a:moveTo>
                <a:lnTo>
                  <a:pt x="739" y="130"/>
                </a:lnTo>
                <a:lnTo>
                  <a:pt x="692" y="251"/>
                </a:lnTo>
                <a:lnTo>
                  <a:pt x="644" y="360"/>
                </a:lnTo>
                <a:lnTo>
                  <a:pt x="564" y="408"/>
                </a:lnTo>
                <a:lnTo>
                  <a:pt x="495" y="491"/>
                </a:lnTo>
                <a:lnTo>
                  <a:pt x="436" y="589"/>
                </a:lnTo>
                <a:lnTo>
                  <a:pt x="423" y="626"/>
                </a:lnTo>
                <a:lnTo>
                  <a:pt x="435" y="687"/>
                </a:lnTo>
                <a:lnTo>
                  <a:pt x="479" y="700"/>
                </a:lnTo>
                <a:lnTo>
                  <a:pt x="478" y="761"/>
                </a:lnTo>
                <a:lnTo>
                  <a:pt x="501" y="773"/>
                </a:lnTo>
                <a:lnTo>
                  <a:pt x="558" y="798"/>
                </a:lnTo>
                <a:lnTo>
                  <a:pt x="591" y="848"/>
                </a:lnTo>
                <a:lnTo>
                  <a:pt x="579" y="873"/>
                </a:lnTo>
                <a:lnTo>
                  <a:pt x="512" y="870"/>
                </a:lnTo>
                <a:lnTo>
                  <a:pt x="455" y="846"/>
                </a:lnTo>
                <a:lnTo>
                  <a:pt x="419" y="883"/>
                </a:lnTo>
                <a:lnTo>
                  <a:pt x="407" y="966"/>
                </a:lnTo>
                <a:lnTo>
                  <a:pt x="360" y="1053"/>
                </a:lnTo>
                <a:lnTo>
                  <a:pt x="326" y="1099"/>
                </a:lnTo>
                <a:lnTo>
                  <a:pt x="234" y="1097"/>
                </a:lnTo>
                <a:lnTo>
                  <a:pt x="165" y="1096"/>
                </a:lnTo>
                <a:lnTo>
                  <a:pt x="96" y="1145"/>
                </a:lnTo>
                <a:lnTo>
                  <a:pt x="83" y="1217"/>
                </a:lnTo>
                <a:lnTo>
                  <a:pt x="106" y="1278"/>
                </a:lnTo>
                <a:lnTo>
                  <a:pt x="150" y="1317"/>
                </a:lnTo>
                <a:lnTo>
                  <a:pt x="196" y="1390"/>
                </a:lnTo>
                <a:lnTo>
                  <a:pt x="182" y="1488"/>
                </a:lnTo>
                <a:lnTo>
                  <a:pt x="146" y="1573"/>
                </a:lnTo>
                <a:lnTo>
                  <a:pt x="113" y="1634"/>
                </a:lnTo>
                <a:lnTo>
                  <a:pt x="145" y="1671"/>
                </a:lnTo>
                <a:lnTo>
                  <a:pt x="132" y="1768"/>
                </a:lnTo>
                <a:lnTo>
                  <a:pt x="188" y="1829"/>
                </a:lnTo>
                <a:lnTo>
                  <a:pt x="232" y="1917"/>
                </a:lnTo>
                <a:lnTo>
                  <a:pt x="209" y="1978"/>
                </a:lnTo>
                <a:lnTo>
                  <a:pt x="185" y="2026"/>
                </a:lnTo>
                <a:lnTo>
                  <a:pt x="230" y="2075"/>
                </a:lnTo>
                <a:lnTo>
                  <a:pt x="241" y="2112"/>
                </a:lnTo>
                <a:lnTo>
                  <a:pt x="206" y="2124"/>
                </a:lnTo>
                <a:lnTo>
                  <a:pt x="172" y="2136"/>
                </a:lnTo>
                <a:lnTo>
                  <a:pt x="159" y="2196"/>
                </a:lnTo>
                <a:lnTo>
                  <a:pt x="125" y="2196"/>
                </a:lnTo>
                <a:lnTo>
                  <a:pt x="57" y="2182"/>
                </a:lnTo>
                <a:lnTo>
                  <a:pt x="11" y="2157"/>
                </a:lnTo>
                <a:lnTo>
                  <a:pt x="0" y="2206"/>
                </a:lnTo>
                <a:lnTo>
                  <a:pt x="56" y="2292"/>
                </a:lnTo>
                <a:lnTo>
                  <a:pt x="113" y="2331"/>
                </a:lnTo>
                <a:lnTo>
                  <a:pt x="213" y="2357"/>
                </a:lnTo>
                <a:lnTo>
                  <a:pt x="293" y="2382"/>
                </a:lnTo>
                <a:lnTo>
                  <a:pt x="349" y="2469"/>
                </a:lnTo>
                <a:lnTo>
                  <a:pt x="371" y="2530"/>
                </a:lnTo>
                <a:lnTo>
                  <a:pt x="427" y="2580"/>
                </a:lnTo>
                <a:lnTo>
                  <a:pt x="516" y="2583"/>
                </a:lnTo>
                <a:lnTo>
                  <a:pt x="573" y="2607"/>
                </a:lnTo>
                <a:lnTo>
                  <a:pt x="607" y="2657"/>
                </a:lnTo>
                <a:lnTo>
                  <a:pt x="629" y="2681"/>
                </a:lnTo>
                <a:lnTo>
                  <a:pt x="642" y="2657"/>
                </a:lnTo>
                <a:lnTo>
                  <a:pt x="619" y="2585"/>
                </a:lnTo>
                <a:lnTo>
                  <a:pt x="632" y="2536"/>
                </a:lnTo>
                <a:lnTo>
                  <a:pt x="633" y="2449"/>
                </a:lnTo>
                <a:lnTo>
                  <a:pt x="691" y="2389"/>
                </a:lnTo>
                <a:lnTo>
                  <a:pt x="783" y="2343"/>
                </a:lnTo>
                <a:lnTo>
                  <a:pt x="806" y="2307"/>
                </a:lnTo>
                <a:lnTo>
                  <a:pt x="818" y="2246"/>
                </a:lnTo>
                <a:lnTo>
                  <a:pt x="854" y="2222"/>
                </a:lnTo>
                <a:lnTo>
                  <a:pt x="899" y="2210"/>
                </a:lnTo>
                <a:lnTo>
                  <a:pt x="911" y="2174"/>
                </a:lnTo>
                <a:lnTo>
                  <a:pt x="934" y="2137"/>
                </a:lnTo>
                <a:lnTo>
                  <a:pt x="969" y="2198"/>
                </a:lnTo>
                <a:lnTo>
                  <a:pt x="955" y="2309"/>
                </a:lnTo>
                <a:lnTo>
                  <a:pt x="977" y="2359"/>
                </a:lnTo>
                <a:lnTo>
                  <a:pt x="976" y="2383"/>
                </a:lnTo>
                <a:lnTo>
                  <a:pt x="975" y="2444"/>
                </a:lnTo>
                <a:lnTo>
                  <a:pt x="1010" y="2482"/>
                </a:lnTo>
                <a:lnTo>
                  <a:pt x="1042" y="2482"/>
                </a:lnTo>
                <a:lnTo>
                  <a:pt x="1031" y="2505"/>
                </a:lnTo>
                <a:lnTo>
                  <a:pt x="1063" y="2544"/>
                </a:lnTo>
                <a:lnTo>
                  <a:pt x="1041" y="2579"/>
                </a:lnTo>
                <a:lnTo>
                  <a:pt x="995" y="2639"/>
                </a:lnTo>
                <a:lnTo>
                  <a:pt x="959" y="2737"/>
                </a:lnTo>
                <a:lnTo>
                  <a:pt x="934" y="2847"/>
                </a:lnTo>
                <a:lnTo>
                  <a:pt x="911" y="2930"/>
                </a:lnTo>
                <a:lnTo>
                  <a:pt x="910" y="2992"/>
                </a:lnTo>
                <a:lnTo>
                  <a:pt x="875" y="3029"/>
                </a:lnTo>
                <a:lnTo>
                  <a:pt x="840" y="3051"/>
                </a:lnTo>
                <a:lnTo>
                  <a:pt x="817" y="3089"/>
                </a:lnTo>
                <a:lnTo>
                  <a:pt x="817" y="3162"/>
                </a:lnTo>
                <a:lnTo>
                  <a:pt x="815" y="3247"/>
                </a:lnTo>
                <a:lnTo>
                  <a:pt x="735" y="3245"/>
                </a:lnTo>
                <a:lnTo>
                  <a:pt x="677" y="3245"/>
                </a:lnTo>
                <a:lnTo>
                  <a:pt x="654" y="3281"/>
                </a:lnTo>
                <a:lnTo>
                  <a:pt x="641" y="3391"/>
                </a:lnTo>
                <a:lnTo>
                  <a:pt x="653" y="3427"/>
                </a:lnTo>
                <a:lnTo>
                  <a:pt x="640" y="3477"/>
                </a:lnTo>
                <a:lnTo>
                  <a:pt x="662" y="3527"/>
                </a:lnTo>
                <a:lnTo>
                  <a:pt x="696" y="3575"/>
                </a:lnTo>
                <a:lnTo>
                  <a:pt x="694" y="3660"/>
                </a:lnTo>
                <a:lnTo>
                  <a:pt x="658" y="3697"/>
                </a:lnTo>
                <a:lnTo>
                  <a:pt x="612" y="3731"/>
                </a:lnTo>
                <a:lnTo>
                  <a:pt x="533" y="3730"/>
                </a:lnTo>
                <a:lnTo>
                  <a:pt x="487" y="3705"/>
                </a:lnTo>
                <a:lnTo>
                  <a:pt x="443" y="3705"/>
                </a:lnTo>
                <a:lnTo>
                  <a:pt x="408" y="3691"/>
                </a:lnTo>
                <a:lnTo>
                  <a:pt x="360" y="3752"/>
                </a:lnTo>
                <a:lnTo>
                  <a:pt x="407" y="3753"/>
                </a:lnTo>
                <a:lnTo>
                  <a:pt x="429" y="3778"/>
                </a:lnTo>
                <a:lnTo>
                  <a:pt x="417" y="3851"/>
                </a:lnTo>
                <a:lnTo>
                  <a:pt x="441" y="3864"/>
                </a:lnTo>
                <a:lnTo>
                  <a:pt x="473" y="3889"/>
                </a:lnTo>
                <a:lnTo>
                  <a:pt x="484" y="3950"/>
                </a:lnTo>
                <a:lnTo>
                  <a:pt x="459" y="4034"/>
                </a:lnTo>
                <a:lnTo>
                  <a:pt x="458" y="4095"/>
                </a:lnTo>
                <a:lnTo>
                  <a:pt x="480" y="4109"/>
                </a:lnTo>
                <a:lnTo>
                  <a:pt x="526" y="4134"/>
                </a:lnTo>
                <a:lnTo>
                  <a:pt x="572" y="4098"/>
                </a:lnTo>
                <a:lnTo>
                  <a:pt x="654" y="4027"/>
                </a:lnTo>
                <a:lnTo>
                  <a:pt x="711" y="4004"/>
                </a:lnTo>
                <a:lnTo>
                  <a:pt x="768" y="4017"/>
                </a:lnTo>
                <a:lnTo>
                  <a:pt x="790" y="4054"/>
                </a:lnTo>
                <a:lnTo>
                  <a:pt x="869" y="4079"/>
                </a:lnTo>
                <a:lnTo>
                  <a:pt x="925" y="4141"/>
                </a:lnTo>
                <a:lnTo>
                  <a:pt x="1016" y="4166"/>
                </a:lnTo>
                <a:lnTo>
                  <a:pt x="1096" y="4108"/>
                </a:lnTo>
                <a:lnTo>
                  <a:pt x="1131" y="4121"/>
                </a:lnTo>
                <a:lnTo>
                  <a:pt x="1187" y="4170"/>
                </a:lnTo>
                <a:lnTo>
                  <a:pt x="1253" y="4232"/>
                </a:lnTo>
                <a:lnTo>
                  <a:pt x="1253" y="4281"/>
                </a:lnTo>
                <a:lnTo>
                  <a:pt x="1287" y="4320"/>
                </a:lnTo>
                <a:lnTo>
                  <a:pt x="1319" y="4393"/>
                </a:lnTo>
                <a:lnTo>
                  <a:pt x="1319" y="4429"/>
                </a:lnTo>
                <a:lnTo>
                  <a:pt x="1353" y="4493"/>
                </a:lnTo>
                <a:lnTo>
                  <a:pt x="1465" y="4591"/>
                </a:lnTo>
                <a:lnTo>
                  <a:pt x="1554" y="4593"/>
                </a:lnTo>
                <a:lnTo>
                  <a:pt x="1647" y="4583"/>
                </a:lnTo>
                <a:lnTo>
                  <a:pt x="1647" y="4509"/>
                </a:lnTo>
                <a:lnTo>
                  <a:pt x="1694" y="4437"/>
                </a:lnTo>
                <a:lnTo>
                  <a:pt x="1695" y="4363"/>
                </a:lnTo>
                <a:lnTo>
                  <a:pt x="1905" y="4171"/>
                </a:lnTo>
                <a:lnTo>
                  <a:pt x="1895" y="4025"/>
                </a:lnTo>
                <a:lnTo>
                  <a:pt x="1952" y="3928"/>
                </a:lnTo>
                <a:lnTo>
                  <a:pt x="1956" y="3757"/>
                </a:lnTo>
                <a:lnTo>
                  <a:pt x="2036" y="3711"/>
                </a:lnTo>
                <a:lnTo>
                  <a:pt x="2073" y="3540"/>
                </a:lnTo>
                <a:lnTo>
                  <a:pt x="2142" y="3480"/>
                </a:lnTo>
                <a:lnTo>
                  <a:pt x="2131" y="3454"/>
                </a:lnTo>
                <a:lnTo>
                  <a:pt x="2087" y="3418"/>
                </a:lnTo>
                <a:lnTo>
                  <a:pt x="2090" y="3308"/>
                </a:lnTo>
                <a:lnTo>
                  <a:pt x="2113" y="3224"/>
                </a:lnTo>
                <a:lnTo>
                  <a:pt x="2170" y="3211"/>
                </a:lnTo>
                <a:lnTo>
                  <a:pt x="2215" y="3237"/>
                </a:lnTo>
                <a:lnTo>
                  <a:pt x="2236" y="3311"/>
                </a:lnTo>
                <a:lnTo>
                  <a:pt x="2282" y="3323"/>
                </a:lnTo>
                <a:lnTo>
                  <a:pt x="2284" y="3189"/>
                </a:lnTo>
                <a:lnTo>
                  <a:pt x="2343" y="3068"/>
                </a:lnTo>
                <a:lnTo>
                  <a:pt x="2482" y="2937"/>
                </a:lnTo>
                <a:lnTo>
                  <a:pt x="2562" y="2888"/>
                </a:lnTo>
                <a:lnTo>
                  <a:pt x="2688" y="2831"/>
                </a:lnTo>
                <a:lnTo>
                  <a:pt x="2963" y="2737"/>
                </a:lnTo>
                <a:lnTo>
                  <a:pt x="3238" y="2620"/>
                </a:lnTo>
                <a:lnTo>
                  <a:pt x="3410" y="2575"/>
                </a:lnTo>
                <a:lnTo>
                  <a:pt x="3560" y="2480"/>
                </a:lnTo>
                <a:lnTo>
                  <a:pt x="3687" y="2361"/>
                </a:lnTo>
                <a:lnTo>
                  <a:pt x="3801" y="2288"/>
                </a:lnTo>
                <a:lnTo>
                  <a:pt x="3940" y="2194"/>
                </a:lnTo>
                <a:lnTo>
                  <a:pt x="3998" y="2134"/>
                </a:lnTo>
                <a:lnTo>
                  <a:pt x="4116" y="1964"/>
                </a:lnTo>
                <a:lnTo>
                  <a:pt x="4244" y="1772"/>
                </a:lnTo>
                <a:lnTo>
                  <a:pt x="4372" y="1616"/>
                </a:lnTo>
                <a:lnTo>
                  <a:pt x="4418" y="1543"/>
                </a:lnTo>
                <a:lnTo>
                  <a:pt x="4385" y="1408"/>
                </a:lnTo>
                <a:lnTo>
                  <a:pt x="4446" y="1226"/>
                </a:lnTo>
                <a:lnTo>
                  <a:pt x="4515" y="1154"/>
                </a:lnTo>
                <a:lnTo>
                  <a:pt x="4583" y="1155"/>
                </a:lnTo>
                <a:lnTo>
                  <a:pt x="4630" y="1156"/>
                </a:lnTo>
                <a:lnTo>
                  <a:pt x="4607" y="1106"/>
                </a:lnTo>
                <a:lnTo>
                  <a:pt x="4598" y="948"/>
                </a:lnTo>
                <a:lnTo>
                  <a:pt x="4600" y="826"/>
                </a:lnTo>
                <a:lnTo>
                  <a:pt x="4580" y="751"/>
                </a:lnTo>
                <a:lnTo>
                  <a:pt x="4545" y="727"/>
                </a:lnTo>
                <a:lnTo>
                  <a:pt x="4477" y="701"/>
                </a:lnTo>
                <a:lnTo>
                  <a:pt x="4466" y="652"/>
                </a:lnTo>
                <a:lnTo>
                  <a:pt x="4467" y="604"/>
                </a:lnTo>
                <a:lnTo>
                  <a:pt x="4433" y="530"/>
                </a:lnTo>
                <a:lnTo>
                  <a:pt x="4366" y="503"/>
                </a:lnTo>
                <a:lnTo>
                  <a:pt x="4323" y="441"/>
                </a:lnTo>
                <a:lnTo>
                  <a:pt x="4356" y="418"/>
                </a:lnTo>
                <a:lnTo>
                  <a:pt x="4402" y="443"/>
                </a:lnTo>
                <a:lnTo>
                  <a:pt x="4447" y="456"/>
                </a:lnTo>
                <a:lnTo>
                  <a:pt x="4526" y="458"/>
                </a:lnTo>
                <a:lnTo>
                  <a:pt x="4583" y="445"/>
                </a:lnTo>
                <a:lnTo>
                  <a:pt x="4618" y="434"/>
                </a:lnTo>
                <a:lnTo>
                  <a:pt x="4618" y="398"/>
                </a:lnTo>
                <a:lnTo>
                  <a:pt x="4653" y="362"/>
                </a:lnTo>
                <a:lnTo>
                  <a:pt x="4711" y="375"/>
                </a:lnTo>
                <a:lnTo>
                  <a:pt x="4767" y="438"/>
                </a:lnTo>
                <a:lnTo>
                  <a:pt x="4822" y="499"/>
                </a:lnTo>
                <a:lnTo>
                  <a:pt x="4889" y="526"/>
                </a:lnTo>
                <a:lnTo>
                  <a:pt x="4936" y="490"/>
                </a:lnTo>
                <a:lnTo>
                  <a:pt x="4948" y="490"/>
                </a:lnTo>
                <a:lnTo>
                  <a:pt x="4993" y="528"/>
                </a:lnTo>
                <a:lnTo>
                  <a:pt x="4993" y="576"/>
                </a:lnTo>
                <a:lnTo>
                  <a:pt x="5094" y="602"/>
                </a:lnTo>
                <a:lnTo>
                  <a:pt x="5172" y="715"/>
                </a:lnTo>
                <a:lnTo>
                  <a:pt x="5262" y="764"/>
                </a:lnTo>
                <a:lnTo>
                  <a:pt x="5295" y="887"/>
                </a:lnTo>
                <a:lnTo>
                  <a:pt x="5327" y="985"/>
                </a:lnTo>
                <a:lnTo>
                  <a:pt x="5349" y="1023"/>
                </a:lnTo>
                <a:lnTo>
                  <a:pt x="5326" y="1046"/>
                </a:lnTo>
                <a:lnTo>
                  <a:pt x="5325" y="1096"/>
                </a:lnTo>
                <a:lnTo>
                  <a:pt x="5369" y="1170"/>
                </a:lnTo>
                <a:lnTo>
                  <a:pt x="5449" y="1171"/>
                </a:lnTo>
                <a:lnTo>
                  <a:pt x="5494" y="1183"/>
                </a:lnTo>
                <a:lnTo>
                  <a:pt x="5597" y="1211"/>
                </a:lnTo>
                <a:lnTo>
                  <a:pt x="5629" y="1260"/>
                </a:lnTo>
                <a:lnTo>
                  <a:pt x="5674" y="1334"/>
                </a:lnTo>
                <a:lnTo>
                  <a:pt x="5707" y="1384"/>
                </a:lnTo>
                <a:lnTo>
                  <a:pt x="5764" y="1384"/>
                </a:lnTo>
                <a:lnTo>
                  <a:pt x="5788" y="1348"/>
                </a:lnTo>
                <a:lnTo>
                  <a:pt x="5799" y="1337"/>
                </a:lnTo>
                <a:lnTo>
                  <a:pt x="5821" y="1373"/>
                </a:lnTo>
                <a:lnTo>
                  <a:pt x="5867" y="1385"/>
                </a:lnTo>
                <a:lnTo>
                  <a:pt x="5902" y="1374"/>
                </a:lnTo>
                <a:lnTo>
                  <a:pt x="5923" y="1473"/>
                </a:lnTo>
                <a:lnTo>
                  <a:pt x="5967" y="1548"/>
                </a:lnTo>
                <a:lnTo>
                  <a:pt x="6011" y="1585"/>
                </a:lnTo>
                <a:lnTo>
                  <a:pt x="6011" y="1634"/>
                </a:lnTo>
                <a:lnTo>
                  <a:pt x="5976" y="1659"/>
                </a:lnTo>
                <a:lnTo>
                  <a:pt x="5975" y="1707"/>
                </a:lnTo>
                <a:lnTo>
                  <a:pt x="5985" y="1781"/>
                </a:lnTo>
                <a:lnTo>
                  <a:pt x="6031" y="1817"/>
                </a:lnTo>
                <a:lnTo>
                  <a:pt x="6110" y="1844"/>
                </a:lnTo>
                <a:lnTo>
                  <a:pt x="6155" y="1868"/>
                </a:lnTo>
                <a:lnTo>
                  <a:pt x="6177" y="1833"/>
                </a:lnTo>
                <a:lnTo>
                  <a:pt x="6247" y="1847"/>
                </a:lnTo>
                <a:lnTo>
                  <a:pt x="6290" y="1872"/>
                </a:lnTo>
                <a:lnTo>
                  <a:pt x="6267" y="1957"/>
                </a:lnTo>
                <a:lnTo>
                  <a:pt x="6267" y="2030"/>
                </a:lnTo>
                <a:lnTo>
                  <a:pt x="6288" y="2066"/>
                </a:lnTo>
                <a:lnTo>
                  <a:pt x="6311" y="2104"/>
                </a:lnTo>
                <a:lnTo>
                  <a:pt x="6276" y="2140"/>
                </a:lnTo>
                <a:lnTo>
                  <a:pt x="6243" y="2164"/>
                </a:lnTo>
                <a:lnTo>
                  <a:pt x="6241" y="2225"/>
                </a:lnTo>
                <a:lnTo>
                  <a:pt x="6274" y="2248"/>
                </a:lnTo>
                <a:lnTo>
                  <a:pt x="6285" y="2299"/>
                </a:lnTo>
                <a:lnTo>
                  <a:pt x="6365" y="2299"/>
                </a:lnTo>
                <a:lnTo>
                  <a:pt x="6376" y="2288"/>
                </a:lnTo>
                <a:lnTo>
                  <a:pt x="6421" y="2326"/>
                </a:lnTo>
                <a:lnTo>
                  <a:pt x="6396" y="2387"/>
                </a:lnTo>
                <a:lnTo>
                  <a:pt x="6420" y="2424"/>
                </a:lnTo>
                <a:lnTo>
                  <a:pt x="6465" y="2412"/>
                </a:lnTo>
                <a:lnTo>
                  <a:pt x="6511" y="2363"/>
                </a:lnTo>
                <a:lnTo>
                  <a:pt x="6568" y="2389"/>
                </a:lnTo>
                <a:lnTo>
                  <a:pt x="6636" y="2415"/>
                </a:lnTo>
                <a:lnTo>
                  <a:pt x="6648" y="2367"/>
                </a:lnTo>
                <a:lnTo>
                  <a:pt x="6660" y="2317"/>
                </a:lnTo>
                <a:lnTo>
                  <a:pt x="6740" y="2381"/>
                </a:lnTo>
                <a:lnTo>
                  <a:pt x="6817" y="2407"/>
                </a:lnTo>
                <a:lnTo>
                  <a:pt x="6909" y="2433"/>
                </a:lnTo>
                <a:lnTo>
                  <a:pt x="6955" y="2409"/>
                </a:lnTo>
                <a:lnTo>
                  <a:pt x="6990" y="2398"/>
                </a:lnTo>
                <a:lnTo>
                  <a:pt x="7047" y="2412"/>
                </a:lnTo>
                <a:lnTo>
                  <a:pt x="7069" y="2374"/>
                </a:lnTo>
                <a:lnTo>
                  <a:pt x="7082" y="2324"/>
                </a:lnTo>
                <a:lnTo>
                  <a:pt x="7127" y="2326"/>
                </a:lnTo>
                <a:lnTo>
                  <a:pt x="7184" y="2303"/>
                </a:lnTo>
                <a:lnTo>
                  <a:pt x="7220" y="2255"/>
                </a:lnTo>
                <a:lnTo>
                  <a:pt x="7334" y="2196"/>
                </a:lnTo>
                <a:lnTo>
                  <a:pt x="7391" y="2186"/>
                </a:lnTo>
                <a:lnTo>
                  <a:pt x="7448" y="2198"/>
                </a:lnTo>
                <a:lnTo>
                  <a:pt x="7551" y="2225"/>
                </a:lnTo>
                <a:lnTo>
                  <a:pt x="7629" y="2262"/>
                </a:lnTo>
                <a:lnTo>
                  <a:pt x="7640" y="2312"/>
                </a:lnTo>
                <a:lnTo>
                  <a:pt x="7661" y="2362"/>
                </a:lnTo>
                <a:lnTo>
                  <a:pt x="7683" y="2374"/>
                </a:lnTo>
                <a:lnTo>
                  <a:pt x="7730" y="2337"/>
                </a:lnTo>
                <a:lnTo>
                  <a:pt x="7798" y="2352"/>
                </a:lnTo>
                <a:lnTo>
                  <a:pt x="7855" y="2328"/>
                </a:lnTo>
                <a:lnTo>
                  <a:pt x="7880" y="2292"/>
                </a:lnTo>
                <a:lnTo>
                  <a:pt x="7925" y="2232"/>
                </a:lnTo>
                <a:lnTo>
                  <a:pt x="7971" y="2246"/>
                </a:lnTo>
                <a:lnTo>
                  <a:pt x="7983" y="2196"/>
                </a:lnTo>
                <a:lnTo>
                  <a:pt x="8120" y="2223"/>
                </a:lnTo>
                <a:lnTo>
                  <a:pt x="8174" y="2286"/>
                </a:lnTo>
                <a:lnTo>
                  <a:pt x="8231" y="2347"/>
                </a:lnTo>
                <a:lnTo>
                  <a:pt x="8243" y="2397"/>
                </a:lnTo>
                <a:lnTo>
                  <a:pt x="8253" y="2434"/>
                </a:lnTo>
                <a:lnTo>
                  <a:pt x="8310" y="2435"/>
                </a:lnTo>
                <a:lnTo>
                  <a:pt x="8334" y="2374"/>
                </a:lnTo>
                <a:lnTo>
                  <a:pt x="8379" y="2399"/>
                </a:lnTo>
                <a:lnTo>
                  <a:pt x="8412" y="2424"/>
                </a:lnTo>
                <a:lnTo>
                  <a:pt x="8481" y="2425"/>
                </a:lnTo>
                <a:lnTo>
                  <a:pt x="8502" y="2449"/>
                </a:lnTo>
                <a:lnTo>
                  <a:pt x="8491" y="2487"/>
                </a:lnTo>
                <a:lnTo>
                  <a:pt x="8536" y="2513"/>
                </a:lnTo>
                <a:lnTo>
                  <a:pt x="8592" y="2575"/>
                </a:lnTo>
                <a:lnTo>
                  <a:pt x="8626" y="2612"/>
                </a:lnTo>
                <a:lnTo>
                  <a:pt x="8672" y="2575"/>
                </a:lnTo>
                <a:lnTo>
                  <a:pt x="8717" y="2612"/>
                </a:lnTo>
                <a:lnTo>
                  <a:pt x="8705" y="2650"/>
                </a:lnTo>
                <a:lnTo>
                  <a:pt x="8236" y="3495"/>
                </a:lnTo>
                <a:lnTo>
                  <a:pt x="8235" y="3545"/>
                </a:lnTo>
                <a:lnTo>
                  <a:pt x="8279" y="3595"/>
                </a:lnTo>
                <a:lnTo>
                  <a:pt x="8359" y="3609"/>
                </a:lnTo>
                <a:lnTo>
                  <a:pt x="8440" y="3586"/>
                </a:lnTo>
                <a:lnTo>
                  <a:pt x="8463" y="3549"/>
                </a:lnTo>
                <a:lnTo>
                  <a:pt x="8530" y="3563"/>
                </a:lnTo>
                <a:lnTo>
                  <a:pt x="8576" y="3575"/>
                </a:lnTo>
                <a:lnTo>
                  <a:pt x="8598" y="3650"/>
                </a:lnTo>
                <a:lnTo>
                  <a:pt x="8776" y="3884"/>
                </a:lnTo>
                <a:lnTo>
                  <a:pt x="8763" y="3958"/>
                </a:lnTo>
                <a:lnTo>
                  <a:pt x="8728" y="3982"/>
                </a:lnTo>
                <a:lnTo>
                  <a:pt x="8694" y="3969"/>
                </a:lnTo>
                <a:lnTo>
                  <a:pt x="8650" y="3931"/>
                </a:lnTo>
                <a:lnTo>
                  <a:pt x="8627" y="3943"/>
                </a:lnTo>
                <a:lnTo>
                  <a:pt x="8614" y="4004"/>
                </a:lnTo>
                <a:lnTo>
                  <a:pt x="8569" y="4003"/>
                </a:lnTo>
                <a:lnTo>
                  <a:pt x="8558" y="3941"/>
                </a:lnTo>
                <a:lnTo>
                  <a:pt x="8536" y="3893"/>
                </a:lnTo>
                <a:lnTo>
                  <a:pt x="8502" y="3854"/>
                </a:lnTo>
                <a:lnTo>
                  <a:pt x="8434" y="3878"/>
                </a:lnTo>
                <a:lnTo>
                  <a:pt x="8365" y="3903"/>
                </a:lnTo>
                <a:lnTo>
                  <a:pt x="8353" y="3914"/>
                </a:lnTo>
                <a:lnTo>
                  <a:pt x="8298" y="3901"/>
                </a:lnTo>
                <a:lnTo>
                  <a:pt x="8230" y="3874"/>
                </a:lnTo>
                <a:lnTo>
                  <a:pt x="8161" y="3898"/>
                </a:lnTo>
                <a:lnTo>
                  <a:pt x="8115" y="3947"/>
                </a:lnTo>
                <a:lnTo>
                  <a:pt x="8092" y="4007"/>
                </a:lnTo>
                <a:lnTo>
                  <a:pt x="8033" y="4042"/>
                </a:lnTo>
                <a:lnTo>
                  <a:pt x="7940" y="4066"/>
                </a:lnTo>
                <a:lnTo>
                  <a:pt x="7838" y="4100"/>
                </a:lnTo>
                <a:lnTo>
                  <a:pt x="7736" y="4123"/>
                </a:lnTo>
                <a:lnTo>
                  <a:pt x="7668" y="4121"/>
                </a:lnTo>
                <a:lnTo>
                  <a:pt x="7633" y="4156"/>
                </a:lnTo>
                <a:lnTo>
                  <a:pt x="7531" y="4143"/>
                </a:lnTo>
                <a:lnTo>
                  <a:pt x="7484" y="4179"/>
                </a:lnTo>
                <a:lnTo>
                  <a:pt x="7360" y="4140"/>
                </a:lnTo>
                <a:lnTo>
                  <a:pt x="7255" y="4236"/>
                </a:lnTo>
                <a:lnTo>
                  <a:pt x="7154" y="4221"/>
                </a:lnTo>
                <a:lnTo>
                  <a:pt x="7106" y="4268"/>
                </a:lnTo>
                <a:lnTo>
                  <a:pt x="7061" y="4317"/>
                </a:lnTo>
                <a:lnTo>
                  <a:pt x="7004" y="4353"/>
                </a:lnTo>
                <a:lnTo>
                  <a:pt x="6935" y="4352"/>
                </a:lnTo>
                <a:lnTo>
                  <a:pt x="6911" y="4388"/>
                </a:lnTo>
                <a:lnTo>
                  <a:pt x="6899" y="4461"/>
                </a:lnTo>
                <a:lnTo>
                  <a:pt x="6876" y="4485"/>
                </a:lnTo>
                <a:lnTo>
                  <a:pt x="6807" y="4508"/>
                </a:lnTo>
                <a:lnTo>
                  <a:pt x="6750" y="4532"/>
                </a:lnTo>
                <a:lnTo>
                  <a:pt x="6724" y="4605"/>
                </a:lnTo>
                <a:lnTo>
                  <a:pt x="6667" y="4653"/>
                </a:lnTo>
                <a:lnTo>
                  <a:pt x="6610" y="4664"/>
                </a:lnTo>
                <a:lnTo>
                  <a:pt x="6520" y="4697"/>
                </a:lnTo>
                <a:lnTo>
                  <a:pt x="6495" y="4722"/>
                </a:lnTo>
                <a:lnTo>
                  <a:pt x="6450" y="4770"/>
                </a:lnTo>
                <a:lnTo>
                  <a:pt x="6449" y="4831"/>
                </a:lnTo>
                <a:lnTo>
                  <a:pt x="6423" y="4941"/>
                </a:lnTo>
                <a:lnTo>
                  <a:pt x="6388" y="5050"/>
                </a:lnTo>
                <a:lnTo>
                  <a:pt x="6421" y="5099"/>
                </a:lnTo>
                <a:lnTo>
                  <a:pt x="6432" y="5149"/>
                </a:lnTo>
                <a:lnTo>
                  <a:pt x="6374" y="5196"/>
                </a:lnTo>
                <a:lnTo>
                  <a:pt x="6247" y="5328"/>
                </a:lnTo>
                <a:lnTo>
                  <a:pt x="6211" y="5377"/>
                </a:lnTo>
                <a:lnTo>
                  <a:pt x="6210" y="5474"/>
                </a:lnTo>
                <a:lnTo>
                  <a:pt x="6174" y="5547"/>
                </a:lnTo>
                <a:lnTo>
                  <a:pt x="6209" y="5608"/>
                </a:lnTo>
                <a:lnTo>
                  <a:pt x="6275" y="5684"/>
                </a:lnTo>
                <a:lnTo>
                  <a:pt x="6286" y="5746"/>
                </a:lnTo>
                <a:lnTo>
                  <a:pt x="6330" y="5807"/>
                </a:lnTo>
                <a:lnTo>
                  <a:pt x="6340" y="5856"/>
                </a:lnTo>
                <a:lnTo>
                  <a:pt x="6293" y="5928"/>
                </a:lnTo>
                <a:lnTo>
                  <a:pt x="6237" y="5963"/>
                </a:lnTo>
                <a:lnTo>
                  <a:pt x="6146" y="5937"/>
                </a:lnTo>
                <a:lnTo>
                  <a:pt x="6066" y="5984"/>
                </a:lnTo>
                <a:lnTo>
                  <a:pt x="5940" y="5996"/>
                </a:lnTo>
                <a:lnTo>
                  <a:pt x="5847" y="6090"/>
                </a:lnTo>
                <a:lnTo>
                  <a:pt x="5754" y="6224"/>
                </a:lnTo>
                <a:lnTo>
                  <a:pt x="5718" y="6382"/>
                </a:lnTo>
                <a:lnTo>
                  <a:pt x="5784" y="6481"/>
                </a:lnTo>
                <a:lnTo>
                  <a:pt x="5806" y="6543"/>
                </a:lnTo>
                <a:lnTo>
                  <a:pt x="5760" y="6578"/>
                </a:lnTo>
                <a:lnTo>
                  <a:pt x="5646" y="6600"/>
                </a:lnTo>
                <a:lnTo>
                  <a:pt x="5589" y="6610"/>
                </a:lnTo>
                <a:lnTo>
                  <a:pt x="5576" y="6710"/>
                </a:lnTo>
                <a:lnTo>
                  <a:pt x="5596" y="6807"/>
                </a:lnTo>
                <a:lnTo>
                  <a:pt x="5686" y="6870"/>
                </a:lnTo>
                <a:lnTo>
                  <a:pt x="5764" y="6932"/>
                </a:lnTo>
                <a:lnTo>
                  <a:pt x="5799" y="6971"/>
                </a:lnTo>
                <a:lnTo>
                  <a:pt x="5776" y="7006"/>
                </a:lnTo>
                <a:lnTo>
                  <a:pt x="5729" y="7018"/>
                </a:lnTo>
                <a:lnTo>
                  <a:pt x="5728" y="7067"/>
                </a:lnTo>
                <a:lnTo>
                  <a:pt x="5830" y="7178"/>
                </a:lnTo>
                <a:lnTo>
                  <a:pt x="5863" y="7228"/>
                </a:lnTo>
                <a:lnTo>
                  <a:pt x="5883" y="7326"/>
                </a:lnTo>
                <a:lnTo>
                  <a:pt x="5940" y="7388"/>
                </a:lnTo>
                <a:lnTo>
                  <a:pt x="5939" y="7450"/>
                </a:lnTo>
                <a:lnTo>
                  <a:pt x="6051" y="7574"/>
                </a:lnTo>
                <a:lnTo>
                  <a:pt x="6083" y="7648"/>
                </a:lnTo>
                <a:lnTo>
                  <a:pt x="6139" y="7734"/>
                </a:lnTo>
                <a:lnTo>
                  <a:pt x="6208" y="7784"/>
                </a:lnTo>
                <a:lnTo>
                  <a:pt x="6285" y="7907"/>
                </a:lnTo>
                <a:lnTo>
                  <a:pt x="6373" y="7982"/>
                </a:lnTo>
                <a:lnTo>
                  <a:pt x="6385" y="8057"/>
                </a:lnTo>
                <a:lnTo>
                  <a:pt x="6350" y="8129"/>
                </a:lnTo>
                <a:lnTo>
                  <a:pt x="6268" y="8189"/>
                </a:lnTo>
                <a:lnTo>
                  <a:pt x="6210" y="8261"/>
                </a:lnTo>
                <a:lnTo>
                  <a:pt x="6186" y="8310"/>
                </a:lnTo>
                <a:lnTo>
                  <a:pt x="6197" y="8345"/>
                </a:lnTo>
                <a:lnTo>
                  <a:pt x="6607" y="8366"/>
                </a:lnTo>
                <a:lnTo>
                  <a:pt x="6699" y="8391"/>
                </a:lnTo>
                <a:lnTo>
                  <a:pt x="6755" y="8416"/>
                </a:lnTo>
                <a:lnTo>
                  <a:pt x="6902" y="8420"/>
                </a:lnTo>
                <a:lnTo>
                  <a:pt x="6901" y="8468"/>
                </a:lnTo>
                <a:lnTo>
                  <a:pt x="6935" y="8507"/>
                </a:lnTo>
                <a:lnTo>
                  <a:pt x="6911" y="8567"/>
                </a:lnTo>
                <a:lnTo>
                  <a:pt x="6911" y="8592"/>
                </a:lnTo>
                <a:lnTo>
                  <a:pt x="6990" y="8692"/>
                </a:lnTo>
                <a:lnTo>
                  <a:pt x="6987" y="8849"/>
                </a:lnTo>
                <a:lnTo>
                  <a:pt x="7727" y="8864"/>
                </a:lnTo>
                <a:lnTo>
                  <a:pt x="7774" y="8791"/>
                </a:lnTo>
                <a:lnTo>
                  <a:pt x="7819" y="8730"/>
                </a:lnTo>
                <a:lnTo>
                  <a:pt x="7923" y="8696"/>
                </a:lnTo>
                <a:lnTo>
                  <a:pt x="7946" y="8672"/>
                </a:lnTo>
                <a:lnTo>
                  <a:pt x="7971" y="8587"/>
                </a:lnTo>
                <a:lnTo>
                  <a:pt x="8258" y="8372"/>
                </a:lnTo>
                <a:lnTo>
                  <a:pt x="8349" y="8374"/>
                </a:lnTo>
                <a:lnTo>
                  <a:pt x="8302" y="8433"/>
                </a:lnTo>
                <a:lnTo>
                  <a:pt x="8279" y="8543"/>
                </a:lnTo>
                <a:lnTo>
                  <a:pt x="8324" y="8605"/>
                </a:lnTo>
                <a:lnTo>
                  <a:pt x="8323" y="8643"/>
                </a:lnTo>
                <a:lnTo>
                  <a:pt x="8299" y="8679"/>
                </a:lnTo>
                <a:lnTo>
                  <a:pt x="8231" y="8678"/>
                </a:lnTo>
                <a:lnTo>
                  <a:pt x="8214" y="9715"/>
                </a:lnTo>
                <a:lnTo>
                  <a:pt x="8259" y="9704"/>
                </a:lnTo>
                <a:lnTo>
                  <a:pt x="8305" y="9718"/>
                </a:lnTo>
                <a:lnTo>
                  <a:pt x="8349" y="9791"/>
                </a:lnTo>
                <a:lnTo>
                  <a:pt x="8394" y="9829"/>
                </a:lnTo>
                <a:lnTo>
                  <a:pt x="8508" y="9844"/>
                </a:lnTo>
                <a:lnTo>
                  <a:pt x="8634" y="9784"/>
                </a:lnTo>
                <a:lnTo>
                  <a:pt x="8714" y="9700"/>
                </a:lnTo>
                <a:lnTo>
                  <a:pt x="8771" y="9690"/>
                </a:lnTo>
                <a:lnTo>
                  <a:pt x="8853" y="9728"/>
                </a:lnTo>
                <a:lnTo>
                  <a:pt x="8920" y="9740"/>
                </a:lnTo>
                <a:lnTo>
                  <a:pt x="9023" y="9694"/>
                </a:lnTo>
                <a:lnTo>
                  <a:pt x="9661" y="10990"/>
                </a:lnTo>
                <a:lnTo>
                  <a:pt x="9672" y="11062"/>
                </a:lnTo>
                <a:lnTo>
                  <a:pt x="9649" y="11111"/>
                </a:lnTo>
                <a:lnTo>
                  <a:pt x="9592" y="11134"/>
                </a:lnTo>
                <a:lnTo>
                  <a:pt x="9579" y="11184"/>
                </a:lnTo>
                <a:lnTo>
                  <a:pt x="9578" y="11280"/>
                </a:lnTo>
                <a:lnTo>
                  <a:pt x="9554" y="11329"/>
                </a:lnTo>
                <a:lnTo>
                  <a:pt x="9496" y="11376"/>
                </a:lnTo>
                <a:lnTo>
                  <a:pt x="9450" y="11436"/>
                </a:lnTo>
                <a:lnTo>
                  <a:pt x="9437" y="11522"/>
                </a:lnTo>
                <a:lnTo>
                  <a:pt x="9448" y="11548"/>
                </a:lnTo>
                <a:lnTo>
                  <a:pt x="9469" y="11671"/>
                </a:lnTo>
                <a:lnTo>
                  <a:pt x="9465" y="11889"/>
                </a:lnTo>
                <a:lnTo>
                  <a:pt x="9442" y="11976"/>
                </a:lnTo>
                <a:lnTo>
                  <a:pt x="9383" y="12060"/>
                </a:lnTo>
                <a:lnTo>
                  <a:pt x="9360" y="12096"/>
                </a:lnTo>
                <a:lnTo>
                  <a:pt x="9426" y="12158"/>
                </a:lnTo>
                <a:lnTo>
                  <a:pt x="9472" y="12208"/>
                </a:lnTo>
                <a:lnTo>
                  <a:pt x="9471" y="12255"/>
                </a:lnTo>
                <a:lnTo>
                  <a:pt x="9425" y="12268"/>
                </a:lnTo>
                <a:lnTo>
                  <a:pt x="9368" y="12267"/>
                </a:lnTo>
                <a:lnTo>
                  <a:pt x="9367" y="12351"/>
                </a:lnTo>
                <a:lnTo>
                  <a:pt x="9457" y="12403"/>
                </a:lnTo>
                <a:lnTo>
                  <a:pt x="9490" y="12465"/>
                </a:lnTo>
                <a:lnTo>
                  <a:pt x="9501" y="12526"/>
                </a:lnTo>
                <a:lnTo>
                  <a:pt x="9488" y="12587"/>
                </a:lnTo>
                <a:lnTo>
                  <a:pt x="9364" y="12585"/>
                </a:lnTo>
                <a:lnTo>
                  <a:pt x="9361" y="12730"/>
                </a:lnTo>
                <a:lnTo>
                  <a:pt x="9303" y="12767"/>
                </a:lnTo>
                <a:lnTo>
                  <a:pt x="9268" y="12828"/>
                </a:lnTo>
                <a:lnTo>
                  <a:pt x="9233" y="12900"/>
                </a:lnTo>
                <a:lnTo>
                  <a:pt x="9165" y="12935"/>
                </a:lnTo>
                <a:lnTo>
                  <a:pt x="9152" y="12959"/>
                </a:lnTo>
                <a:lnTo>
                  <a:pt x="9117" y="13043"/>
                </a:lnTo>
                <a:lnTo>
                  <a:pt x="9081" y="13117"/>
                </a:lnTo>
                <a:lnTo>
                  <a:pt x="9103" y="13166"/>
                </a:lnTo>
                <a:lnTo>
                  <a:pt x="9103" y="13216"/>
                </a:lnTo>
                <a:lnTo>
                  <a:pt x="9121" y="13363"/>
                </a:lnTo>
                <a:lnTo>
                  <a:pt x="9213" y="13413"/>
                </a:lnTo>
                <a:lnTo>
                  <a:pt x="9246" y="13461"/>
                </a:lnTo>
                <a:lnTo>
                  <a:pt x="9212" y="13510"/>
                </a:lnTo>
                <a:lnTo>
                  <a:pt x="9166" y="13521"/>
                </a:lnTo>
                <a:lnTo>
                  <a:pt x="9142" y="13557"/>
                </a:lnTo>
                <a:lnTo>
                  <a:pt x="9153" y="13631"/>
                </a:lnTo>
                <a:lnTo>
                  <a:pt x="9118" y="13667"/>
                </a:lnTo>
                <a:lnTo>
                  <a:pt x="9071" y="13679"/>
                </a:lnTo>
                <a:lnTo>
                  <a:pt x="9049" y="13714"/>
                </a:lnTo>
                <a:lnTo>
                  <a:pt x="9105" y="13764"/>
                </a:lnTo>
                <a:lnTo>
                  <a:pt x="9151" y="13790"/>
                </a:lnTo>
                <a:lnTo>
                  <a:pt x="9182" y="13864"/>
                </a:lnTo>
                <a:lnTo>
                  <a:pt x="9205" y="13876"/>
                </a:lnTo>
                <a:lnTo>
                  <a:pt x="9251" y="13865"/>
                </a:lnTo>
                <a:lnTo>
                  <a:pt x="9339" y="14050"/>
                </a:lnTo>
                <a:lnTo>
                  <a:pt x="9497" y="14042"/>
                </a:lnTo>
                <a:lnTo>
                  <a:pt x="9486" y="14126"/>
                </a:lnTo>
                <a:lnTo>
                  <a:pt x="9473" y="14174"/>
                </a:lnTo>
                <a:lnTo>
                  <a:pt x="9608" y="14312"/>
                </a:lnTo>
                <a:lnTo>
                  <a:pt x="9630" y="14362"/>
                </a:lnTo>
                <a:lnTo>
                  <a:pt x="9606" y="14421"/>
                </a:lnTo>
                <a:lnTo>
                  <a:pt x="9572" y="14470"/>
                </a:lnTo>
                <a:lnTo>
                  <a:pt x="9536" y="14531"/>
                </a:lnTo>
                <a:lnTo>
                  <a:pt x="9457" y="14541"/>
                </a:lnTo>
                <a:lnTo>
                  <a:pt x="9401" y="14504"/>
                </a:lnTo>
                <a:lnTo>
                  <a:pt x="9355" y="14479"/>
                </a:lnTo>
                <a:lnTo>
                  <a:pt x="9378" y="14552"/>
                </a:lnTo>
                <a:lnTo>
                  <a:pt x="9421" y="14626"/>
                </a:lnTo>
                <a:lnTo>
                  <a:pt x="9307" y="14648"/>
                </a:lnTo>
                <a:lnTo>
                  <a:pt x="9284" y="14623"/>
                </a:lnTo>
                <a:lnTo>
                  <a:pt x="9284" y="14635"/>
                </a:lnTo>
                <a:lnTo>
                  <a:pt x="9237" y="14771"/>
                </a:lnTo>
                <a:lnTo>
                  <a:pt x="9179" y="14793"/>
                </a:lnTo>
                <a:lnTo>
                  <a:pt x="9098" y="14889"/>
                </a:lnTo>
                <a:lnTo>
                  <a:pt x="9075" y="14936"/>
                </a:lnTo>
                <a:lnTo>
                  <a:pt x="9004" y="15071"/>
                </a:lnTo>
                <a:lnTo>
                  <a:pt x="8957" y="15118"/>
                </a:lnTo>
                <a:lnTo>
                  <a:pt x="8899" y="15130"/>
                </a:lnTo>
                <a:lnTo>
                  <a:pt x="8832" y="15165"/>
                </a:lnTo>
                <a:lnTo>
                  <a:pt x="8819" y="15226"/>
                </a:lnTo>
                <a:lnTo>
                  <a:pt x="8841" y="15287"/>
                </a:lnTo>
                <a:lnTo>
                  <a:pt x="8942" y="15362"/>
                </a:lnTo>
                <a:lnTo>
                  <a:pt x="8964" y="15411"/>
                </a:lnTo>
                <a:lnTo>
                  <a:pt x="8940" y="15521"/>
                </a:lnTo>
                <a:lnTo>
                  <a:pt x="8836" y="15531"/>
                </a:lnTo>
                <a:lnTo>
                  <a:pt x="8801" y="15580"/>
                </a:lnTo>
                <a:lnTo>
                  <a:pt x="8744" y="15591"/>
                </a:lnTo>
                <a:lnTo>
                  <a:pt x="8687" y="15615"/>
                </a:lnTo>
                <a:lnTo>
                  <a:pt x="8675" y="15700"/>
                </a:lnTo>
                <a:lnTo>
                  <a:pt x="8706" y="15847"/>
                </a:lnTo>
                <a:lnTo>
                  <a:pt x="8680" y="15956"/>
                </a:lnTo>
                <a:lnTo>
                  <a:pt x="8612" y="16041"/>
                </a:lnTo>
                <a:lnTo>
                  <a:pt x="8542" y="16137"/>
                </a:lnTo>
                <a:lnTo>
                  <a:pt x="8473" y="16161"/>
                </a:lnTo>
                <a:lnTo>
                  <a:pt x="8427" y="16183"/>
                </a:lnTo>
                <a:lnTo>
                  <a:pt x="8371" y="16146"/>
                </a:lnTo>
                <a:lnTo>
                  <a:pt x="8337" y="16133"/>
                </a:lnTo>
                <a:lnTo>
                  <a:pt x="8279" y="16143"/>
                </a:lnTo>
                <a:lnTo>
                  <a:pt x="8267" y="16218"/>
                </a:lnTo>
                <a:lnTo>
                  <a:pt x="8301" y="16254"/>
                </a:lnTo>
                <a:lnTo>
                  <a:pt x="8310" y="16327"/>
                </a:lnTo>
                <a:lnTo>
                  <a:pt x="8301" y="16342"/>
                </a:lnTo>
                <a:lnTo>
                  <a:pt x="8279" y="16388"/>
                </a:lnTo>
                <a:lnTo>
                  <a:pt x="8294" y="16370"/>
                </a:lnTo>
                <a:lnTo>
                  <a:pt x="10114" y="16363"/>
                </a:lnTo>
                <a:lnTo>
                  <a:pt x="10114" y="0"/>
                </a:lnTo>
                <a:lnTo>
                  <a:pt x="760" y="0"/>
                </a:lnTo>
                <a:close/>
              </a:path>
            </a:pathLst>
          </a:custGeom>
          <a:solidFill>
            <a:srgbClr val="dddddd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556320" y="1012680"/>
            <a:ext cx="220680" cy="1208160"/>
          </a:xfrm>
          <a:custGeom>
            <a:avLst/>
            <a:gdLst/>
            <a:ahLst/>
            <a:rect l="l" t="t" r="r" b="b"/>
            <a:pathLst>
              <a:path w="510" h="3903">
                <a:moveTo>
                  <a:pt x="7" y="0"/>
                </a:moveTo>
                <a:lnTo>
                  <a:pt x="0" y="428"/>
                </a:lnTo>
                <a:lnTo>
                  <a:pt x="56" y="479"/>
                </a:lnTo>
                <a:lnTo>
                  <a:pt x="68" y="540"/>
                </a:lnTo>
                <a:lnTo>
                  <a:pt x="192" y="543"/>
                </a:lnTo>
                <a:lnTo>
                  <a:pt x="203" y="603"/>
                </a:lnTo>
                <a:lnTo>
                  <a:pt x="315" y="605"/>
                </a:lnTo>
                <a:lnTo>
                  <a:pt x="327" y="667"/>
                </a:lnTo>
                <a:lnTo>
                  <a:pt x="361" y="716"/>
                </a:lnTo>
                <a:lnTo>
                  <a:pt x="381" y="802"/>
                </a:lnTo>
                <a:lnTo>
                  <a:pt x="335" y="813"/>
                </a:lnTo>
                <a:lnTo>
                  <a:pt x="311" y="899"/>
                </a:lnTo>
                <a:lnTo>
                  <a:pt x="322" y="960"/>
                </a:lnTo>
                <a:lnTo>
                  <a:pt x="399" y="1059"/>
                </a:lnTo>
                <a:lnTo>
                  <a:pt x="489" y="1170"/>
                </a:lnTo>
                <a:lnTo>
                  <a:pt x="510" y="1281"/>
                </a:lnTo>
                <a:lnTo>
                  <a:pt x="497" y="1414"/>
                </a:lnTo>
                <a:lnTo>
                  <a:pt x="141" y="3852"/>
                </a:lnTo>
                <a:lnTo>
                  <a:pt x="129" y="3903"/>
                </a:lnTo>
                <a:lnTo>
                  <a:pt x="129" y="3891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0200" y="1795320"/>
            <a:ext cx="123840" cy="46080"/>
          </a:xfrm>
          <a:custGeom>
            <a:avLst/>
            <a:gdLst/>
            <a:ahLst/>
            <a:rect l="l" t="t" r="r" b="b"/>
            <a:pathLst>
              <a:path w="285" h="157">
                <a:moveTo>
                  <a:pt x="79" y="133"/>
                </a:moveTo>
                <a:lnTo>
                  <a:pt x="34" y="157"/>
                </a:lnTo>
                <a:lnTo>
                  <a:pt x="0" y="132"/>
                </a:lnTo>
                <a:lnTo>
                  <a:pt x="34" y="119"/>
                </a:lnTo>
                <a:lnTo>
                  <a:pt x="58" y="73"/>
                </a:lnTo>
                <a:lnTo>
                  <a:pt x="93" y="25"/>
                </a:lnTo>
                <a:lnTo>
                  <a:pt x="139" y="25"/>
                </a:lnTo>
                <a:lnTo>
                  <a:pt x="174" y="0"/>
                </a:lnTo>
                <a:lnTo>
                  <a:pt x="231" y="15"/>
                </a:lnTo>
                <a:lnTo>
                  <a:pt x="285" y="40"/>
                </a:lnTo>
                <a:lnTo>
                  <a:pt x="263" y="77"/>
                </a:lnTo>
                <a:lnTo>
                  <a:pt x="230" y="99"/>
                </a:lnTo>
                <a:lnTo>
                  <a:pt x="160" y="122"/>
                </a:lnTo>
                <a:lnTo>
                  <a:pt x="115" y="109"/>
                </a:lnTo>
                <a:lnTo>
                  <a:pt x="126" y="109"/>
                </a:lnTo>
                <a:lnTo>
                  <a:pt x="79" y="133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426480" y="1320840"/>
            <a:ext cx="898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CUAD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566680" y="1206360"/>
            <a:ext cx="9684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LOMB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103800" y="2824200"/>
            <a:ext cx="66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RAS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rot="16200000">
            <a:off x="6703200" y="4561920"/>
            <a:ext cx="723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OLIV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501240" y="5978520"/>
            <a:ext cx="3070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HI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726360" y="4259160"/>
            <a:ext cx="416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818520" y="2693880"/>
            <a:ext cx="564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ER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630840" y="5100480"/>
            <a:ext cx="500040" cy="414360"/>
          </a:xfrm>
          <a:custGeom>
            <a:avLst/>
            <a:gdLst/>
            <a:ahLst/>
            <a:rect l="l" t="t" r="r" b="b"/>
            <a:pathLst>
              <a:path w="265" h="317">
                <a:moveTo>
                  <a:pt x="16" y="90"/>
                </a:moveTo>
                <a:cubicBezTo>
                  <a:pt x="11" y="109"/>
                  <a:pt x="1" y="138"/>
                  <a:pt x="16" y="156"/>
                </a:cubicBezTo>
                <a:cubicBezTo>
                  <a:pt x="21" y="162"/>
                  <a:pt x="32" y="152"/>
                  <a:pt x="40" y="150"/>
                </a:cubicBezTo>
                <a:cubicBezTo>
                  <a:pt x="53" y="153"/>
                  <a:pt x="78" y="154"/>
                  <a:pt x="88" y="168"/>
                </a:cubicBezTo>
                <a:cubicBezTo>
                  <a:pt x="116" y="209"/>
                  <a:pt x="72" y="176"/>
                  <a:pt x="106" y="210"/>
                </a:cubicBezTo>
                <a:cubicBezTo>
                  <a:pt x="123" y="227"/>
                  <a:pt x="140" y="237"/>
                  <a:pt x="154" y="258"/>
                </a:cubicBezTo>
                <a:cubicBezTo>
                  <a:pt x="158" y="277"/>
                  <a:pt x="155" y="317"/>
                  <a:pt x="196" y="282"/>
                </a:cubicBezTo>
                <a:cubicBezTo>
                  <a:pt x="265" y="222"/>
                  <a:pt x="169" y="259"/>
                  <a:pt x="226" y="240"/>
                </a:cubicBezTo>
                <a:cubicBezTo>
                  <a:pt x="230" y="227"/>
                  <a:pt x="241" y="204"/>
                  <a:pt x="226" y="192"/>
                </a:cubicBezTo>
                <a:cubicBezTo>
                  <a:pt x="220" y="187"/>
                  <a:pt x="210" y="196"/>
                  <a:pt x="202" y="198"/>
                </a:cubicBezTo>
                <a:cubicBezTo>
                  <a:pt x="188" y="193"/>
                  <a:pt x="171" y="195"/>
                  <a:pt x="160" y="186"/>
                </a:cubicBezTo>
                <a:cubicBezTo>
                  <a:pt x="155" y="182"/>
                  <a:pt x="150" y="172"/>
                  <a:pt x="154" y="168"/>
                </a:cubicBezTo>
                <a:cubicBezTo>
                  <a:pt x="158" y="164"/>
                  <a:pt x="166" y="172"/>
                  <a:pt x="172" y="174"/>
                </a:cubicBezTo>
                <a:cubicBezTo>
                  <a:pt x="180" y="172"/>
                  <a:pt x="193" y="176"/>
                  <a:pt x="196" y="168"/>
                </a:cubicBezTo>
                <a:cubicBezTo>
                  <a:pt x="201" y="157"/>
                  <a:pt x="190" y="123"/>
                  <a:pt x="178" y="114"/>
                </a:cubicBezTo>
                <a:cubicBezTo>
                  <a:pt x="173" y="110"/>
                  <a:pt x="166" y="111"/>
                  <a:pt x="160" y="108"/>
                </a:cubicBezTo>
                <a:cubicBezTo>
                  <a:pt x="138" y="96"/>
                  <a:pt x="109" y="80"/>
                  <a:pt x="88" y="66"/>
                </a:cubicBezTo>
                <a:cubicBezTo>
                  <a:pt x="77" y="32"/>
                  <a:pt x="79" y="18"/>
                  <a:pt x="52" y="0"/>
                </a:cubicBezTo>
                <a:cubicBezTo>
                  <a:pt x="27" y="8"/>
                  <a:pt x="30" y="21"/>
                  <a:pt x="16" y="42"/>
                </a:cubicBezTo>
                <a:cubicBezTo>
                  <a:pt x="10" y="87"/>
                  <a:pt x="0" y="74"/>
                  <a:pt x="16" y="90"/>
                </a:cubicBez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6380280" y="5145120"/>
            <a:ext cx="166680" cy="148680"/>
            <a:chOff x="6380280" y="5145120"/>
            <a:chExt cx="166680" cy="148680"/>
          </a:xfrm>
        </p:grpSpPr>
        <p:sp>
          <p:nvSpPr>
            <p:cNvPr id="91" name=""/>
            <p:cNvSpPr/>
            <p:nvPr/>
          </p:nvSpPr>
          <p:spPr>
            <a:xfrm>
              <a:off x="6380280" y="5155920"/>
              <a:ext cx="166680" cy="137880"/>
            </a:xfrm>
            <a:custGeom>
              <a:avLst/>
              <a:gdLst/>
              <a:ahLst/>
              <a:rect l="l" t="t" r="r" b="b"/>
              <a:pathLst>
                <a:path w="330" h="311">
                  <a:moveTo>
                    <a:pt x="0" y="288"/>
                  </a:moveTo>
                  <a:cubicBezTo>
                    <a:pt x="16" y="257"/>
                    <a:pt x="17" y="229"/>
                    <a:pt x="42" y="204"/>
                  </a:cubicBezTo>
                  <a:cubicBezTo>
                    <a:pt x="48" y="186"/>
                    <a:pt x="47" y="163"/>
                    <a:pt x="60" y="150"/>
                  </a:cubicBezTo>
                  <a:cubicBezTo>
                    <a:pt x="71" y="139"/>
                    <a:pt x="99" y="115"/>
                    <a:pt x="108" y="96"/>
                  </a:cubicBezTo>
                  <a:cubicBezTo>
                    <a:pt x="122" y="64"/>
                    <a:pt x="120" y="12"/>
                    <a:pt x="156" y="0"/>
                  </a:cubicBezTo>
                  <a:cubicBezTo>
                    <a:pt x="199" y="29"/>
                    <a:pt x="213" y="74"/>
                    <a:pt x="228" y="120"/>
                  </a:cubicBezTo>
                  <a:cubicBezTo>
                    <a:pt x="236" y="145"/>
                    <a:pt x="246" y="163"/>
                    <a:pt x="258" y="186"/>
                  </a:cubicBezTo>
                  <a:cubicBezTo>
                    <a:pt x="261" y="192"/>
                    <a:pt x="259" y="200"/>
                    <a:pt x="264" y="204"/>
                  </a:cubicBezTo>
                  <a:cubicBezTo>
                    <a:pt x="274" y="211"/>
                    <a:pt x="288" y="212"/>
                    <a:pt x="300" y="216"/>
                  </a:cubicBezTo>
                  <a:cubicBezTo>
                    <a:pt x="307" y="238"/>
                    <a:pt x="317" y="257"/>
                    <a:pt x="330" y="276"/>
                  </a:cubicBezTo>
                  <a:cubicBezTo>
                    <a:pt x="224" y="311"/>
                    <a:pt x="110" y="297"/>
                    <a:pt x="0" y="288"/>
                  </a:cubicBezTo>
                  <a:close/>
                </a:path>
              </a:pathLst>
            </a:custGeom>
            <a:solidFill>
              <a:srgbClr val="8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428520" y="5145120"/>
              <a:ext cx="66600" cy="56160"/>
            </a:xfrm>
            <a:custGeom>
              <a:avLst/>
              <a:gdLst/>
              <a:ahLst/>
              <a:rect l="l" t="t" r="r" b="b"/>
              <a:pathLst>
                <a:path w="132" h="127">
                  <a:moveTo>
                    <a:pt x="0" y="114"/>
                  </a:moveTo>
                  <a:cubicBezTo>
                    <a:pt x="12" y="77"/>
                    <a:pt x="19" y="14"/>
                    <a:pt x="60" y="0"/>
                  </a:cubicBezTo>
                  <a:cubicBezTo>
                    <a:pt x="77" y="26"/>
                    <a:pt x="81" y="48"/>
                    <a:pt x="108" y="66"/>
                  </a:cubicBezTo>
                  <a:cubicBezTo>
                    <a:pt x="124" y="114"/>
                    <a:pt x="132" y="104"/>
                    <a:pt x="84" y="96"/>
                  </a:cubicBezTo>
                  <a:cubicBezTo>
                    <a:pt x="80" y="93"/>
                    <a:pt x="56" y="75"/>
                    <a:pt x="48" y="78"/>
                  </a:cubicBezTo>
                  <a:cubicBezTo>
                    <a:pt x="41" y="81"/>
                    <a:pt x="41" y="90"/>
                    <a:pt x="36" y="96"/>
                  </a:cubicBezTo>
                  <a:cubicBezTo>
                    <a:pt x="27" y="106"/>
                    <a:pt x="0" y="127"/>
                    <a:pt x="0" y="114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10440" bIns="104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2874960" y="2247840"/>
            <a:ext cx="4088880" cy="3755880"/>
            <a:chOff x="2874960" y="2247840"/>
            <a:chExt cx="4088880" cy="3755880"/>
          </a:xfrm>
        </p:grpSpPr>
        <p:grpSp>
          <p:nvGrpSpPr>
            <p:cNvPr id="94" name=""/>
            <p:cNvGrpSpPr/>
            <p:nvPr/>
          </p:nvGrpSpPr>
          <p:grpSpPr>
            <a:xfrm>
              <a:off x="6797520" y="5854680"/>
              <a:ext cx="166320" cy="149040"/>
              <a:chOff x="6797520" y="5854680"/>
              <a:chExt cx="166320" cy="149040"/>
            </a:xfrm>
          </p:grpSpPr>
          <p:sp>
            <p:nvSpPr>
              <p:cNvPr id="95" name=""/>
              <p:cNvSpPr/>
              <p:nvPr/>
            </p:nvSpPr>
            <p:spPr>
              <a:xfrm>
                <a:off x="6797520" y="5865480"/>
                <a:ext cx="166320" cy="13824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6845760" y="5854680"/>
                <a:ext cx="66600" cy="5652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800" bIns="10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" name=""/>
            <p:cNvGrpSpPr/>
            <p:nvPr/>
          </p:nvGrpSpPr>
          <p:grpSpPr>
            <a:xfrm>
              <a:off x="6464160" y="5815080"/>
              <a:ext cx="166320" cy="147600"/>
              <a:chOff x="6464160" y="5815080"/>
              <a:chExt cx="166320" cy="147600"/>
            </a:xfrm>
          </p:grpSpPr>
          <p:sp>
            <p:nvSpPr>
              <p:cNvPr id="98" name=""/>
              <p:cNvSpPr/>
              <p:nvPr/>
            </p:nvSpPr>
            <p:spPr>
              <a:xfrm>
                <a:off x="6464160" y="5825880"/>
                <a:ext cx="166320" cy="13680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6512400" y="5815080"/>
                <a:ext cx="66600" cy="5580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080" bIns="100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6297480" y="5591160"/>
              <a:ext cx="166320" cy="147600"/>
              <a:chOff x="6297480" y="5591160"/>
              <a:chExt cx="166320" cy="147600"/>
            </a:xfrm>
          </p:grpSpPr>
          <p:sp>
            <p:nvSpPr>
              <p:cNvPr id="101" name=""/>
              <p:cNvSpPr/>
              <p:nvPr/>
            </p:nvSpPr>
            <p:spPr>
              <a:xfrm>
                <a:off x="6297480" y="5601960"/>
                <a:ext cx="166320" cy="13680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345720" y="5591160"/>
                <a:ext cx="66600" cy="5580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080" bIns="100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6046560" y="5515200"/>
              <a:ext cx="166320" cy="150840"/>
              <a:chOff x="6046560" y="5515200"/>
              <a:chExt cx="166320" cy="150840"/>
            </a:xfrm>
          </p:grpSpPr>
          <p:sp>
            <p:nvSpPr>
              <p:cNvPr id="104" name=""/>
              <p:cNvSpPr/>
              <p:nvPr/>
            </p:nvSpPr>
            <p:spPr>
              <a:xfrm>
                <a:off x="6046560" y="5526360"/>
                <a:ext cx="166320" cy="13968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6094800" y="5515200"/>
                <a:ext cx="66600" cy="5688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1160" bIns="111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" name=""/>
            <p:cNvGrpSpPr/>
            <p:nvPr/>
          </p:nvGrpSpPr>
          <p:grpSpPr>
            <a:xfrm>
              <a:off x="6046560" y="5367600"/>
              <a:ext cx="166320" cy="147600"/>
              <a:chOff x="6046560" y="5367600"/>
              <a:chExt cx="166320" cy="147600"/>
            </a:xfrm>
          </p:grpSpPr>
          <p:sp>
            <p:nvSpPr>
              <p:cNvPr id="107" name=""/>
              <p:cNvSpPr/>
              <p:nvPr/>
            </p:nvSpPr>
            <p:spPr>
              <a:xfrm>
                <a:off x="6046560" y="5378400"/>
                <a:ext cx="166320" cy="13680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6094800" y="5367600"/>
                <a:ext cx="66600" cy="5580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080" bIns="100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711400" y="5218200"/>
              <a:ext cx="166320" cy="149040"/>
              <a:chOff x="5711400" y="5218200"/>
              <a:chExt cx="166320" cy="149040"/>
            </a:xfrm>
          </p:grpSpPr>
          <p:sp>
            <p:nvSpPr>
              <p:cNvPr id="110" name=""/>
              <p:cNvSpPr/>
              <p:nvPr/>
            </p:nvSpPr>
            <p:spPr>
              <a:xfrm>
                <a:off x="5711400" y="5229000"/>
                <a:ext cx="166320" cy="13824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5759640" y="5218200"/>
                <a:ext cx="66600" cy="5652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800" bIns="10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2" name=""/>
            <p:cNvGrpSpPr/>
            <p:nvPr/>
          </p:nvGrpSpPr>
          <p:grpSpPr>
            <a:xfrm>
              <a:off x="6032160" y="4951440"/>
              <a:ext cx="166320" cy="149040"/>
              <a:chOff x="6032160" y="4951440"/>
              <a:chExt cx="166320" cy="149040"/>
            </a:xfrm>
          </p:grpSpPr>
          <p:sp>
            <p:nvSpPr>
              <p:cNvPr id="113" name=""/>
              <p:cNvSpPr/>
              <p:nvPr/>
            </p:nvSpPr>
            <p:spPr>
              <a:xfrm>
                <a:off x="6032160" y="4962240"/>
                <a:ext cx="166320" cy="13824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6080400" y="4951440"/>
                <a:ext cx="66600" cy="5652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800" bIns="10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5752800" y="4929120"/>
              <a:ext cx="166320" cy="150840"/>
              <a:chOff x="5752800" y="4929120"/>
              <a:chExt cx="166320" cy="150840"/>
            </a:xfrm>
          </p:grpSpPr>
          <p:sp>
            <p:nvSpPr>
              <p:cNvPr id="116" name=""/>
              <p:cNvSpPr/>
              <p:nvPr/>
            </p:nvSpPr>
            <p:spPr>
              <a:xfrm>
                <a:off x="5752800" y="4940280"/>
                <a:ext cx="166320" cy="13968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801040" y="4929120"/>
                <a:ext cx="66600" cy="5688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1160" bIns="111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" name=""/>
            <p:cNvGrpSpPr/>
            <p:nvPr/>
          </p:nvGrpSpPr>
          <p:grpSpPr>
            <a:xfrm>
              <a:off x="5805360" y="5079960"/>
              <a:ext cx="166320" cy="147600"/>
              <a:chOff x="5805360" y="5079960"/>
              <a:chExt cx="166320" cy="147600"/>
            </a:xfrm>
          </p:grpSpPr>
          <p:sp>
            <p:nvSpPr>
              <p:cNvPr id="119" name=""/>
              <p:cNvSpPr/>
              <p:nvPr/>
            </p:nvSpPr>
            <p:spPr>
              <a:xfrm>
                <a:off x="5805360" y="5090760"/>
                <a:ext cx="166320" cy="13680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853600" y="5079960"/>
                <a:ext cx="66600" cy="5580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080" bIns="100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1" name=""/>
            <p:cNvGrpSpPr/>
            <p:nvPr/>
          </p:nvGrpSpPr>
          <p:grpSpPr>
            <a:xfrm>
              <a:off x="5455800" y="4672080"/>
              <a:ext cx="166320" cy="146160"/>
              <a:chOff x="5455800" y="4672080"/>
              <a:chExt cx="166320" cy="146160"/>
            </a:xfrm>
          </p:grpSpPr>
          <p:sp>
            <p:nvSpPr>
              <p:cNvPr id="122" name=""/>
              <p:cNvSpPr/>
              <p:nvPr/>
            </p:nvSpPr>
            <p:spPr>
              <a:xfrm>
                <a:off x="5455800" y="4682880"/>
                <a:ext cx="166320" cy="13536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5504040" y="4672080"/>
                <a:ext cx="66600" cy="5508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9360" bIns="93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5573520" y="4876920"/>
              <a:ext cx="166320" cy="148680"/>
              <a:chOff x="5573520" y="4876920"/>
              <a:chExt cx="166320" cy="148680"/>
            </a:xfrm>
          </p:grpSpPr>
          <p:sp>
            <p:nvSpPr>
              <p:cNvPr id="125" name=""/>
              <p:cNvSpPr/>
              <p:nvPr/>
            </p:nvSpPr>
            <p:spPr>
              <a:xfrm>
                <a:off x="5573520" y="4887720"/>
                <a:ext cx="166320" cy="13788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621760" y="4876920"/>
                <a:ext cx="66600" cy="5616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440" bIns="10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" name=""/>
            <p:cNvGrpSpPr/>
            <p:nvPr/>
          </p:nvGrpSpPr>
          <p:grpSpPr>
            <a:xfrm>
              <a:off x="4814640" y="4541760"/>
              <a:ext cx="166320" cy="147960"/>
              <a:chOff x="4814640" y="4541760"/>
              <a:chExt cx="166320" cy="147960"/>
            </a:xfrm>
          </p:grpSpPr>
          <p:sp>
            <p:nvSpPr>
              <p:cNvPr id="128" name=""/>
              <p:cNvSpPr/>
              <p:nvPr/>
            </p:nvSpPr>
            <p:spPr>
              <a:xfrm>
                <a:off x="4814640" y="4552560"/>
                <a:ext cx="166320" cy="13716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862880" y="4541760"/>
                <a:ext cx="66600" cy="5580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080" bIns="100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0" name=""/>
            <p:cNvGrpSpPr/>
            <p:nvPr/>
          </p:nvGrpSpPr>
          <p:grpSpPr>
            <a:xfrm>
              <a:off x="5019480" y="4299120"/>
              <a:ext cx="166320" cy="147600"/>
              <a:chOff x="5019480" y="4299120"/>
              <a:chExt cx="166320" cy="147600"/>
            </a:xfrm>
          </p:grpSpPr>
          <p:sp>
            <p:nvSpPr>
              <p:cNvPr id="131" name=""/>
              <p:cNvSpPr/>
              <p:nvPr/>
            </p:nvSpPr>
            <p:spPr>
              <a:xfrm>
                <a:off x="5019480" y="4309920"/>
                <a:ext cx="166320" cy="13680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5067720" y="4299120"/>
                <a:ext cx="66600" cy="5580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080" bIns="100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3" name=""/>
            <p:cNvGrpSpPr/>
            <p:nvPr/>
          </p:nvGrpSpPr>
          <p:grpSpPr>
            <a:xfrm>
              <a:off x="4825800" y="4281480"/>
              <a:ext cx="166320" cy="147600"/>
              <a:chOff x="4825800" y="4281480"/>
              <a:chExt cx="166320" cy="147600"/>
            </a:xfrm>
          </p:grpSpPr>
          <p:sp>
            <p:nvSpPr>
              <p:cNvPr id="134" name=""/>
              <p:cNvSpPr/>
              <p:nvPr/>
            </p:nvSpPr>
            <p:spPr>
              <a:xfrm>
                <a:off x="4825800" y="4292280"/>
                <a:ext cx="166320" cy="13680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874040" y="4281480"/>
                <a:ext cx="66600" cy="5580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080" bIns="100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6" name=""/>
            <p:cNvGrpSpPr/>
            <p:nvPr/>
          </p:nvGrpSpPr>
          <p:grpSpPr>
            <a:xfrm>
              <a:off x="4659120" y="4230720"/>
              <a:ext cx="166320" cy="149040"/>
              <a:chOff x="4659120" y="4230720"/>
              <a:chExt cx="166320" cy="149040"/>
            </a:xfrm>
          </p:grpSpPr>
          <p:sp>
            <p:nvSpPr>
              <p:cNvPr id="137" name=""/>
              <p:cNvSpPr/>
              <p:nvPr/>
            </p:nvSpPr>
            <p:spPr>
              <a:xfrm>
                <a:off x="4659120" y="4241520"/>
                <a:ext cx="166320" cy="13824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707360" y="4230720"/>
                <a:ext cx="66600" cy="5652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800" bIns="10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4824000" y="4094280"/>
              <a:ext cx="166320" cy="147600"/>
              <a:chOff x="4824000" y="4094280"/>
              <a:chExt cx="166320" cy="147600"/>
            </a:xfrm>
          </p:grpSpPr>
          <p:sp>
            <p:nvSpPr>
              <p:cNvPr id="140" name=""/>
              <p:cNvSpPr/>
              <p:nvPr/>
            </p:nvSpPr>
            <p:spPr>
              <a:xfrm>
                <a:off x="4824000" y="4105080"/>
                <a:ext cx="166320" cy="13680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4872240" y="4094280"/>
                <a:ext cx="66600" cy="5580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080" bIns="100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2" name=""/>
            <p:cNvGrpSpPr/>
            <p:nvPr/>
          </p:nvGrpSpPr>
          <p:grpSpPr>
            <a:xfrm>
              <a:off x="4695480" y="3956040"/>
              <a:ext cx="166320" cy="147600"/>
              <a:chOff x="4695480" y="3956040"/>
              <a:chExt cx="166320" cy="147600"/>
            </a:xfrm>
          </p:grpSpPr>
          <p:sp>
            <p:nvSpPr>
              <p:cNvPr id="143" name=""/>
              <p:cNvSpPr/>
              <p:nvPr/>
            </p:nvSpPr>
            <p:spPr>
              <a:xfrm>
                <a:off x="4695480" y="3966840"/>
                <a:ext cx="166320" cy="13680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743720" y="3956040"/>
                <a:ext cx="66600" cy="5580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080" bIns="100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" name=""/>
            <p:cNvGrpSpPr/>
            <p:nvPr/>
          </p:nvGrpSpPr>
          <p:grpSpPr>
            <a:xfrm>
              <a:off x="4362120" y="3876840"/>
              <a:ext cx="166320" cy="148680"/>
              <a:chOff x="4362120" y="3876840"/>
              <a:chExt cx="166320" cy="148680"/>
            </a:xfrm>
          </p:grpSpPr>
          <p:sp>
            <p:nvSpPr>
              <p:cNvPr id="146" name=""/>
              <p:cNvSpPr/>
              <p:nvPr/>
            </p:nvSpPr>
            <p:spPr>
              <a:xfrm>
                <a:off x="4362120" y="3887640"/>
                <a:ext cx="166320" cy="13788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4410360" y="3876840"/>
                <a:ext cx="66600" cy="5616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440" bIns="10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" name=""/>
            <p:cNvGrpSpPr/>
            <p:nvPr/>
          </p:nvGrpSpPr>
          <p:grpSpPr>
            <a:xfrm>
              <a:off x="4409640" y="3727440"/>
              <a:ext cx="166320" cy="149040"/>
              <a:chOff x="4409640" y="3727440"/>
              <a:chExt cx="166320" cy="149040"/>
            </a:xfrm>
          </p:grpSpPr>
          <p:sp>
            <p:nvSpPr>
              <p:cNvPr id="149" name=""/>
              <p:cNvSpPr/>
              <p:nvPr/>
            </p:nvSpPr>
            <p:spPr>
              <a:xfrm>
                <a:off x="4409640" y="3738240"/>
                <a:ext cx="166320" cy="13824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457880" y="3727440"/>
                <a:ext cx="66600" cy="5652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800" bIns="10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1" name=""/>
            <p:cNvGrpSpPr/>
            <p:nvPr/>
          </p:nvGrpSpPr>
          <p:grpSpPr>
            <a:xfrm>
              <a:off x="4221000" y="3648240"/>
              <a:ext cx="167760" cy="148680"/>
              <a:chOff x="4221000" y="3648240"/>
              <a:chExt cx="167760" cy="148680"/>
            </a:xfrm>
          </p:grpSpPr>
          <p:sp>
            <p:nvSpPr>
              <p:cNvPr id="152" name=""/>
              <p:cNvSpPr/>
              <p:nvPr/>
            </p:nvSpPr>
            <p:spPr>
              <a:xfrm>
                <a:off x="4221000" y="3659040"/>
                <a:ext cx="167760" cy="13788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269600" y="3648240"/>
                <a:ext cx="66960" cy="5616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440" bIns="10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4" name=""/>
            <p:cNvGrpSpPr/>
            <p:nvPr/>
          </p:nvGrpSpPr>
          <p:grpSpPr>
            <a:xfrm>
              <a:off x="4116240" y="3498840"/>
              <a:ext cx="166320" cy="149040"/>
              <a:chOff x="4116240" y="3498840"/>
              <a:chExt cx="166320" cy="149040"/>
            </a:xfrm>
          </p:grpSpPr>
          <p:sp>
            <p:nvSpPr>
              <p:cNvPr id="155" name=""/>
              <p:cNvSpPr/>
              <p:nvPr/>
            </p:nvSpPr>
            <p:spPr>
              <a:xfrm>
                <a:off x="4116240" y="3509640"/>
                <a:ext cx="166320" cy="13824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4164480" y="3498840"/>
                <a:ext cx="66600" cy="5652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800" bIns="10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3877920" y="3521160"/>
              <a:ext cx="166320" cy="149040"/>
              <a:chOff x="3877920" y="3521160"/>
              <a:chExt cx="166320" cy="149040"/>
            </a:xfrm>
          </p:grpSpPr>
          <p:sp>
            <p:nvSpPr>
              <p:cNvPr id="158" name=""/>
              <p:cNvSpPr/>
              <p:nvPr/>
            </p:nvSpPr>
            <p:spPr>
              <a:xfrm>
                <a:off x="3877920" y="3531960"/>
                <a:ext cx="166320" cy="13824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3926160" y="3521160"/>
                <a:ext cx="66600" cy="5652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800" bIns="10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0" name=""/>
            <p:cNvGrpSpPr/>
            <p:nvPr/>
          </p:nvGrpSpPr>
          <p:grpSpPr>
            <a:xfrm>
              <a:off x="3709800" y="3286080"/>
              <a:ext cx="167760" cy="149040"/>
              <a:chOff x="3709800" y="3286080"/>
              <a:chExt cx="167760" cy="149040"/>
            </a:xfrm>
          </p:grpSpPr>
          <p:sp>
            <p:nvSpPr>
              <p:cNvPr id="161" name=""/>
              <p:cNvSpPr/>
              <p:nvPr/>
            </p:nvSpPr>
            <p:spPr>
              <a:xfrm>
                <a:off x="3709800" y="3296880"/>
                <a:ext cx="167760" cy="13824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3758400" y="3286080"/>
                <a:ext cx="66960" cy="5652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800" bIns="10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3960360" y="3341880"/>
              <a:ext cx="166320" cy="148680"/>
              <a:chOff x="3960360" y="3341880"/>
              <a:chExt cx="166320" cy="148680"/>
            </a:xfrm>
          </p:grpSpPr>
          <p:sp>
            <p:nvSpPr>
              <p:cNvPr id="164" name=""/>
              <p:cNvSpPr/>
              <p:nvPr/>
            </p:nvSpPr>
            <p:spPr>
              <a:xfrm>
                <a:off x="3960360" y="3352680"/>
                <a:ext cx="166320" cy="13788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4008600" y="3341880"/>
                <a:ext cx="66600" cy="5616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440" bIns="10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6" name=""/>
            <p:cNvGrpSpPr/>
            <p:nvPr/>
          </p:nvGrpSpPr>
          <p:grpSpPr>
            <a:xfrm>
              <a:off x="3809880" y="2895840"/>
              <a:ext cx="167760" cy="150480"/>
              <a:chOff x="3809880" y="2895840"/>
              <a:chExt cx="167760" cy="150480"/>
            </a:xfrm>
          </p:grpSpPr>
          <p:sp>
            <p:nvSpPr>
              <p:cNvPr id="167" name=""/>
              <p:cNvSpPr/>
              <p:nvPr/>
            </p:nvSpPr>
            <p:spPr>
              <a:xfrm>
                <a:off x="3809880" y="2907000"/>
                <a:ext cx="167760" cy="13932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3858480" y="2895840"/>
                <a:ext cx="66960" cy="5688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1160" bIns="111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9" name=""/>
            <p:cNvGrpSpPr/>
            <p:nvPr/>
          </p:nvGrpSpPr>
          <p:grpSpPr>
            <a:xfrm>
              <a:off x="3866760" y="3138480"/>
              <a:ext cx="166320" cy="147600"/>
              <a:chOff x="3866760" y="3138480"/>
              <a:chExt cx="166320" cy="147600"/>
            </a:xfrm>
          </p:grpSpPr>
          <p:sp>
            <p:nvSpPr>
              <p:cNvPr id="170" name=""/>
              <p:cNvSpPr/>
              <p:nvPr/>
            </p:nvSpPr>
            <p:spPr>
              <a:xfrm>
                <a:off x="3866760" y="3149280"/>
                <a:ext cx="166320" cy="13680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3915000" y="3138480"/>
                <a:ext cx="66600" cy="5580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080" bIns="100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2" name=""/>
            <p:cNvGrpSpPr/>
            <p:nvPr/>
          </p:nvGrpSpPr>
          <p:grpSpPr>
            <a:xfrm>
              <a:off x="3552480" y="2970360"/>
              <a:ext cx="166320" cy="148680"/>
              <a:chOff x="3552480" y="2970360"/>
              <a:chExt cx="166320" cy="148680"/>
            </a:xfrm>
          </p:grpSpPr>
          <p:sp>
            <p:nvSpPr>
              <p:cNvPr id="173" name=""/>
              <p:cNvSpPr/>
              <p:nvPr/>
            </p:nvSpPr>
            <p:spPr>
              <a:xfrm>
                <a:off x="3552480" y="2981160"/>
                <a:ext cx="166320" cy="13788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3600720" y="2970360"/>
                <a:ext cx="66600" cy="5616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440" bIns="10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3625560" y="2782800"/>
              <a:ext cx="167760" cy="147960"/>
              <a:chOff x="3625560" y="2782800"/>
              <a:chExt cx="167760" cy="147960"/>
            </a:xfrm>
          </p:grpSpPr>
          <p:sp>
            <p:nvSpPr>
              <p:cNvPr id="176" name=""/>
              <p:cNvSpPr/>
              <p:nvPr/>
            </p:nvSpPr>
            <p:spPr>
              <a:xfrm>
                <a:off x="3625560" y="2793600"/>
                <a:ext cx="167760" cy="13716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3674160" y="2782800"/>
                <a:ext cx="66960" cy="5580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080" bIns="100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8" name=""/>
            <p:cNvGrpSpPr/>
            <p:nvPr/>
          </p:nvGrpSpPr>
          <p:grpSpPr>
            <a:xfrm>
              <a:off x="3381120" y="2782800"/>
              <a:ext cx="166320" cy="147960"/>
              <a:chOff x="3381120" y="2782800"/>
              <a:chExt cx="166320" cy="147960"/>
            </a:xfrm>
          </p:grpSpPr>
          <p:sp>
            <p:nvSpPr>
              <p:cNvPr id="179" name=""/>
              <p:cNvSpPr/>
              <p:nvPr/>
            </p:nvSpPr>
            <p:spPr>
              <a:xfrm>
                <a:off x="3381120" y="2793600"/>
                <a:ext cx="166320" cy="13716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3429360" y="2782800"/>
                <a:ext cx="66600" cy="5580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080" bIns="100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1" name=""/>
            <p:cNvGrpSpPr/>
            <p:nvPr/>
          </p:nvGrpSpPr>
          <p:grpSpPr>
            <a:xfrm>
              <a:off x="3508200" y="2633760"/>
              <a:ext cx="166320" cy="148680"/>
              <a:chOff x="3508200" y="2633760"/>
              <a:chExt cx="166320" cy="148680"/>
            </a:xfrm>
          </p:grpSpPr>
          <p:sp>
            <p:nvSpPr>
              <p:cNvPr id="182" name=""/>
              <p:cNvSpPr/>
              <p:nvPr/>
            </p:nvSpPr>
            <p:spPr>
              <a:xfrm>
                <a:off x="3508200" y="2644560"/>
                <a:ext cx="166320" cy="13788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3556440" y="2633760"/>
                <a:ext cx="66600" cy="5616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440" bIns="10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4" name=""/>
            <p:cNvGrpSpPr/>
            <p:nvPr/>
          </p:nvGrpSpPr>
          <p:grpSpPr>
            <a:xfrm>
              <a:off x="3292200" y="2619360"/>
              <a:ext cx="166320" cy="146160"/>
              <a:chOff x="3292200" y="2619360"/>
              <a:chExt cx="166320" cy="146160"/>
            </a:xfrm>
          </p:grpSpPr>
          <p:sp>
            <p:nvSpPr>
              <p:cNvPr id="185" name=""/>
              <p:cNvSpPr/>
              <p:nvPr/>
            </p:nvSpPr>
            <p:spPr>
              <a:xfrm>
                <a:off x="3292200" y="2630160"/>
                <a:ext cx="166320" cy="13536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3340440" y="2619360"/>
                <a:ext cx="66600" cy="5508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9360" bIns="93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3292200" y="2468520"/>
              <a:ext cx="166320" cy="150840"/>
              <a:chOff x="3292200" y="2468520"/>
              <a:chExt cx="166320" cy="150840"/>
            </a:xfrm>
          </p:grpSpPr>
          <p:sp>
            <p:nvSpPr>
              <p:cNvPr id="188" name=""/>
              <p:cNvSpPr/>
              <p:nvPr/>
            </p:nvSpPr>
            <p:spPr>
              <a:xfrm>
                <a:off x="3292200" y="2479680"/>
                <a:ext cx="166320" cy="13968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3340440" y="2468520"/>
                <a:ext cx="66600" cy="5688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1160" bIns="111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0" name=""/>
            <p:cNvGrpSpPr/>
            <p:nvPr/>
          </p:nvGrpSpPr>
          <p:grpSpPr>
            <a:xfrm>
              <a:off x="3125520" y="2319480"/>
              <a:ext cx="166320" cy="148680"/>
              <a:chOff x="3125520" y="2319480"/>
              <a:chExt cx="166320" cy="148680"/>
            </a:xfrm>
          </p:grpSpPr>
          <p:sp>
            <p:nvSpPr>
              <p:cNvPr id="191" name=""/>
              <p:cNvSpPr/>
              <p:nvPr/>
            </p:nvSpPr>
            <p:spPr>
              <a:xfrm>
                <a:off x="3125520" y="2330280"/>
                <a:ext cx="166320" cy="13788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3173760" y="2319480"/>
                <a:ext cx="66600" cy="5616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0440" bIns="10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2874960" y="2247840"/>
              <a:ext cx="166320" cy="146160"/>
              <a:chOff x="2874960" y="2247840"/>
              <a:chExt cx="166320" cy="146160"/>
            </a:xfrm>
          </p:grpSpPr>
          <p:sp>
            <p:nvSpPr>
              <p:cNvPr id="194" name=""/>
              <p:cNvSpPr/>
              <p:nvPr/>
            </p:nvSpPr>
            <p:spPr>
              <a:xfrm>
                <a:off x="2874960" y="2258640"/>
                <a:ext cx="166320" cy="135360"/>
              </a:xfrm>
              <a:custGeom>
                <a:avLst/>
                <a:gdLst/>
                <a:ahLst/>
                <a:rect l="l" t="t" r="r" b="b"/>
                <a:pathLst>
                  <a:path w="330" h="311">
                    <a:moveTo>
                      <a:pt x="0" y="288"/>
                    </a:moveTo>
                    <a:cubicBezTo>
                      <a:pt x="16" y="257"/>
                      <a:pt x="17" y="229"/>
                      <a:pt x="42" y="204"/>
                    </a:cubicBezTo>
                    <a:cubicBezTo>
                      <a:pt x="48" y="186"/>
                      <a:pt x="47" y="163"/>
                      <a:pt x="60" y="150"/>
                    </a:cubicBezTo>
                    <a:cubicBezTo>
                      <a:pt x="71" y="139"/>
                      <a:pt x="99" y="115"/>
                      <a:pt x="108" y="96"/>
                    </a:cubicBezTo>
                    <a:cubicBezTo>
                      <a:pt x="122" y="64"/>
                      <a:pt x="120" y="12"/>
                      <a:pt x="156" y="0"/>
                    </a:cubicBezTo>
                    <a:cubicBezTo>
                      <a:pt x="199" y="29"/>
                      <a:pt x="213" y="74"/>
                      <a:pt x="228" y="120"/>
                    </a:cubicBezTo>
                    <a:cubicBezTo>
                      <a:pt x="236" y="145"/>
                      <a:pt x="246" y="163"/>
                      <a:pt x="258" y="186"/>
                    </a:cubicBezTo>
                    <a:cubicBezTo>
                      <a:pt x="261" y="192"/>
                      <a:pt x="259" y="200"/>
                      <a:pt x="264" y="204"/>
                    </a:cubicBezTo>
                    <a:cubicBezTo>
                      <a:pt x="274" y="211"/>
                      <a:pt x="288" y="212"/>
                      <a:pt x="300" y="216"/>
                    </a:cubicBezTo>
                    <a:cubicBezTo>
                      <a:pt x="307" y="238"/>
                      <a:pt x="317" y="257"/>
                      <a:pt x="330" y="276"/>
                    </a:cubicBezTo>
                    <a:cubicBezTo>
                      <a:pt x="224" y="311"/>
                      <a:pt x="110" y="297"/>
                      <a:pt x="0" y="288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2923200" y="2247840"/>
                <a:ext cx="66600" cy="55080"/>
              </a:xfrm>
              <a:custGeom>
                <a:avLst/>
                <a:gdLst/>
                <a:ahLst/>
                <a:rect l="l" t="t" r="r" b="b"/>
                <a:pathLst>
                  <a:path w="132" h="127">
                    <a:moveTo>
                      <a:pt x="0" y="114"/>
                    </a:moveTo>
                    <a:cubicBezTo>
                      <a:pt x="12" y="77"/>
                      <a:pt x="19" y="14"/>
                      <a:pt x="60" y="0"/>
                    </a:cubicBezTo>
                    <a:cubicBezTo>
                      <a:pt x="77" y="26"/>
                      <a:pt x="81" y="48"/>
                      <a:pt x="108" y="66"/>
                    </a:cubicBezTo>
                    <a:cubicBezTo>
                      <a:pt x="124" y="114"/>
                      <a:pt x="132" y="104"/>
                      <a:pt x="84" y="96"/>
                    </a:cubicBezTo>
                    <a:cubicBezTo>
                      <a:pt x="80" y="93"/>
                      <a:pt x="56" y="75"/>
                      <a:pt x="48" y="78"/>
                    </a:cubicBezTo>
                    <a:cubicBezTo>
                      <a:pt x="41" y="81"/>
                      <a:pt x="41" y="90"/>
                      <a:pt x="36" y="96"/>
                    </a:cubicBezTo>
                    <a:cubicBezTo>
                      <a:pt x="27" y="106"/>
                      <a:pt x="0" y="127"/>
                      <a:pt x="0" y="1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9360" bIns="93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6" name=""/>
          <p:cNvSpPr/>
          <p:nvPr/>
        </p:nvSpPr>
        <p:spPr>
          <a:xfrm>
            <a:off x="6494400" y="5380200"/>
            <a:ext cx="720720" cy="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Lago Titicac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638720" y="5420520"/>
            <a:ext cx="138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GASODUC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869840" y="5712480"/>
            <a:ext cx="14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POLIDUCTO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487840" y="4084560"/>
            <a:ext cx="176220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LANTAS  de SEPARACION 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RIOGÉNIC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174840" y="5030640"/>
            <a:ext cx="190044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3333cc"/>
                </a:solidFill>
                <a:latin typeface="Arial"/>
              </a:rPr>
              <a:t>PLANTA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3333cc"/>
                </a:solidFill>
                <a:latin typeface="Arial"/>
              </a:rPr>
              <a:t>FRACCIONAMIENT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rot="16095000">
            <a:off x="1648080" y="5338800"/>
            <a:ext cx="71640" cy="406440"/>
          </a:xfrm>
          <a:prstGeom prst="can">
            <a:avLst>
              <a:gd name="adj" fmla="val 5726"/>
            </a:avLst>
          </a:prstGeom>
          <a:gradFill rotWithShape="0">
            <a:gsLst>
              <a:gs pos="0">
                <a:srgbClr val="ff0066"/>
              </a:gs>
              <a:gs pos="100000">
                <a:srgbClr val="75002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rot="16152600">
            <a:off x="1666440" y="5666760"/>
            <a:ext cx="71640" cy="392040"/>
          </a:xfrm>
          <a:prstGeom prst="can">
            <a:avLst>
              <a:gd name="adj" fmla="val 5726"/>
            </a:avLst>
          </a:prstGeom>
          <a:gradFill rotWithShape="0">
            <a:gsLst>
              <a:gs pos="0">
                <a:srgbClr val="b2b2b2"/>
              </a:gs>
              <a:gs pos="100000">
                <a:srgbClr val="52525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4183560" y="3919680"/>
            <a:ext cx="1571400" cy="964080"/>
            <a:chOff x="4183560" y="3919680"/>
            <a:chExt cx="1571400" cy="964080"/>
          </a:xfrm>
        </p:grpSpPr>
        <p:sp>
          <p:nvSpPr>
            <p:cNvPr id="204" name=""/>
            <p:cNvSpPr/>
            <p:nvPr/>
          </p:nvSpPr>
          <p:spPr>
            <a:xfrm rot="12992400">
              <a:off x="5434560" y="4020840"/>
              <a:ext cx="71640" cy="636480"/>
            </a:xfrm>
            <a:prstGeom prst="can">
              <a:avLst>
                <a:gd name="adj" fmla="val 5726"/>
              </a:avLst>
            </a:prstGeom>
            <a:gradFill rotWithShape="0">
              <a:gsLst>
                <a:gs pos="0">
                  <a:srgbClr val="ff0066"/>
                </a:gs>
                <a:gs pos="100000">
                  <a:srgbClr val="75002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rot="14901600">
              <a:off x="4946760" y="4356360"/>
              <a:ext cx="87480" cy="711000"/>
            </a:xfrm>
            <a:prstGeom prst="can">
              <a:avLst>
                <a:gd name="adj" fmla="val 0"/>
              </a:avLst>
            </a:prstGeom>
            <a:gradFill rotWithShape="0">
              <a:gsLst>
                <a:gs pos="0">
                  <a:srgbClr val="ff0066"/>
                </a:gs>
                <a:gs pos="100000">
                  <a:srgbClr val="75002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 rot="18835800">
              <a:off x="4430160" y="4221360"/>
              <a:ext cx="71280" cy="715680"/>
            </a:xfrm>
            <a:prstGeom prst="can">
              <a:avLst>
                <a:gd name="adj" fmla="val 5726"/>
              </a:avLst>
            </a:prstGeom>
            <a:gradFill rotWithShape="0">
              <a:gsLst>
                <a:gs pos="0">
                  <a:srgbClr val="ff0066"/>
                </a:gs>
                <a:gs pos="100000">
                  <a:srgbClr val="75002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 rot="18471600">
              <a:off x="5183280" y="4092480"/>
              <a:ext cx="573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G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4509360" y="4139280"/>
            <a:ext cx="1398600" cy="1018080"/>
            <a:chOff x="4509360" y="4139280"/>
            <a:chExt cx="1398600" cy="1018080"/>
          </a:xfrm>
        </p:grpSpPr>
        <p:sp>
          <p:nvSpPr>
            <p:cNvPr id="209" name=""/>
            <p:cNvSpPr/>
            <p:nvPr/>
          </p:nvSpPr>
          <p:spPr>
            <a:xfrm rot="12992400">
              <a:off x="5487480" y="4091760"/>
              <a:ext cx="70920" cy="696600"/>
            </a:xfrm>
            <a:prstGeom prst="can">
              <a:avLst>
                <a:gd name="adj" fmla="val 5726"/>
              </a:avLst>
            </a:prstGeom>
            <a:gradFill rotWithShape="0">
              <a:gsLst>
                <a:gs pos="0">
                  <a:srgbClr val="b2b2b2"/>
                </a:gs>
                <a:gs pos="100000">
                  <a:srgbClr val="525252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 rot="14901600">
              <a:off x="4895640" y="4393440"/>
              <a:ext cx="87480" cy="890280"/>
            </a:xfrm>
            <a:prstGeom prst="can">
              <a:avLst>
                <a:gd name="adj" fmla="val 5726"/>
              </a:avLst>
            </a:prstGeom>
            <a:gradFill rotWithShape="0">
              <a:gsLst>
                <a:gs pos="0">
                  <a:srgbClr val="b2b2b2"/>
                </a:gs>
                <a:gs pos="100000">
                  <a:srgbClr val="525252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 rot="20259000">
              <a:off x="4943520" y="4710960"/>
              <a:ext cx="94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LIQUID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4357800" y="4780080"/>
            <a:ext cx="385560" cy="26352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5649840" y="3833640"/>
            <a:ext cx="385920" cy="29052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4280040" y="4587840"/>
            <a:ext cx="83880" cy="65160"/>
          </a:xfrm>
          <a:custGeom>
            <a:avLst/>
            <a:gdLst/>
            <a:ahLst/>
            <a:rect l="l" t="t" r="r" b="b"/>
            <a:pathLst>
              <a:path w="93" h="99">
                <a:moveTo>
                  <a:pt x="93" y="49"/>
                </a:moveTo>
                <a:lnTo>
                  <a:pt x="79" y="13"/>
                </a:lnTo>
                <a:lnTo>
                  <a:pt x="46" y="0"/>
                </a:lnTo>
                <a:lnTo>
                  <a:pt x="12" y="13"/>
                </a:lnTo>
                <a:lnTo>
                  <a:pt x="0" y="49"/>
                </a:lnTo>
                <a:lnTo>
                  <a:pt x="12" y="84"/>
                </a:lnTo>
                <a:lnTo>
                  <a:pt x="46" y="99"/>
                </a:lnTo>
                <a:lnTo>
                  <a:pt x="79" y="84"/>
                </a:lnTo>
                <a:lnTo>
                  <a:pt x="93" y="49"/>
                </a:lnTo>
                <a:lnTo>
                  <a:pt x="93" y="49"/>
                </a:lnTo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087880" y="3597120"/>
            <a:ext cx="990720" cy="30492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158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8000"/>
                </a:solidFill>
                <a:latin typeface="Arial"/>
              </a:rPr>
              <a:t>CAMISE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1676520" y="4267080"/>
            <a:ext cx="2572920" cy="609480"/>
            <a:chOff x="1676520" y="4267080"/>
            <a:chExt cx="2572920" cy="609480"/>
          </a:xfrm>
        </p:grpSpPr>
        <p:sp>
          <p:nvSpPr>
            <p:cNvPr id="217" name=""/>
            <p:cNvSpPr/>
            <p:nvPr/>
          </p:nvSpPr>
          <p:spPr>
            <a:xfrm>
              <a:off x="3265560" y="4419360"/>
              <a:ext cx="983880" cy="304200"/>
            </a:xfrm>
            <a:prstGeom prst="rightArrow">
              <a:avLst>
                <a:gd name="adj1" fmla="val 50000"/>
                <a:gd name="adj2" fmla="val 80858"/>
              </a:avLst>
            </a:prstGeom>
            <a:solidFill>
              <a:srgbClr val="ffff00"/>
            </a:solidFill>
            <a:ln w="3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676520" y="4267080"/>
              <a:ext cx="1589040" cy="60948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158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800" spc="-1" strike="noStrike">
                  <a:solidFill>
                    <a:srgbClr val="008000"/>
                  </a:solidFill>
                  <a:latin typeface="Arial"/>
                </a:rPr>
                <a:t>PLANTA L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600" spc="-1" strike="noStrike">
                  <a:solidFill>
                    <a:srgbClr val="008000"/>
                  </a:solidFill>
                  <a:latin typeface="Arial"/>
                </a:rPr>
                <a:t>Km 16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9" name=""/>
          <p:cNvSpPr/>
          <p:nvPr/>
        </p:nvSpPr>
        <p:spPr>
          <a:xfrm>
            <a:off x="3581280" y="4724280"/>
            <a:ext cx="838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is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64960" y="257040"/>
            <a:ext cx="762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Ubicación del  </a:t>
            </a: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Proyecto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de L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969119-0E2B-43F1-B434-6D519BD57A30}" type="slidenum">
              <a:t>5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500"/>
                            </p:stCondLst>
                            <p:childTnLst>
                              <p:par>
                                <p:cTn id="15" nodeType="afterEffect" fill="hold" presetClass="entr" presetID="17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3000"/>
                            </p:stCondLst>
                            <p:childTnLst>
                              <p:par>
                                <p:cTn id="22" nodeType="afterEffect" fill="hold" presetClass="entr" presetID="17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4500"/>
                            </p:stCondLst>
                            <p:childTnLst>
                              <p:par>
                                <p:cTn id="2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00000" y="-360"/>
            <a:ext cx="7772400" cy="7621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royecto Camisea: Estructura de Participación</a:t>
            </a:r>
            <a:br>
              <a:rPr sz="3200"/>
            </a:b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28600" y="-76320"/>
            <a:ext cx="8915400" cy="76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28600" y="1219320"/>
            <a:ext cx="3429000" cy="389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240" indent="-5724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00"/>
                </a:solidFill>
                <a:uFillTx/>
                <a:latin typeface="Times New Roman"/>
              </a:rPr>
              <a:t>Upstre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240" indent="-57240">
              <a:lnSpc>
                <a:spcPct val="85000"/>
              </a:lnSpc>
              <a:spcBef>
                <a:spcPts val="7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Inversión a la fecha más de $700 milli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240" indent="-57240">
              <a:lnSpc>
                <a:spcPct val="85000"/>
              </a:lnSpc>
              <a:spcBef>
                <a:spcPts val="7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Lote 88 otorgado en  concesión el 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240" indent="-57240">
              <a:lnSpc>
                <a:spcPct val="85000"/>
              </a:lnSpc>
              <a:spcBef>
                <a:spcPts val="7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Inicio de las instalaciones/producción: Agosto20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240" indent="-57240">
              <a:lnSpc>
                <a:spcPct val="85000"/>
              </a:lnSpc>
              <a:spcBef>
                <a:spcPts val="7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Instalaciones incluye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514440" indent="-57240">
              <a:lnSpc>
                <a:spcPct val="85000"/>
              </a:lnSpc>
              <a:spcBef>
                <a:spcPts val="7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5 pozos product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514440" indent="-57240">
              <a:lnSpc>
                <a:spcPct val="85000"/>
              </a:lnSpc>
              <a:spcBef>
                <a:spcPts val="7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3 pozos de re-inyec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514440" indent="-57240">
              <a:lnSpc>
                <a:spcPct val="85000"/>
              </a:lnSpc>
              <a:spcBef>
                <a:spcPts val="7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Planta criogénica en Malvin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514440" indent="-57240">
              <a:lnSpc>
                <a:spcPct val="85000"/>
              </a:lnSpc>
              <a:spcBef>
                <a:spcPts val="7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Planta fraccionadora en Pis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240" indent="-57240">
              <a:lnSpc>
                <a:spcPct val="85000"/>
              </a:lnSpc>
              <a:spcBef>
                <a:spcPts val="7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Hasta inicio de la planta de LNG el gas se vende en el mercado local y se re-inyecta en el reservor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240" indent="-57240">
              <a:lnSpc>
                <a:spcPct val="85000"/>
              </a:lnSpc>
              <a:spcBef>
                <a:spcPts val="7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Líquidos se venden en el mercado local y se exportan. Producción 37,000 bp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240" indent="-57240">
              <a:lnSpc>
                <a:spcPct val="85000"/>
              </a:lnSpc>
              <a:spcBef>
                <a:spcPts val="7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Se requiere instalaciones adicionales para el desarrollo (Cashiriari 2008-2010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240" indent="-57240">
              <a:lnSpc>
                <a:spcPct val="85000"/>
              </a:lnSpc>
              <a:spcBef>
                <a:spcPts val="7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Lote 56.  EIA aprobado en Julio 2005. Sísmica 3D en proces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581280" y="1295280"/>
            <a:ext cx="2971800" cy="341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240" indent="-5724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00"/>
                </a:solidFill>
                <a:uFillTx/>
                <a:latin typeface="Times New Roman"/>
              </a:rPr>
              <a:t>Duc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240" indent="-57240">
              <a:spcBef>
                <a:spcPts val="7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Concesión/BOOT otorgada en 2000 a Transportadora de Gas del Peru’ (TGP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240" indent="-57240">
              <a:spcBef>
                <a:spcPts val="7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Inversión más de $800 millones a la fech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240" indent="-57240">
              <a:spcBef>
                <a:spcPts val="7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729 km ducto de gas a Li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240" indent="-57240">
              <a:spcBef>
                <a:spcPts val="7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558 km ducto de líquidos a Pis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240" indent="-57240">
              <a:spcBef>
                <a:spcPts val="7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Ambos ductos operativos en Agosto 20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240" indent="-57240">
              <a:spcBef>
                <a:spcPts val="7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Upstream tiene contrato TOP para el ducto de líquid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240" indent="-57240">
              <a:spcBef>
                <a:spcPts val="7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Gobierno peruano otorgó garantía para el ducto de ga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240" indent="-57240">
              <a:spcBef>
                <a:spcPts val="75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PeruLNG requiere una expansión del ducto para los volúmenes a transportar para la planta L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477120" y="1295280"/>
            <a:ext cx="2438280" cy="49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00"/>
                </a:solidFill>
                <a:uFillTx/>
                <a:latin typeface="Times New Roman"/>
              </a:rPr>
              <a:t>L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Ubicación a 170 km sur de Lima en Pampa Melchorita, 135 m sobre el nivel del m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Un tren de proceso con potencial para expansión (522-hectárea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Instalaciones marítimas para exportación; construcción de rompeol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Desarrollo de cantera para roca del rompeol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Inicio de Fase I de construcción: Agosto 2005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Fase II se estima iniciar Enero 2006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57200" y="5257800"/>
            <a:ext cx="1676520" cy="11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Pluspetrol </a:t>
            </a: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27.2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00"/>
                </a:solidFill>
                <a:latin typeface="Times New Roman"/>
              </a:rPr>
              <a:t>Hunt </a:t>
            </a:r>
            <a:r>
              <a:rPr b="1" lang="en-US" sz="1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1000" spc="-1" strike="noStrike">
                <a:solidFill>
                  <a:srgbClr val="ffff00"/>
                </a:solidFill>
                <a:latin typeface="Times New Roman"/>
              </a:rPr>
              <a:t>25.2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00"/>
                </a:solidFill>
                <a:latin typeface="Times New Roman"/>
              </a:rPr>
              <a:t>SK</a:t>
            </a:r>
            <a:r>
              <a:rPr b="1" lang="en-US" sz="1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1000" spc="-1" strike="noStrike">
                <a:solidFill>
                  <a:srgbClr val="ffff00"/>
                </a:solidFill>
                <a:latin typeface="Times New Roman"/>
              </a:rPr>
              <a:t>17.6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Sonatrach</a:t>
            </a: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10.0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Tecpetrol</a:t>
            </a: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10.0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00"/>
                </a:solidFill>
                <a:latin typeface="Times New Roman"/>
              </a:rPr>
              <a:t>Repsol</a:t>
            </a:r>
            <a:r>
              <a:rPr b="1" lang="en-US" sz="1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1000" spc="-1" strike="noStrike">
                <a:solidFill>
                  <a:srgbClr val="ffff00"/>
                </a:solidFill>
                <a:latin typeface="Times New Roman"/>
              </a:rPr>
              <a:t>10.0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315200" y="5486400"/>
            <a:ext cx="1295280" cy="7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00"/>
                </a:solidFill>
                <a:latin typeface="Times New Roman"/>
              </a:rPr>
              <a:t>Hunt          50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00"/>
                </a:solidFill>
                <a:latin typeface="Times New Roman"/>
              </a:rPr>
              <a:t>SK             30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00"/>
                </a:solidFill>
                <a:latin typeface="Times New Roman"/>
              </a:rPr>
              <a:t>Repsol       20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114800" y="5105520"/>
            <a:ext cx="2133720" cy="125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Tecgas</a:t>
            </a: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   23.6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Sonatrach</a:t>
            </a: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   21.2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00"/>
                </a:solidFill>
                <a:latin typeface="Times New Roman"/>
              </a:rPr>
              <a:t>Hunt </a:t>
            </a:r>
            <a:r>
              <a:rPr b="1" lang="en-US" sz="1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1000" spc="-1" strike="noStrike">
                <a:solidFill>
                  <a:srgbClr val="ffff00"/>
                </a:solidFill>
                <a:latin typeface="Times New Roman"/>
              </a:rPr>
              <a:t>   12.4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Pluspetrol</a:t>
            </a: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   12.4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00"/>
                </a:solidFill>
                <a:latin typeface="Times New Roman"/>
              </a:rPr>
              <a:t>SK</a:t>
            </a:r>
            <a:r>
              <a:rPr b="1" lang="en-US" sz="1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1000" spc="-1" strike="noStrike">
                <a:solidFill>
                  <a:srgbClr val="ffff00"/>
                </a:solidFill>
                <a:latin typeface="Times New Roman"/>
              </a:rPr>
              <a:t>   11.2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00"/>
                </a:solidFill>
                <a:latin typeface="Times New Roman"/>
              </a:rPr>
              <a:t>Repsol</a:t>
            </a:r>
            <a:r>
              <a:rPr b="1" lang="en-US" sz="1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1000" spc="-1" strike="noStrike">
                <a:solidFill>
                  <a:srgbClr val="ffff00"/>
                </a:solidFill>
                <a:latin typeface="Times New Roman"/>
              </a:rPr>
              <a:t>   10.0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Tractebel</a:t>
            </a: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     8.0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Times New Roman"/>
              </a:rPr>
              <a:t>Grana y Montero      1.2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80880" y="838080"/>
            <a:ext cx="6248520" cy="381240"/>
          </a:xfrm>
          <a:prstGeom prst="rect">
            <a:avLst/>
          </a:prstGeom>
          <a:gradFill rotWithShape="0">
            <a:gsLst>
              <a:gs pos="0">
                <a:srgbClr val="8a8a53"/>
              </a:gs>
              <a:gs pos="50000">
                <a:srgbClr val="ffff99"/>
              </a:gs>
              <a:gs pos="100000">
                <a:srgbClr val="8a8a5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Etapa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086600" y="838080"/>
            <a:ext cx="1752480" cy="381240"/>
          </a:xfrm>
          <a:prstGeom prst="rect">
            <a:avLst/>
          </a:prstGeom>
          <a:gradFill rotWithShape="0">
            <a:gsLst>
              <a:gs pos="0">
                <a:srgbClr val="757546"/>
              </a:gs>
              <a:gs pos="50000">
                <a:srgbClr val="ffff99"/>
              </a:gs>
              <a:gs pos="100000">
                <a:srgbClr val="75754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Etapa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80880" y="5181480"/>
            <a:ext cx="1676520" cy="11430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114800" y="5029200"/>
            <a:ext cx="1676520" cy="13716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238880" y="5410080"/>
            <a:ext cx="1295640" cy="83844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FA6A53-9433-4156-A44F-B5EB843E3D0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1685880" y="2530440"/>
            <a:ext cx="3202200" cy="1654200"/>
          </a:xfrm>
          <a:custGeom>
            <a:avLst/>
            <a:gdLst/>
            <a:ahLst/>
            <a:rect l="l" t="t" r="r" b="b"/>
            <a:pathLst>
              <a:path w="7696" h="3971">
                <a:moveTo>
                  <a:pt x="7696" y="3971"/>
                </a:moveTo>
                <a:lnTo>
                  <a:pt x="7656" y="3907"/>
                </a:lnTo>
                <a:lnTo>
                  <a:pt x="39" y="0"/>
                </a:lnTo>
                <a:lnTo>
                  <a:pt x="0" y="23"/>
                </a:lnTo>
                <a:lnTo>
                  <a:pt x="7696" y="3971"/>
                </a:lnTo>
              </a:path>
            </a:pathLst>
          </a:custGeom>
          <a:noFill/>
          <a:ln w="25560">
            <a:solidFill>
              <a:srgbClr val="66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685880" y="1298520"/>
            <a:ext cx="15840" cy="1241640"/>
          </a:xfrm>
          <a:custGeom>
            <a:avLst/>
            <a:gdLst/>
            <a:ahLst/>
            <a:rect l="l" t="t" r="r" b="b"/>
            <a:pathLst>
              <a:path w="39" h="2990">
                <a:moveTo>
                  <a:pt x="0" y="2990"/>
                </a:moveTo>
                <a:lnTo>
                  <a:pt x="39" y="2967"/>
                </a:lnTo>
                <a:lnTo>
                  <a:pt x="39" y="65"/>
                </a:lnTo>
                <a:lnTo>
                  <a:pt x="0" y="0"/>
                </a:lnTo>
                <a:lnTo>
                  <a:pt x="0" y="2990"/>
                </a:lnTo>
              </a:path>
            </a:pathLst>
          </a:custGeom>
          <a:noFill/>
          <a:ln w="25560">
            <a:solidFill>
              <a:srgbClr val="66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85880" y="1298520"/>
            <a:ext cx="3202200" cy="1650960"/>
          </a:xfrm>
          <a:custGeom>
            <a:avLst/>
            <a:gdLst/>
            <a:ahLst/>
            <a:rect l="l" t="t" r="r" b="b"/>
            <a:pathLst>
              <a:path w="7696" h="3973">
                <a:moveTo>
                  <a:pt x="0" y="0"/>
                </a:moveTo>
                <a:lnTo>
                  <a:pt x="39" y="65"/>
                </a:lnTo>
                <a:lnTo>
                  <a:pt x="7656" y="3973"/>
                </a:lnTo>
                <a:lnTo>
                  <a:pt x="7696" y="3948"/>
                </a:lnTo>
                <a:lnTo>
                  <a:pt x="0" y="0"/>
                </a:lnTo>
              </a:path>
            </a:pathLst>
          </a:custGeom>
          <a:noFill/>
          <a:ln w="25560">
            <a:solidFill>
              <a:srgbClr val="66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447840" y="1222200"/>
            <a:ext cx="8381880" cy="4972320"/>
            <a:chOff x="447840" y="1222200"/>
            <a:chExt cx="8381880" cy="4972320"/>
          </a:xfrm>
        </p:grpSpPr>
        <p:sp>
          <p:nvSpPr>
            <p:cNvPr id="238" name=""/>
            <p:cNvSpPr/>
            <p:nvPr/>
          </p:nvSpPr>
          <p:spPr>
            <a:xfrm>
              <a:off x="447840" y="1222200"/>
              <a:ext cx="8381880" cy="4972320"/>
            </a:xfrm>
            <a:prstGeom prst="rect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515200" y="3836880"/>
              <a:ext cx="73080" cy="71640"/>
            </a:xfrm>
            <a:custGeom>
              <a:avLst/>
              <a:gdLst/>
              <a:ahLst/>
              <a:rect l="l" t="t" r="r" b="b"/>
              <a:pathLst>
                <a:path w="317" h="319">
                  <a:moveTo>
                    <a:pt x="317" y="159"/>
                  </a:moveTo>
                  <a:lnTo>
                    <a:pt x="271" y="47"/>
                  </a:lnTo>
                  <a:lnTo>
                    <a:pt x="158" y="0"/>
                  </a:lnTo>
                  <a:lnTo>
                    <a:pt x="46" y="47"/>
                  </a:lnTo>
                  <a:lnTo>
                    <a:pt x="0" y="159"/>
                  </a:lnTo>
                  <a:lnTo>
                    <a:pt x="46" y="272"/>
                  </a:lnTo>
                  <a:lnTo>
                    <a:pt x="158" y="319"/>
                  </a:lnTo>
                  <a:lnTo>
                    <a:pt x="271" y="272"/>
                  </a:lnTo>
                  <a:lnTo>
                    <a:pt x="317" y="159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507280" y="3828960"/>
              <a:ext cx="88920" cy="87480"/>
            </a:xfrm>
            <a:custGeom>
              <a:avLst/>
              <a:gdLst/>
              <a:ahLst/>
              <a:rect l="l" t="t" r="r" b="b"/>
              <a:pathLst>
                <a:path w="391" h="390">
                  <a:moveTo>
                    <a:pt x="391" y="195"/>
                  </a:moveTo>
                  <a:lnTo>
                    <a:pt x="334" y="58"/>
                  </a:lnTo>
                  <a:lnTo>
                    <a:pt x="195" y="0"/>
                  </a:lnTo>
                  <a:lnTo>
                    <a:pt x="57" y="58"/>
                  </a:lnTo>
                  <a:lnTo>
                    <a:pt x="0" y="195"/>
                  </a:lnTo>
                  <a:lnTo>
                    <a:pt x="57" y="333"/>
                  </a:lnTo>
                  <a:lnTo>
                    <a:pt x="195" y="390"/>
                  </a:lnTo>
                  <a:lnTo>
                    <a:pt x="334" y="333"/>
                  </a:lnTo>
                  <a:lnTo>
                    <a:pt x="391" y="195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 flipV="1">
              <a:off x="4440240" y="3492000"/>
              <a:ext cx="2700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440240" y="3570120"/>
              <a:ext cx="27000" cy="27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449960" y="3544920"/>
              <a:ext cx="38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054680" y="4610160"/>
              <a:ext cx="85680" cy="17280"/>
            </a:xfrm>
            <a:custGeom>
              <a:avLst/>
              <a:gdLst/>
              <a:ahLst/>
              <a:rect l="l" t="t" r="r" b="b"/>
              <a:pathLst>
                <a:path w="375" h="77">
                  <a:moveTo>
                    <a:pt x="0" y="0"/>
                  </a:moveTo>
                  <a:lnTo>
                    <a:pt x="187" y="77"/>
                  </a:lnTo>
                  <a:lnTo>
                    <a:pt x="37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054680" y="4610160"/>
              <a:ext cx="85680" cy="17280"/>
            </a:xfrm>
            <a:custGeom>
              <a:avLst/>
              <a:gdLst/>
              <a:ahLst/>
              <a:rect l="l" t="t" r="r" b="b"/>
              <a:pathLst>
                <a:path w="375" h="77">
                  <a:moveTo>
                    <a:pt x="0" y="0"/>
                  </a:moveTo>
                  <a:lnTo>
                    <a:pt x="187" y="77"/>
                  </a:lnTo>
                  <a:lnTo>
                    <a:pt x="375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00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054680" y="4595760"/>
              <a:ext cx="85680" cy="14400"/>
            </a:xfrm>
            <a:custGeom>
              <a:avLst/>
              <a:gdLst/>
              <a:ahLst/>
              <a:rect l="l" t="t" r="r" b="b"/>
              <a:pathLst>
                <a:path w="375" h="68">
                  <a:moveTo>
                    <a:pt x="187" y="0"/>
                  </a:moveTo>
                  <a:lnTo>
                    <a:pt x="0" y="68"/>
                  </a:lnTo>
                  <a:lnTo>
                    <a:pt x="375" y="68"/>
                  </a:lnTo>
                  <a:lnTo>
                    <a:pt x="187" y="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054680" y="4595760"/>
              <a:ext cx="85680" cy="14400"/>
            </a:xfrm>
            <a:custGeom>
              <a:avLst/>
              <a:gdLst/>
              <a:ahLst/>
              <a:rect l="l" t="t" r="r" b="b"/>
              <a:pathLst>
                <a:path w="375" h="68">
                  <a:moveTo>
                    <a:pt x="187" y="0"/>
                  </a:moveTo>
                  <a:lnTo>
                    <a:pt x="0" y="68"/>
                  </a:lnTo>
                  <a:lnTo>
                    <a:pt x="375" y="68"/>
                  </a:lnTo>
                  <a:lnTo>
                    <a:pt x="187" y="0"/>
                  </a:lnTo>
                  <a:close/>
                </a:path>
              </a:pathLst>
            </a:custGeom>
            <a:noFill/>
            <a:ln w="0">
              <a:solidFill>
                <a:srgbClr val="00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097520" y="4587840"/>
              <a:ext cx="42840" cy="22320"/>
            </a:xfrm>
            <a:custGeom>
              <a:avLst/>
              <a:gdLst/>
              <a:ahLst/>
              <a:rect l="l" t="t" r="r" b="b"/>
              <a:pathLst>
                <a:path w="188" h="103">
                  <a:moveTo>
                    <a:pt x="85" y="0"/>
                  </a:moveTo>
                  <a:lnTo>
                    <a:pt x="0" y="35"/>
                  </a:lnTo>
                  <a:lnTo>
                    <a:pt x="188" y="103"/>
                  </a:lnTo>
                  <a:lnTo>
                    <a:pt x="85" y="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097520" y="4587840"/>
              <a:ext cx="42840" cy="22320"/>
            </a:xfrm>
            <a:custGeom>
              <a:avLst/>
              <a:gdLst/>
              <a:ahLst/>
              <a:rect l="l" t="t" r="r" b="b"/>
              <a:pathLst>
                <a:path w="188" h="103">
                  <a:moveTo>
                    <a:pt x="85" y="0"/>
                  </a:moveTo>
                  <a:lnTo>
                    <a:pt x="0" y="35"/>
                  </a:lnTo>
                  <a:lnTo>
                    <a:pt x="188" y="103"/>
                  </a:lnTo>
                  <a:lnTo>
                    <a:pt x="85" y="0"/>
                  </a:lnTo>
                  <a:close/>
                </a:path>
              </a:pathLst>
            </a:custGeom>
            <a:noFill/>
            <a:ln w="0">
              <a:solidFill>
                <a:srgbClr val="00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054680" y="4587840"/>
              <a:ext cx="42840" cy="22320"/>
            </a:xfrm>
            <a:custGeom>
              <a:avLst/>
              <a:gdLst/>
              <a:ahLst/>
              <a:rect l="l" t="t" r="r" b="b"/>
              <a:pathLst>
                <a:path w="187" h="103">
                  <a:moveTo>
                    <a:pt x="103" y="0"/>
                  </a:moveTo>
                  <a:lnTo>
                    <a:pt x="0" y="103"/>
                  </a:lnTo>
                  <a:lnTo>
                    <a:pt x="187" y="35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054680" y="4587840"/>
              <a:ext cx="42840" cy="22320"/>
            </a:xfrm>
            <a:custGeom>
              <a:avLst/>
              <a:gdLst/>
              <a:ahLst/>
              <a:rect l="l" t="t" r="r" b="b"/>
              <a:pathLst>
                <a:path w="187" h="103">
                  <a:moveTo>
                    <a:pt x="103" y="0"/>
                  </a:moveTo>
                  <a:lnTo>
                    <a:pt x="0" y="103"/>
                  </a:lnTo>
                  <a:lnTo>
                    <a:pt x="187" y="35"/>
                  </a:lnTo>
                  <a:lnTo>
                    <a:pt x="103" y="0"/>
                  </a:lnTo>
                  <a:close/>
                </a:path>
              </a:pathLst>
            </a:custGeom>
            <a:noFill/>
            <a:ln w="0">
              <a:solidFill>
                <a:srgbClr val="00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116600" y="4567320"/>
              <a:ext cx="23760" cy="42840"/>
            </a:xfrm>
            <a:custGeom>
              <a:avLst/>
              <a:gdLst/>
              <a:ahLst/>
              <a:rect l="l" t="t" r="r" b="b"/>
              <a:pathLst>
                <a:path w="103" h="188">
                  <a:moveTo>
                    <a:pt x="34" y="0"/>
                  </a:moveTo>
                  <a:lnTo>
                    <a:pt x="0" y="85"/>
                  </a:lnTo>
                  <a:lnTo>
                    <a:pt x="103" y="188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116600" y="4567320"/>
              <a:ext cx="23760" cy="42840"/>
            </a:xfrm>
            <a:custGeom>
              <a:avLst/>
              <a:gdLst/>
              <a:ahLst/>
              <a:rect l="l" t="t" r="r" b="b"/>
              <a:pathLst>
                <a:path w="103" h="188">
                  <a:moveTo>
                    <a:pt x="34" y="0"/>
                  </a:moveTo>
                  <a:lnTo>
                    <a:pt x="0" y="85"/>
                  </a:lnTo>
                  <a:lnTo>
                    <a:pt x="103" y="188"/>
                  </a:lnTo>
                  <a:lnTo>
                    <a:pt x="34" y="0"/>
                  </a:lnTo>
                  <a:close/>
                </a:path>
              </a:pathLst>
            </a:custGeom>
            <a:noFill/>
            <a:ln w="0">
              <a:solidFill>
                <a:srgbClr val="00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124520" y="4567320"/>
              <a:ext cx="33120" cy="42840"/>
            </a:xfrm>
            <a:custGeom>
              <a:avLst/>
              <a:gdLst/>
              <a:ahLst/>
              <a:rect l="l" t="t" r="r" b="b"/>
              <a:pathLst>
                <a:path w="146" h="188">
                  <a:moveTo>
                    <a:pt x="146" y="0"/>
                  </a:moveTo>
                  <a:lnTo>
                    <a:pt x="0" y="0"/>
                  </a:lnTo>
                  <a:lnTo>
                    <a:pt x="69" y="188"/>
                  </a:lnTo>
                  <a:lnTo>
                    <a:pt x="146" y="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124520" y="4567320"/>
              <a:ext cx="33120" cy="42840"/>
            </a:xfrm>
            <a:custGeom>
              <a:avLst/>
              <a:gdLst/>
              <a:ahLst/>
              <a:rect l="l" t="t" r="r" b="b"/>
              <a:pathLst>
                <a:path w="146" h="188">
                  <a:moveTo>
                    <a:pt x="146" y="0"/>
                  </a:moveTo>
                  <a:lnTo>
                    <a:pt x="0" y="0"/>
                  </a:lnTo>
                  <a:lnTo>
                    <a:pt x="69" y="188"/>
                  </a:lnTo>
                  <a:lnTo>
                    <a:pt x="146" y="0"/>
                  </a:lnTo>
                  <a:close/>
                </a:path>
              </a:pathLst>
            </a:custGeom>
            <a:noFill/>
            <a:ln w="0">
              <a:solidFill>
                <a:srgbClr val="00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054680" y="4567320"/>
              <a:ext cx="23760" cy="42840"/>
            </a:xfrm>
            <a:custGeom>
              <a:avLst/>
              <a:gdLst/>
              <a:ahLst/>
              <a:rect l="l" t="t" r="r" b="b"/>
              <a:pathLst>
                <a:path w="103" h="188">
                  <a:moveTo>
                    <a:pt x="68" y="0"/>
                  </a:moveTo>
                  <a:lnTo>
                    <a:pt x="0" y="188"/>
                  </a:lnTo>
                  <a:lnTo>
                    <a:pt x="103" y="85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054680" y="4567320"/>
              <a:ext cx="23760" cy="42840"/>
            </a:xfrm>
            <a:custGeom>
              <a:avLst/>
              <a:gdLst/>
              <a:ahLst/>
              <a:rect l="l" t="t" r="r" b="b"/>
              <a:pathLst>
                <a:path w="103" h="188">
                  <a:moveTo>
                    <a:pt x="68" y="0"/>
                  </a:moveTo>
                  <a:lnTo>
                    <a:pt x="0" y="188"/>
                  </a:lnTo>
                  <a:lnTo>
                    <a:pt x="103" y="85"/>
                  </a:lnTo>
                  <a:lnTo>
                    <a:pt x="68" y="0"/>
                  </a:lnTo>
                  <a:close/>
                </a:path>
              </a:pathLst>
            </a:custGeom>
            <a:noFill/>
            <a:ln w="0">
              <a:solidFill>
                <a:srgbClr val="00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037040" y="4567320"/>
              <a:ext cx="33480" cy="42840"/>
            </a:xfrm>
            <a:custGeom>
              <a:avLst/>
              <a:gdLst/>
              <a:ahLst/>
              <a:rect l="l" t="t" r="r" b="b"/>
              <a:pathLst>
                <a:path w="146" h="188">
                  <a:moveTo>
                    <a:pt x="0" y="0"/>
                  </a:moveTo>
                  <a:lnTo>
                    <a:pt x="78" y="188"/>
                  </a:lnTo>
                  <a:lnTo>
                    <a:pt x="14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037040" y="4567320"/>
              <a:ext cx="33480" cy="42840"/>
            </a:xfrm>
            <a:custGeom>
              <a:avLst/>
              <a:gdLst/>
              <a:ahLst/>
              <a:rect l="l" t="t" r="r" b="b"/>
              <a:pathLst>
                <a:path w="146" h="188">
                  <a:moveTo>
                    <a:pt x="0" y="0"/>
                  </a:moveTo>
                  <a:lnTo>
                    <a:pt x="78" y="188"/>
                  </a:lnTo>
                  <a:lnTo>
                    <a:pt x="146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00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16600" y="4549680"/>
              <a:ext cx="41040" cy="17640"/>
            </a:xfrm>
            <a:custGeom>
              <a:avLst/>
              <a:gdLst/>
              <a:ahLst/>
              <a:rect l="l" t="t" r="r" b="b"/>
              <a:pathLst>
                <a:path w="180" h="83">
                  <a:moveTo>
                    <a:pt x="0" y="0"/>
                  </a:moveTo>
                  <a:lnTo>
                    <a:pt x="34" y="83"/>
                  </a:lnTo>
                  <a:lnTo>
                    <a:pt x="180" y="8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116600" y="4549680"/>
              <a:ext cx="41040" cy="17640"/>
            </a:xfrm>
            <a:custGeom>
              <a:avLst/>
              <a:gdLst/>
              <a:ahLst/>
              <a:rect l="l" t="t" r="r" b="b"/>
              <a:pathLst>
                <a:path w="180" h="83">
                  <a:moveTo>
                    <a:pt x="0" y="0"/>
                  </a:moveTo>
                  <a:lnTo>
                    <a:pt x="34" y="83"/>
                  </a:lnTo>
                  <a:lnTo>
                    <a:pt x="180" y="83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00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037040" y="4549680"/>
              <a:ext cx="41400" cy="17640"/>
            </a:xfrm>
            <a:custGeom>
              <a:avLst/>
              <a:gdLst/>
              <a:ahLst/>
              <a:rect l="l" t="t" r="r" b="b"/>
              <a:pathLst>
                <a:path w="181" h="83">
                  <a:moveTo>
                    <a:pt x="181" y="0"/>
                  </a:moveTo>
                  <a:lnTo>
                    <a:pt x="0" y="83"/>
                  </a:lnTo>
                  <a:lnTo>
                    <a:pt x="146" y="83"/>
                  </a:lnTo>
                  <a:lnTo>
                    <a:pt x="181" y="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037040" y="4549680"/>
              <a:ext cx="41400" cy="17640"/>
            </a:xfrm>
            <a:custGeom>
              <a:avLst/>
              <a:gdLst/>
              <a:ahLst/>
              <a:rect l="l" t="t" r="r" b="b"/>
              <a:pathLst>
                <a:path w="181" h="83">
                  <a:moveTo>
                    <a:pt x="181" y="0"/>
                  </a:moveTo>
                  <a:lnTo>
                    <a:pt x="0" y="83"/>
                  </a:lnTo>
                  <a:lnTo>
                    <a:pt x="146" y="83"/>
                  </a:lnTo>
                  <a:lnTo>
                    <a:pt x="181" y="0"/>
                  </a:lnTo>
                  <a:close/>
                </a:path>
              </a:pathLst>
            </a:custGeom>
            <a:noFill/>
            <a:ln w="0">
              <a:solidFill>
                <a:srgbClr val="00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097520" y="4525920"/>
              <a:ext cx="42840" cy="23760"/>
            </a:xfrm>
            <a:custGeom>
              <a:avLst/>
              <a:gdLst/>
              <a:ahLst/>
              <a:rect l="l" t="t" r="r" b="b"/>
              <a:pathLst>
                <a:path w="188" h="104">
                  <a:moveTo>
                    <a:pt x="188" y="0"/>
                  </a:moveTo>
                  <a:lnTo>
                    <a:pt x="0" y="68"/>
                  </a:lnTo>
                  <a:lnTo>
                    <a:pt x="85" y="104"/>
                  </a:lnTo>
                  <a:lnTo>
                    <a:pt x="188" y="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097520" y="4525920"/>
              <a:ext cx="42840" cy="23760"/>
            </a:xfrm>
            <a:custGeom>
              <a:avLst/>
              <a:gdLst/>
              <a:ahLst/>
              <a:rect l="l" t="t" r="r" b="b"/>
              <a:pathLst>
                <a:path w="188" h="104">
                  <a:moveTo>
                    <a:pt x="188" y="0"/>
                  </a:moveTo>
                  <a:lnTo>
                    <a:pt x="0" y="68"/>
                  </a:lnTo>
                  <a:lnTo>
                    <a:pt x="85" y="104"/>
                  </a:lnTo>
                  <a:lnTo>
                    <a:pt x="188" y="0"/>
                  </a:lnTo>
                  <a:close/>
                </a:path>
              </a:pathLst>
            </a:custGeom>
            <a:noFill/>
            <a:ln w="0">
              <a:solidFill>
                <a:srgbClr val="00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116600" y="4525920"/>
              <a:ext cx="41040" cy="41400"/>
            </a:xfrm>
            <a:custGeom>
              <a:avLst/>
              <a:gdLst/>
              <a:ahLst/>
              <a:rect l="l" t="t" r="r" b="b"/>
              <a:pathLst>
                <a:path w="180" h="187">
                  <a:moveTo>
                    <a:pt x="103" y="0"/>
                  </a:moveTo>
                  <a:lnTo>
                    <a:pt x="0" y="104"/>
                  </a:lnTo>
                  <a:lnTo>
                    <a:pt x="180" y="187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116600" y="4525920"/>
              <a:ext cx="41040" cy="41400"/>
            </a:xfrm>
            <a:custGeom>
              <a:avLst/>
              <a:gdLst/>
              <a:ahLst/>
              <a:rect l="l" t="t" r="r" b="b"/>
              <a:pathLst>
                <a:path w="180" h="187">
                  <a:moveTo>
                    <a:pt x="103" y="0"/>
                  </a:moveTo>
                  <a:lnTo>
                    <a:pt x="0" y="104"/>
                  </a:lnTo>
                  <a:lnTo>
                    <a:pt x="180" y="187"/>
                  </a:lnTo>
                  <a:lnTo>
                    <a:pt x="103" y="0"/>
                  </a:lnTo>
                  <a:close/>
                </a:path>
              </a:pathLst>
            </a:custGeom>
            <a:noFill/>
            <a:ln w="0">
              <a:solidFill>
                <a:srgbClr val="00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054680" y="4525920"/>
              <a:ext cx="85680" cy="14400"/>
            </a:xfrm>
            <a:custGeom>
              <a:avLst/>
              <a:gdLst/>
              <a:ahLst/>
              <a:rect l="l" t="t" r="r" b="b"/>
              <a:pathLst>
                <a:path w="375" h="68">
                  <a:moveTo>
                    <a:pt x="0" y="0"/>
                  </a:moveTo>
                  <a:lnTo>
                    <a:pt x="187" y="68"/>
                  </a:lnTo>
                  <a:lnTo>
                    <a:pt x="37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054680" y="4525920"/>
              <a:ext cx="85680" cy="14400"/>
            </a:xfrm>
            <a:custGeom>
              <a:avLst/>
              <a:gdLst/>
              <a:ahLst/>
              <a:rect l="l" t="t" r="r" b="b"/>
              <a:pathLst>
                <a:path w="375" h="68">
                  <a:moveTo>
                    <a:pt x="0" y="0"/>
                  </a:moveTo>
                  <a:lnTo>
                    <a:pt x="187" y="68"/>
                  </a:lnTo>
                  <a:lnTo>
                    <a:pt x="375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00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054680" y="4525920"/>
              <a:ext cx="42840" cy="23760"/>
            </a:xfrm>
            <a:custGeom>
              <a:avLst/>
              <a:gdLst/>
              <a:ahLst/>
              <a:rect l="l" t="t" r="r" b="b"/>
              <a:pathLst>
                <a:path w="187" h="104">
                  <a:moveTo>
                    <a:pt x="0" y="0"/>
                  </a:moveTo>
                  <a:lnTo>
                    <a:pt x="103" y="104"/>
                  </a:lnTo>
                  <a:lnTo>
                    <a:pt x="187" y="6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054680" y="4525920"/>
              <a:ext cx="42840" cy="23760"/>
            </a:xfrm>
            <a:custGeom>
              <a:avLst/>
              <a:gdLst/>
              <a:ahLst/>
              <a:rect l="l" t="t" r="r" b="b"/>
              <a:pathLst>
                <a:path w="187" h="104">
                  <a:moveTo>
                    <a:pt x="0" y="0"/>
                  </a:moveTo>
                  <a:lnTo>
                    <a:pt x="103" y="104"/>
                  </a:lnTo>
                  <a:lnTo>
                    <a:pt x="187" y="68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00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037040" y="4525920"/>
              <a:ext cx="41400" cy="41400"/>
            </a:xfrm>
            <a:custGeom>
              <a:avLst/>
              <a:gdLst/>
              <a:ahLst/>
              <a:rect l="l" t="t" r="r" b="b"/>
              <a:pathLst>
                <a:path w="181" h="187">
                  <a:moveTo>
                    <a:pt x="78" y="0"/>
                  </a:moveTo>
                  <a:lnTo>
                    <a:pt x="0" y="187"/>
                  </a:lnTo>
                  <a:lnTo>
                    <a:pt x="181" y="104"/>
                  </a:lnTo>
                  <a:lnTo>
                    <a:pt x="78" y="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037040" y="4525920"/>
              <a:ext cx="41400" cy="41400"/>
            </a:xfrm>
            <a:custGeom>
              <a:avLst/>
              <a:gdLst/>
              <a:ahLst/>
              <a:rect l="l" t="t" r="r" b="b"/>
              <a:pathLst>
                <a:path w="181" h="187">
                  <a:moveTo>
                    <a:pt x="78" y="0"/>
                  </a:moveTo>
                  <a:lnTo>
                    <a:pt x="0" y="187"/>
                  </a:lnTo>
                  <a:lnTo>
                    <a:pt x="181" y="104"/>
                  </a:lnTo>
                  <a:lnTo>
                    <a:pt x="78" y="0"/>
                  </a:lnTo>
                  <a:close/>
                </a:path>
              </a:pathLst>
            </a:custGeom>
            <a:noFill/>
            <a:ln w="0">
              <a:solidFill>
                <a:srgbClr val="00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054680" y="4508280"/>
              <a:ext cx="85680" cy="17640"/>
            </a:xfrm>
            <a:custGeom>
              <a:avLst/>
              <a:gdLst/>
              <a:ahLst/>
              <a:rect l="l" t="t" r="r" b="b"/>
              <a:pathLst>
                <a:path w="375" h="78">
                  <a:moveTo>
                    <a:pt x="187" y="0"/>
                  </a:moveTo>
                  <a:lnTo>
                    <a:pt x="0" y="78"/>
                  </a:lnTo>
                  <a:lnTo>
                    <a:pt x="375" y="78"/>
                  </a:lnTo>
                  <a:lnTo>
                    <a:pt x="187" y="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054680" y="4508280"/>
              <a:ext cx="85680" cy="17640"/>
            </a:xfrm>
            <a:custGeom>
              <a:avLst/>
              <a:gdLst/>
              <a:ahLst/>
              <a:rect l="l" t="t" r="r" b="b"/>
              <a:pathLst>
                <a:path w="375" h="78">
                  <a:moveTo>
                    <a:pt x="187" y="0"/>
                  </a:moveTo>
                  <a:lnTo>
                    <a:pt x="0" y="78"/>
                  </a:lnTo>
                  <a:lnTo>
                    <a:pt x="375" y="78"/>
                  </a:lnTo>
                  <a:lnTo>
                    <a:pt x="187" y="0"/>
                  </a:lnTo>
                  <a:close/>
                </a:path>
              </a:pathLst>
            </a:custGeom>
            <a:noFill/>
            <a:ln w="0">
              <a:solidFill>
                <a:srgbClr val="00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076640" y="4540320"/>
              <a:ext cx="47880" cy="27000"/>
            </a:xfrm>
            <a:custGeom>
              <a:avLst/>
              <a:gdLst/>
              <a:ahLst/>
              <a:rect l="l" t="t" r="r" b="b"/>
              <a:pathLst>
                <a:path w="210" h="119">
                  <a:moveTo>
                    <a:pt x="210" y="119"/>
                  </a:moveTo>
                  <a:lnTo>
                    <a:pt x="176" y="36"/>
                  </a:lnTo>
                  <a:lnTo>
                    <a:pt x="91" y="0"/>
                  </a:lnTo>
                  <a:lnTo>
                    <a:pt x="7" y="36"/>
                  </a:lnTo>
                  <a:lnTo>
                    <a:pt x="0" y="52"/>
                  </a:lnTo>
                </a:path>
              </a:pathLst>
            </a:custGeom>
            <a:noFill/>
            <a:ln w="0">
              <a:solidFill>
                <a:srgbClr val="00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070520" y="4567320"/>
              <a:ext cx="47520" cy="28440"/>
            </a:xfrm>
            <a:custGeom>
              <a:avLst/>
              <a:gdLst/>
              <a:ahLst/>
              <a:rect l="l" t="t" r="r" b="b"/>
              <a:pathLst>
                <a:path w="211" h="120">
                  <a:moveTo>
                    <a:pt x="0" y="0"/>
                  </a:moveTo>
                  <a:lnTo>
                    <a:pt x="35" y="85"/>
                  </a:lnTo>
                  <a:lnTo>
                    <a:pt x="119" y="120"/>
                  </a:lnTo>
                  <a:lnTo>
                    <a:pt x="204" y="85"/>
                  </a:lnTo>
                  <a:lnTo>
                    <a:pt x="211" y="68"/>
                  </a:lnTo>
                </a:path>
              </a:pathLst>
            </a:custGeom>
            <a:noFill/>
            <a:ln w="0">
              <a:solidFill>
                <a:srgbClr val="00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124520" y="4567320"/>
              <a:ext cx="1440" cy="1440"/>
            </a:xfrm>
            <a:prstGeom prst="line">
              <a:avLst/>
            </a:prstGeom>
            <a:ln w="0">
              <a:solidFill>
                <a:srgbClr val="00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471920" y="3368520"/>
              <a:ext cx="28800" cy="84240"/>
            </a:xfrm>
            <a:custGeom>
              <a:avLst/>
              <a:gdLst/>
              <a:ahLst/>
              <a:rect l="l" t="t" r="r" b="b"/>
              <a:pathLst>
                <a:path w="130" h="367">
                  <a:moveTo>
                    <a:pt x="130" y="88"/>
                  </a:moveTo>
                  <a:lnTo>
                    <a:pt x="122" y="53"/>
                  </a:lnTo>
                  <a:lnTo>
                    <a:pt x="104" y="19"/>
                  </a:lnTo>
                  <a:lnTo>
                    <a:pt x="87" y="0"/>
                  </a:lnTo>
                  <a:lnTo>
                    <a:pt x="52" y="0"/>
                  </a:lnTo>
                  <a:lnTo>
                    <a:pt x="34" y="19"/>
                  </a:lnTo>
                  <a:lnTo>
                    <a:pt x="17" y="53"/>
                  </a:lnTo>
                  <a:lnTo>
                    <a:pt x="8" y="88"/>
                  </a:lnTo>
                  <a:lnTo>
                    <a:pt x="0" y="141"/>
                  </a:lnTo>
                  <a:lnTo>
                    <a:pt x="0" y="228"/>
                  </a:lnTo>
                  <a:lnTo>
                    <a:pt x="8" y="281"/>
                  </a:lnTo>
                  <a:lnTo>
                    <a:pt x="17" y="316"/>
                  </a:lnTo>
                  <a:lnTo>
                    <a:pt x="34" y="350"/>
                  </a:lnTo>
                  <a:lnTo>
                    <a:pt x="52" y="367"/>
                  </a:lnTo>
                  <a:lnTo>
                    <a:pt x="87" y="367"/>
                  </a:lnTo>
                  <a:lnTo>
                    <a:pt x="104" y="350"/>
                  </a:lnTo>
                  <a:lnTo>
                    <a:pt x="122" y="316"/>
                  </a:lnTo>
                  <a:lnTo>
                    <a:pt x="130" y="281"/>
                  </a:lnTo>
                  <a:lnTo>
                    <a:pt x="130" y="228"/>
                  </a:lnTo>
                  <a:lnTo>
                    <a:pt x="87" y="22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513320" y="3368520"/>
              <a:ext cx="31680" cy="84240"/>
            </a:xfrm>
            <a:custGeom>
              <a:avLst/>
              <a:gdLst/>
              <a:ahLst/>
              <a:rect l="l" t="t" r="r" b="b"/>
              <a:pathLst>
                <a:path w="139" h="367">
                  <a:moveTo>
                    <a:pt x="52" y="0"/>
                  </a:moveTo>
                  <a:lnTo>
                    <a:pt x="35" y="19"/>
                  </a:lnTo>
                  <a:lnTo>
                    <a:pt x="17" y="53"/>
                  </a:lnTo>
                  <a:lnTo>
                    <a:pt x="9" y="88"/>
                  </a:lnTo>
                  <a:lnTo>
                    <a:pt x="0" y="141"/>
                  </a:lnTo>
                  <a:lnTo>
                    <a:pt x="0" y="228"/>
                  </a:lnTo>
                  <a:lnTo>
                    <a:pt x="9" y="281"/>
                  </a:lnTo>
                  <a:lnTo>
                    <a:pt x="17" y="316"/>
                  </a:lnTo>
                  <a:lnTo>
                    <a:pt x="35" y="350"/>
                  </a:lnTo>
                  <a:lnTo>
                    <a:pt x="52" y="367"/>
                  </a:lnTo>
                  <a:lnTo>
                    <a:pt x="87" y="367"/>
                  </a:lnTo>
                  <a:lnTo>
                    <a:pt x="105" y="350"/>
                  </a:lnTo>
                  <a:lnTo>
                    <a:pt x="122" y="316"/>
                  </a:lnTo>
                  <a:lnTo>
                    <a:pt x="131" y="281"/>
                  </a:lnTo>
                  <a:lnTo>
                    <a:pt x="139" y="228"/>
                  </a:lnTo>
                  <a:lnTo>
                    <a:pt x="139" y="141"/>
                  </a:lnTo>
                  <a:lnTo>
                    <a:pt x="131" y="88"/>
                  </a:lnTo>
                  <a:lnTo>
                    <a:pt x="122" y="53"/>
                  </a:lnTo>
                  <a:lnTo>
                    <a:pt x="105" y="19"/>
                  </a:lnTo>
                  <a:lnTo>
                    <a:pt x="87" y="0"/>
                  </a:lnTo>
                  <a:lnTo>
                    <a:pt x="52" y="0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>
              <a:off x="7178400" y="1222200"/>
              <a:ext cx="11160" cy="4284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148360" y="4381560"/>
              <a:ext cx="3473280" cy="274680"/>
            </a:xfrm>
            <a:custGeom>
              <a:avLst/>
              <a:gdLst/>
              <a:ahLst/>
              <a:rect l="l" t="t" r="r" b="b"/>
              <a:pathLst>
                <a:path w="15316" h="1213">
                  <a:moveTo>
                    <a:pt x="0" y="0"/>
                  </a:moveTo>
                  <a:lnTo>
                    <a:pt x="176" y="65"/>
                  </a:lnTo>
                  <a:lnTo>
                    <a:pt x="554" y="357"/>
                  </a:lnTo>
                  <a:lnTo>
                    <a:pt x="741" y="443"/>
                  </a:lnTo>
                  <a:lnTo>
                    <a:pt x="974" y="408"/>
                  </a:lnTo>
                  <a:lnTo>
                    <a:pt x="845" y="202"/>
                  </a:lnTo>
                  <a:lnTo>
                    <a:pt x="1023" y="129"/>
                  </a:lnTo>
                  <a:lnTo>
                    <a:pt x="1508" y="115"/>
                  </a:lnTo>
                  <a:lnTo>
                    <a:pt x="1713" y="24"/>
                  </a:lnTo>
                  <a:lnTo>
                    <a:pt x="1917" y="128"/>
                  </a:lnTo>
                  <a:lnTo>
                    <a:pt x="1971" y="315"/>
                  </a:lnTo>
                  <a:lnTo>
                    <a:pt x="2138" y="383"/>
                  </a:lnTo>
                  <a:lnTo>
                    <a:pt x="2406" y="553"/>
                  </a:lnTo>
                  <a:lnTo>
                    <a:pt x="2555" y="592"/>
                  </a:lnTo>
                  <a:lnTo>
                    <a:pt x="2706" y="481"/>
                  </a:lnTo>
                  <a:lnTo>
                    <a:pt x="2830" y="90"/>
                  </a:lnTo>
                  <a:lnTo>
                    <a:pt x="3231" y="10"/>
                  </a:lnTo>
                  <a:lnTo>
                    <a:pt x="3548" y="13"/>
                  </a:lnTo>
                  <a:lnTo>
                    <a:pt x="3733" y="184"/>
                  </a:lnTo>
                  <a:lnTo>
                    <a:pt x="3730" y="491"/>
                  </a:lnTo>
                  <a:lnTo>
                    <a:pt x="3791" y="734"/>
                  </a:lnTo>
                  <a:lnTo>
                    <a:pt x="4107" y="878"/>
                  </a:lnTo>
                  <a:lnTo>
                    <a:pt x="4349" y="926"/>
                  </a:lnTo>
                  <a:lnTo>
                    <a:pt x="4693" y="883"/>
                  </a:lnTo>
                  <a:lnTo>
                    <a:pt x="5065" y="1045"/>
                  </a:lnTo>
                  <a:lnTo>
                    <a:pt x="5409" y="1048"/>
                  </a:lnTo>
                  <a:lnTo>
                    <a:pt x="5792" y="941"/>
                  </a:lnTo>
                  <a:lnTo>
                    <a:pt x="6082" y="841"/>
                  </a:lnTo>
                  <a:lnTo>
                    <a:pt x="6503" y="752"/>
                  </a:lnTo>
                  <a:lnTo>
                    <a:pt x="6883" y="820"/>
                  </a:lnTo>
                  <a:lnTo>
                    <a:pt x="7266" y="721"/>
                  </a:lnTo>
                  <a:lnTo>
                    <a:pt x="7590" y="911"/>
                  </a:lnTo>
                  <a:lnTo>
                    <a:pt x="7831" y="1045"/>
                  </a:lnTo>
                  <a:lnTo>
                    <a:pt x="8287" y="1095"/>
                  </a:lnTo>
                  <a:lnTo>
                    <a:pt x="8649" y="1118"/>
                  </a:lnTo>
                  <a:lnTo>
                    <a:pt x="9226" y="1179"/>
                  </a:lnTo>
                  <a:lnTo>
                    <a:pt x="9422" y="1171"/>
                  </a:lnTo>
                  <a:lnTo>
                    <a:pt x="9650" y="772"/>
                  </a:lnTo>
                  <a:lnTo>
                    <a:pt x="9905" y="411"/>
                  </a:lnTo>
                  <a:lnTo>
                    <a:pt x="10334" y="388"/>
                  </a:lnTo>
                  <a:lnTo>
                    <a:pt x="10660" y="391"/>
                  </a:lnTo>
                  <a:lnTo>
                    <a:pt x="11042" y="376"/>
                  </a:lnTo>
                  <a:lnTo>
                    <a:pt x="11237" y="396"/>
                  </a:lnTo>
                  <a:lnTo>
                    <a:pt x="11470" y="418"/>
                  </a:lnTo>
                  <a:lnTo>
                    <a:pt x="11925" y="571"/>
                  </a:lnTo>
                  <a:lnTo>
                    <a:pt x="12166" y="667"/>
                  </a:lnTo>
                  <a:lnTo>
                    <a:pt x="12380" y="715"/>
                  </a:lnTo>
                  <a:lnTo>
                    <a:pt x="12724" y="682"/>
                  </a:lnTo>
                  <a:lnTo>
                    <a:pt x="13135" y="564"/>
                  </a:lnTo>
                  <a:lnTo>
                    <a:pt x="13582" y="569"/>
                  </a:lnTo>
                  <a:lnTo>
                    <a:pt x="14576" y="849"/>
                  </a:lnTo>
                  <a:lnTo>
                    <a:pt x="15095" y="1087"/>
                  </a:lnTo>
                  <a:lnTo>
                    <a:pt x="15316" y="1213"/>
                  </a:lnTo>
                </a:path>
              </a:pathLst>
            </a:custGeom>
            <a:noFill/>
            <a:ln w="0">
              <a:solidFill>
                <a:srgbClr val="00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935520" y="3263760"/>
              <a:ext cx="3416400" cy="2322720"/>
            </a:xfrm>
            <a:custGeom>
              <a:avLst/>
              <a:gdLst/>
              <a:ahLst/>
              <a:rect l="l" t="t" r="r" b="b"/>
              <a:pathLst>
                <a:path w="15061" h="10245">
                  <a:moveTo>
                    <a:pt x="0" y="428"/>
                  </a:moveTo>
                  <a:lnTo>
                    <a:pt x="650" y="774"/>
                  </a:lnTo>
                  <a:lnTo>
                    <a:pt x="854" y="805"/>
                  </a:lnTo>
                  <a:lnTo>
                    <a:pt x="894" y="543"/>
                  </a:lnTo>
                  <a:lnTo>
                    <a:pt x="748" y="337"/>
                  </a:lnTo>
                  <a:lnTo>
                    <a:pt x="677" y="0"/>
                  </a:lnTo>
                  <a:lnTo>
                    <a:pt x="965" y="22"/>
                  </a:lnTo>
                  <a:lnTo>
                    <a:pt x="1110" y="350"/>
                  </a:lnTo>
                  <a:lnTo>
                    <a:pt x="1292" y="818"/>
                  </a:lnTo>
                  <a:lnTo>
                    <a:pt x="1205" y="1051"/>
                  </a:lnTo>
                  <a:lnTo>
                    <a:pt x="1046" y="1133"/>
                  </a:lnTo>
                  <a:lnTo>
                    <a:pt x="998" y="1244"/>
                  </a:lnTo>
                  <a:lnTo>
                    <a:pt x="922" y="1496"/>
                  </a:lnTo>
                  <a:lnTo>
                    <a:pt x="910" y="1664"/>
                  </a:lnTo>
                  <a:lnTo>
                    <a:pt x="895" y="2148"/>
                  </a:lnTo>
                  <a:lnTo>
                    <a:pt x="1137" y="2290"/>
                  </a:lnTo>
                  <a:lnTo>
                    <a:pt x="1377" y="2423"/>
                  </a:lnTo>
                  <a:lnTo>
                    <a:pt x="1486" y="2583"/>
                  </a:lnTo>
                  <a:lnTo>
                    <a:pt x="1372" y="2842"/>
                  </a:lnTo>
                  <a:lnTo>
                    <a:pt x="1350" y="3104"/>
                  </a:lnTo>
                  <a:lnTo>
                    <a:pt x="1321" y="3309"/>
                  </a:lnTo>
                  <a:lnTo>
                    <a:pt x="1023" y="3249"/>
                  </a:lnTo>
                  <a:lnTo>
                    <a:pt x="974" y="3492"/>
                  </a:lnTo>
                  <a:lnTo>
                    <a:pt x="1251" y="3747"/>
                  </a:lnTo>
                  <a:lnTo>
                    <a:pt x="1370" y="3925"/>
                  </a:lnTo>
                  <a:lnTo>
                    <a:pt x="1562" y="4281"/>
                  </a:lnTo>
                  <a:lnTo>
                    <a:pt x="1708" y="4469"/>
                  </a:lnTo>
                  <a:lnTo>
                    <a:pt x="2003" y="4780"/>
                  </a:lnTo>
                  <a:lnTo>
                    <a:pt x="2230" y="4446"/>
                  </a:lnTo>
                  <a:lnTo>
                    <a:pt x="2157" y="4259"/>
                  </a:lnTo>
                  <a:lnTo>
                    <a:pt x="2243" y="4110"/>
                  </a:lnTo>
                  <a:lnTo>
                    <a:pt x="2473" y="4355"/>
                  </a:lnTo>
                  <a:lnTo>
                    <a:pt x="2743" y="4489"/>
                  </a:lnTo>
                  <a:lnTo>
                    <a:pt x="3058" y="4585"/>
                  </a:lnTo>
                  <a:lnTo>
                    <a:pt x="3236" y="4446"/>
                  </a:lnTo>
                  <a:lnTo>
                    <a:pt x="3360" y="4187"/>
                  </a:lnTo>
                  <a:lnTo>
                    <a:pt x="3955" y="4267"/>
                  </a:lnTo>
                  <a:lnTo>
                    <a:pt x="4208" y="4204"/>
                  </a:lnTo>
                  <a:lnTo>
                    <a:pt x="4711" y="4163"/>
                  </a:lnTo>
                  <a:lnTo>
                    <a:pt x="5010" y="4026"/>
                  </a:lnTo>
                  <a:lnTo>
                    <a:pt x="5430" y="3993"/>
                  </a:lnTo>
                  <a:lnTo>
                    <a:pt x="5482" y="4254"/>
                  </a:lnTo>
                  <a:lnTo>
                    <a:pt x="5296" y="4317"/>
                  </a:lnTo>
                  <a:lnTo>
                    <a:pt x="5471" y="4468"/>
                  </a:lnTo>
                  <a:lnTo>
                    <a:pt x="5619" y="4554"/>
                  </a:lnTo>
                  <a:lnTo>
                    <a:pt x="5449" y="4767"/>
                  </a:lnTo>
                  <a:lnTo>
                    <a:pt x="5213" y="5128"/>
                  </a:lnTo>
                  <a:lnTo>
                    <a:pt x="5032" y="5463"/>
                  </a:lnTo>
                  <a:lnTo>
                    <a:pt x="4853" y="5694"/>
                  </a:lnTo>
                  <a:lnTo>
                    <a:pt x="4515" y="5868"/>
                  </a:lnTo>
                  <a:lnTo>
                    <a:pt x="4513" y="6054"/>
                  </a:lnTo>
                  <a:lnTo>
                    <a:pt x="4499" y="6417"/>
                  </a:lnTo>
                  <a:lnTo>
                    <a:pt x="4902" y="6328"/>
                  </a:lnTo>
                  <a:lnTo>
                    <a:pt x="4928" y="6404"/>
                  </a:lnTo>
                  <a:lnTo>
                    <a:pt x="4673" y="6700"/>
                  </a:lnTo>
                  <a:lnTo>
                    <a:pt x="4587" y="6932"/>
                  </a:lnTo>
                  <a:lnTo>
                    <a:pt x="4641" y="7129"/>
                  </a:lnTo>
                  <a:lnTo>
                    <a:pt x="4901" y="7280"/>
                  </a:lnTo>
                  <a:lnTo>
                    <a:pt x="4963" y="7411"/>
                  </a:lnTo>
                  <a:lnTo>
                    <a:pt x="4990" y="7626"/>
                  </a:lnTo>
                  <a:lnTo>
                    <a:pt x="5382" y="7555"/>
                  </a:lnTo>
                  <a:lnTo>
                    <a:pt x="5550" y="7482"/>
                  </a:lnTo>
                  <a:lnTo>
                    <a:pt x="5630" y="7828"/>
                  </a:lnTo>
                  <a:lnTo>
                    <a:pt x="5783" y="8258"/>
                  </a:lnTo>
                  <a:lnTo>
                    <a:pt x="6126" y="8430"/>
                  </a:lnTo>
                  <a:lnTo>
                    <a:pt x="6385" y="8629"/>
                  </a:lnTo>
                  <a:lnTo>
                    <a:pt x="6512" y="8890"/>
                  </a:lnTo>
                  <a:lnTo>
                    <a:pt x="6668" y="9181"/>
                  </a:lnTo>
                  <a:lnTo>
                    <a:pt x="6888" y="9407"/>
                  </a:lnTo>
                  <a:lnTo>
                    <a:pt x="6970" y="9576"/>
                  </a:lnTo>
                  <a:lnTo>
                    <a:pt x="7165" y="9736"/>
                  </a:lnTo>
                  <a:lnTo>
                    <a:pt x="7501" y="9619"/>
                  </a:lnTo>
                  <a:lnTo>
                    <a:pt x="7847" y="9510"/>
                  </a:lnTo>
                  <a:lnTo>
                    <a:pt x="8087" y="9643"/>
                  </a:lnTo>
                  <a:lnTo>
                    <a:pt x="8300" y="9813"/>
                  </a:lnTo>
                  <a:lnTo>
                    <a:pt x="9034" y="9950"/>
                  </a:lnTo>
                  <a:lnTo>
                    <a:pt x="9435" y="9955"/>
                  </a:lnTo>
                  <a:lnTo>
                    <a:pt x="10004" y="9858"/>
                  </a:lnTo>
                  <a:lnTo>
                    <a:pt x="10721" y="9892"/>
                  </a:lnTo>
                  <a:lnTo>
                    <a:pt x="11148" y="9999"/>
                  </a:lnTo>
                  <a:lnTo>
                    <a:pt x="11425" y="10198"/>
                  </a:lnTo>
                  <a:lnTo>
                    <a:pt x="11688" y="10033"/>
                  </a:lnTo>
                  <a:lnTo>
                    <a:pt x="12210" y="9991"/>
                  </a:lnTo>
                  <a:lnTo>
                    <a:pt x="12832" y="10147"/>
                  </a:lnTo>
                  <a:lnTo>
                    <a:pt x="13390" y="10245"/>
                  </a:lnTo>
                  <a:lnTo>
                    <a:pt x="13894" y="10175"/>
                  </a:lnTo>
                  <a:lnTo>
                    <a:pt x="14370" y="10012"/>
                  </a:lnTo>
                  <a:lnTo>
                    <a:pt x="14874" y="9924"/>
                  </a:lnTo>
                  <a:lnTo>
                    <a:pt x="15061" y="9879"/>
                  </a:lnTo>
                </a:path>
              </a:pathLst>
            </a:custGeom>
            <a:noFill/>
            <a:ln w="0">
              <a:solidFill>
                <a:srgbClr val="00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874800" y="1825560"/>
              <a:ext cx="344520" cy="406440"/>
            </a:xfrm>
            <a:custGeom>
              <a:avLst/>
              <a:gdLst/>
              <a:ahLst/>
              <a:rect l="l" t="t" r="r" b="b"/>
              <a:pathLst>
                <a:path w="1524" h="1793">
                  <a:moveTo>
                    <a:pt x="1524" y="1793"/>
                  </a:moveTo>
                  <a:lnTo>
                    <a:pt x="1506" y="1700"/>
                  </a:lnTo>
                  <a:lnTo>
                    <a:pt x="1267" y="1474"/>
                  </a:lnTo>
                  <a:lnTo>
                    <a:pt x="1187" y="1072"/>
                  </a:lnTo>
                  <a:lnTo>
                    <a:pt x="978" y="594"/>
                  </a:lnTo>
                  <a:lnTo>
                    <a:pt x="647" y="227"/>
                  </a:lnTo>
                  <a:lnTo>
                    <a:pt x="268" y="0"/>
                  </a:lnTo>
                  <a:lnTo>
                    <a:pt x="0" y="29"/>
                  </a:lnTo>
                </a:path>
              </a:pathLst>
            </a:custGeom>
            <a:noFill/>
            <a:ln w="0">
              <a:solidFill>
                <a:srgbClr val="00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874800" y="1611360"/>
              <a:ext cx="1209600" cy="1033200"/>
            </a:xfrm>
            <a:custGeom>
              <a:avLst/>
              <a:gdLst/>
              <a:ahLst/>
              <a:rect l="l" t="t" r="r" b="b"/>
              <a:pathLst>
                <a:path w="5335" h="4557">
                  <a:moveTo>
                    <a:pt x="5335" y="0"/>
                  </a:moveTo>
                  <a:lnTo>
                    <a:pt x="4233" y="306"/>
                  </a:lnTo>
                  <a:lnTo>
                    <a:pt x="3599" y="440"/>
                  </a:lnTo>
                  <a:lnTo>
                    <a:pt x="3086" y="407"/>
                  </a:lnTo>
                  <a:lnTo>
                    <a:pt x="2785" y="693"/>
                  </a:lnTo>
                  <a:lnTo>
                    <a:pt x="2587" y="905"/>
                  </a:lnTo>
                  <a:lnTo>
                    <a:pt x="2292" y="669"/>
                  </a:lnTo>
                  <a:lnTo>
                    <a:pt x="2159" y="799"/>
                  </a:lnTo>
                  <a:lnTo>
                    <a:pt x="2606" y="1717"/>
                  </a:lnTo>
                  <a:lnTo>
                    <a:pt x="2595" y="1894"/>
                  </a:lnTo>
                  <a:lnTo>
                    <a:pt x="2342" y="1994"/>
                  </a:lnTo>
                  <a:lnTo>
                    <a:pt x="2037" y="1814"/>
                  </a:lnTo>
                  <a:lnTo>
                    <a:pt x="1819" y="2185"/>
                  </a:lnTo>
                  <a:lnTo>
                    <a:pt x="1741" y="2417"/>
                  </a:lnTo>
                  <a:lnTo>
                    <a:pt x="1804" y="2633"/>
                  </a:lnTo>
                  <a:lnTo>
                    <a:pt x="1394" y="2713"/>
                  </a:lnTo>
                  <a:lnTo>
                    <a:pt x="981" y="2942"/>
                  </a:lnTo>
                  <a:lnTo>
                    <a:pt x="894" y="3295"/>
                  </a:lnTo>
                  <a:lnTo>
                    <a:pt x="452" y="3645"/>
                  </a:lnTo>
                  <a:lnTo>
                    <a:pt x="111" y="4108"/>
                  </a:lnTo>
                  <a:lnTo>
                    <a:pt x="0" y="4557"/>
                  </a:lnTo>
                </a:path>
              </a:pathLst>
            </a:custGeom>
            <a:noFill/>
            <a:ln w="0">
              <a:solidFill>
                <a:srgbClr val="00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874800" y="2557440"/>
              <a:ext cx="1525680" cy="2017800"/>
            </a:xfrm>
            <a:custGeom>
              <a:avLst/>
              <a:gdLst/>
              <a:ahLst/>
              <a:rect l="l" t="t" r="r" b="b"/>
              <a:pathLst>
                <a:path w="6726" h="8894">
                  <a:moveTo>
                    <a:pt x="6726" y="0"/>
                  </a:moveTo>
                  <a:lnTo>
                    <a:pt x="6666" y="111"/>
                  </a:lnTo>
                  <a:lnTo>
                    <a:pt x="6514" y="408"/>
                  </a:lnTo>
                  <a:lnTo>
                    <a:pt x="6133" y="377"/>
                  </a:lnTo>
                  <a:lnTo>
                    <a:pt x="6009" y="618"/>
                  </a:lnTo>
                  <a:lnTo>
                    <a:pt x="5952" y="692"/>
                  </a:lnTo>
                  <a:lnTo>
                    <a:pt x="5873" y="1129"/>
                  </a:lnTo>
                  <a:lnTo>
                    <a:pt x="5620" y="1276"/>
                  </a:lnTo>
                  <a:lnTo>
                    <a:pt x="5508" y="1229"/>
                  </a:lnTo>
                  <a:lnTo>
                    <a:pt x="5180" y="1430"/>
                  </a:lnTo>
                  <a:lnTo>
                    <a:pt x="4911" y="1372"/>
                  </a:lnTo>
                  <a:lnTo>
                    <a:pt x="4603" y="1424"/>
                  </a:lnTo>
                  <a:lnTo>
                    <a:pt x="3986" y="1643"/>
                  </a:lnTo>
                  <a:lnTo>
                    <a:pt x="3667" y="1863"/>
                  </a:lnTo>
                  <a:lnTo>
                    <a:pt x="3370" y="1833"/>
                  </a:lnTo>
                  <a:lnTo>
                    <a:pt x="3258" y="1831"/>
                  </a:lnTo>
                  <a:lnTo>
                    <a:pt x="3209" y="2036"/>
                  </a:lnTo>
                  <a:lnTo>
                    <a:pt x="3244" y="2177"/>
                  </a:lnTo>
                  <a:lnTo>
                    <a:pt x="3165" y="2577"/>
                  </a:lnTo>
                  <a:lnTo>
                    <a:pt x="3235" y="3007"/>
                  </a:lnTo>
                  <a:lnTo>
                    <a:pt x="3297" y="3314"/>
                  </a:lnTo>
                  <a:lnTo>
                    <a:pt x="3302" y="3688"/>
                  </a:lnTo>
                  <a:lnTo>
                    <a:pt x="3162" y="3817"/>
                  </a:lnTo>
                  <a:lnTo>
                    <a:pt x="3018" y="4133"/>
                  </a:lnTo>
                  <a:lnTo>
                    <a:pt x="2763" y="4438"/>
                  </a:lnTo>
                  <a:lnTo>
                    <a:pt x="2573" y="4828"/>
                  </a:lnTo>
                  <a:lnTo>
                    <a:pt x="2232" y="5365"/>
                  </a:lnTo>
                  <a:lnTo>
                    <a:pt x="2094" y="5970"/>
                  </a:lnTo>
                  <a:lnTo>
                    <a:pt x="2085" y="5979"/>
                  </a:lnTo>
                  <a:lnTo>
                    <a:pt x="2073" y="6297"/>
                  </a:lnTo>
                  <a:lnTo>
                    <a:pt x="1799" y="6546"/>
                  </a:lnTo>
                  <a:lnTo>
                    <a:pt x="1683" y="6956"/>
                  </a:lnTo>
                  <a:lnTo>
                    <a:pt x="1514" y="7178"/>
                  </a:lnTo>
                  <a:lnTo>
                    <a:pt x="1129" y="7473"/>
                  </a:lnTo>
                  <a:lnTo>
                    <a:pt x="646" y="8148"/>
                  </a:lnTo>
                  <a:lnTo>
                    <a:pt x="0" y="8894"/>
                  </a:lnTo>
                </a:path>
              </a:pathLst>
            </a:custGeom>
            <a:noFill/>
            <a:ln w="0">
              <a:solidFill>
                <a:srgbClr val="00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471680" y="4890960"/>
              <a:ext cx="198360" cy="1252440"/>
            </a:xfrm>
            <a:custGeom>
              <a:avLst/>
              <a:gdLst/>
              <a:ahLst/>
              <a:rect l="l" t="t" r="r" b="b"/>
              <a:pathLst>
                <a:path w="877" h="5521">
                  <a:moveTo>
                    <a:pt x="635" y="0"/>
                  </a:moveTo>
                  <a:lnTo>
                    <a:pt x="213" y="239"/>
                  </a:lnTo>
                  <a:lnTo>
                    <a:pt x="0" y="1104"/>
                  </a:lnTo>
                  <a:lnTo>
                    <a:pt x="141" y="1776"/>
                  </a:lnTo>
                  <a:lnTo>
                    <a:pt x="153" y="2430"/>
                  </a:lnTo>
                  <a:lnTo>
                    <a:pt x="219" y="3092"/>
                  </a:lnTo>
                  <a:lnTo>
                    <a:pt x="277" y="3737"/>
                  </a:lnTo>
                  <a:lnTo>
                    <a:pt x="355" y="4279"/>
                  </a:lnTo>
                  <a:lnTo>
                    <a:pt x="555" y="4747"/>
                  </a:lnTo>
                  <a:lnTo>
                    <a:pt x="877" y="5133"/>
                  </a:lnTo>
                  <a:lnTo>
                    <a:pt x="827" y="5521"/>
                  </a:lnTo>
                </a:path>
              </a:pathLst>
            </a:custGeom>
            <a:noFill/>
            <a:ln w="0">
              <a:solidFill>
                <a:srgbClr val="00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598760" y="2260440"/>
              <a:ext cx="1073160" cy="3882960"/>
            </a:xfrm>
            <a:custGeom>
              <a:avLst/>
              <a:gdLst/>
              <a:ahLst/>
              <a:rect l="l" t="t" r="r" b="b"/>
              <a:pathLst>
                <a:path w="4728" h="17122">
                  <a:moveTo>
                    <a:pt x="3310" y="0"/>
                  </a:moveTo>
                  <a:lnTo>
                    <a:pt x="3299" y="123"/>
                  </a:lnTo>
                  <a:lnTo>
                    <a:pt x="3334" y="244"/>
                  </a:lnTo>
                  <a:lnTo>
                    <a:pt x="3677" y="407"/>
                  </a:lnTo>
                  <a:lnTo>
                    <a:pt x="3720" y="808"/>
                  </a:lnTo>
                  <a:lnTo>
                    <a:pt x="3253" y="925"/>
                  </a:lnTo>
                  <a:lnTo>
                    <a:pt x="3194" y="1167"/>
                  </a:lnTo>
                  <a:lnTo>
                    <a:pt x="3574" y="1338"/>
                  </a:lnTo>
                  <a:lnTo>
                    <a:pt x="3617" y="1684"/>
                  </a:lnTo>
                  <a:lnTo>
                    <a:pt x="3626" y="1712"/>
                  </a:lnTo>
                  <a:lnTo>
                    <a:pt x="3605" y="1926"/>
                  </a:lnTo>
                  <a:lnTo>
                    <a:pt x="3734" y="2012"/>
                  </a:lnTo>
                  <a:lnTo>
                    <a:pt x="3731" y="2282"/>
                  </a:lnTo>
                  <a:lnTo>
                    <a:pt x="3822" y="2478"/>
                  </a:lnTo>
                  <a:lnTo>
                    <a:pt x="4008" y="2574"/>
                  </a:lnTo>
                  <a:lnTo>
                    <a:pt x="4134" y="2939"/>
                  </a:lnTo>
                  <a:lnTo>
                    <a:pt x="4395" y="2960"/>
                  </a:lnTo>
                  <a:lnTo>
                    <a:pt x="4728" y="3122"/>
                  </a:lnTo>
                  <a:lnTo>
                    <a:pt x="4565" y="3503"/>
                  </a:lnTo>
                  <a:lnTo>
                    <a:pt x="4508" y="3642"/>
                  </a:lnTo>
                  <a:lnTo>
                    <a:pt x="4533" y="3848"/>
                  </a:lnTo>
                  <a:lnTo>
                    <a:pt x="4307" y="4153"/>
                  </a:lnTo>
                  <a:lnTo>
                    <a:pt x="4147" y="4301"/>
                  </a:lnTo>
                  <a:lnTo>
                    <a:pt x="3810" y="4521"/>
                  </a:lnTo>
                  <a:lnTo>
                    <a:pt x="3860" y="4988"/>
                  </a:lnTo>
                  <a:lnTo>
                    <a:pt x="4297" y="5076"/>
                  </a:lnTo>
                  <a:lnTo>
                    <a:pt x="4322" y="5319"/>
                  </a:lnTo>
                  <a:lnTo>
                    <a:pt x="4004" y="5399"/>
                  </a:lnTo>
                  <a:lnTo>
                    <a:pt x="3899" y="5651"/>
                  </a:lnTo>
                  <a:lnTo>
                    <a:pt x="3644" y="5993"/>
                  </a:lnTo>
                  <a:lnTo>
                    <a:pt x="3660" y="6255"/>
                  </a:lnTo>
                  <a:lnTo>
                    <a:pt x="3407" y="6327"/>
                  </a:lnTo>
                  <a:lnTo>
                    <a:pt x="3331" y="6513"/>
                  </a:lnTo>
                  <a:lnTo>
                    <a:pt x="3116" y="6623"/>
                  </a:lnTo>
                  <a:lnTo>
                    <a:pt x="2822" y="7068"/>
                  </a:lnTo>
                  <a:lnTo>
                    <a:pt x="2743" y="7439"/>
                  </a:lnTo>
                  <a:lnTo>
                    <a:pt x="2673" y="7980"/>
                  </a:lnTo>
                  <a:lnTo>
                    <a:pt x="2622" y="8287"/>
                  </a:lnTo>
                  <a:lnTo>
                    <a:pt x="2498" y="8650"/>
                  </a:lnTo>
                  <a:lnTo>
                    <a:pt x="2069" y="8654"/>
                  </a:lnTo>
                  <a:lnTo>
                    <a:pt x="1669" y="8604"/>
                  </a:lnTo>
                  <a:lnTo>
                    <a:pt x="1354" y="9310"/>
                  </a:lnTo>
                  <a:lnTo>
                    <a:pt x="1025" y="9484"/>
                  </a:lnTo>
                  <a:lnTo>
                    <a:pt x="757" y="10218"/>
                  </a:lnTo>
                  <a:lnTo>
                    <a:pt x="239" y="10735"/>
                  </a:lnTo>
                  <a:lnTo>
                    <a:pt x="38" y="11293"/>
                  </a:lnTo>
                  <a:lnTo>
                    <a:pt x="60" y="11853"/>
                  </a:lnTo>
                  <a:lnTo>
                    <a:pt x="0" y="12095"/>
                  </a:lnTo>
                  <a:lnTo>
                    <a:pt x="2" y="12785"/>
                  </a:lnTo>
                  <a:lnTo>
                    <a:pt x="73" y="13112"/>
                  </a:lnTo>
                  <a:lnTo>
                    <a:pt x="406" y="13320"/>
                  </a:lnTo>
                  <a:lnTo>
                    <a:pt x="777" y="13502"/>
                  </a:lnTo>
                  <a:lnTo>
                    <a:pt x="1203" y="13711"/>
                  </a:lnTo>
                  <a:lnTo>
                    <a:pt x="1348" y="14105"/>
                  </a:lnTo>
                  <a:lnTo>
                    <a:pt x="1541" y="14368"/>
                  </a:lnTo>
                  <a:lnTo>
                    <a:pt x="2159" y="14821"/>
                  </a:lnTo>
                  <a:lnTo>
                    <a:pt x="2268" y="15167"/>
                  </a:lnTo>
                  <a:lnTo>
                    <a:pt x="2514" y="15655"/>
                  </a:lnTo>
                  <a:lnTo>
                    <a:pt x="2850" y="16432"/>
                  </a:lnTo>
                  <a:lnTo>
                    <a:pt x="3117" y="16650"/>
                  </a:lnTo>
                  <a:lnTo>
                    <a:pt x="3597" y="17065"/>
                  </a:lnTo>
                  <a:lnTo>
                    <a:pt x="3604" y="17122"/>
                  </a:lnTo>
                </a:path>
              </a:pathLst>
            </a:custGeom>
            <a:noFill/>
            <a:ln w="0">
              <a:solidFill>
                <a:srgbClr val="00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903680" y="1243080"/>
              <a:ext cx="2320920" cy="4900320"/>
            </a:xfrm>
            <a:custGeom>
              <a:avLst/>
              <a:gdLst/>
              <a:ahLst/>
              <a:rect l="l" t="t" r="r" b="b"/>
              <a:pathLst>
                <a:path w="10233" h="21610">
                  <a:moveTo>
                    <a:pt x="10233" y="21610"/>
                  </a:moveTo>
                  <a:lnTo>
                    <a:pt x="10144" y="21546"/>
                  </a:lnTo>
                  <a:lnTo>
                    <a:pt x="9942" y="21245"/>
                  </a:lnTo>
                  <a:lnTo>
                    <a:pt x="9565" y="20878"/>
                  </a:lnTo>
                  <a:lnTo>
                    <a:pt x="9586" y="20551"/>
                  </a:lnTo>
                  <a:lnTo>
                    <a:pt x="9657" y="20039"/>
                  </a:lnTo>
                  <a:lnTo>
                    <a:pt x="9536" y="19273"/>
                  </a:lnTo>
                  <a:lnTo>
                    <a:pt x="9392" y="18814"/>
                  </a:lnTo>
                  <a:lnTo>
                    <a:pt x="9218" y="18486"/>
                  </a:lnTo>
                  <a:lnTo>
                    <a:pt x="8954" y="17915"/>
                  </a:lnTo>
                  <a:lnTo>
                    <a:pt x="8781" y="17624"/>
                  </a:lnTo>
                  <a:lnTo>
                    <a:pt x="8832" y="17168"/>
                  </a:lnTo>
                  <a:lnTo>
                    <a:pt x="8835" y="16915"/>
                  </a:lnTo>
                  <a:lnTo>
                    <a:pt x="8737" y="16523"/>
                  </a:lnTo>
                  <a:lnTo>
                    <a:pt x="8722" y="16196"/>
                  </a:lnTo>
                  <a:lnTo>
                    <a:pt x="8800" y="15825"/>
                  </a:lnTo>
                  <a:lnTo>
                    <a:pt x="8813" y="15563"/>
                  </a:lnTo>
                  <a:lnTo>
                    <a:pt x="8704" y="15319"/>
                  </a:lnTo>
                  <a:lnTo>
                    <a:pt x="8643" y="14833"/>
                  </a:lnTo>
                  <a:lnTo>
                    <a:pt x="8686" y="14442"/>
                  </a:lnTo>
                  <a:lnTo>
                    <a:pt x="9006" y="14035"/>
                  </a:lnTo>
                  <a:lnTo>
                    <a:pt x="9046" y="13680"/>
                  </a:lnTo>
                  <a:lnTo>
                    <a:pt x="9027" y="13388"/>
                  </a:lnTo>
                  <a:lnTo>
                    <a:pt x="8709" y="12420"/>
                  </a:lnTo>
                  <a:lnTo>
                    <a:pt x="8768" y="12028"/>
                  </a:lnTo>
                  <a:lnTo>
                    <a:pt x="8699" y="11468"/>
                  </a:lnTo>
                  <a:lnTo>
                    <a:pt x="8497" y="11251"/>
                  </a:lnTo>
                  <a:lnTo>
                    <a:pt x="8481" y="10952"/>
                  </a:lnTo>
                  <a:lnTo>
                    <a:pt x="8745" y="10637"/>
                  </a:lnTo>
                  <a:lnTo>
                    <a:pt x="8952" y="10490"/>
                  </a:lnTo>
                  <a:lnTo>
                    <a:pt x="8936" y="10229"/>
                  </a:lnTo>
                  <a:lnTo>
                    <a:pt x="8753" y="9901"/>
                  </a:lnTo>
                  <a:lnTo>
                    <a:pt x="8720" y="9583"/>
                  </a:lnTo>
                  <a:lnTo>
                    <a:pt x="8547" y="9190"/>
                  </a:lnTo>
                  <a:lnTo>
                    <a:pt x="8271" y="8964"/>
                  </a:lnTo>
                  <a:lnTo>
                    <a:pt x="7722" y="8855"/>
                  </a:lnTo>
                  <a:lnTo>
                    <a:pt x="7241" y="8590"/>
                  </a:lnTo>
                  <a:lnTo>
                    <a:pt x="7019" y="8363"/>
                  </a:lnTo>
                  <a:lnTo>
                    <a:pt x="6727" y="7904"/>
                  </a:lnTo>
                  <a:lnTo>
                    <a:pt x="6569" y="7791"/>
                  </a:lnTo>
                  <a:lnTo>
                    <a:pt x="6708" y="7436"/>
                  </a:lnTo>
                  <a:lnTo>
                    <a:pt x="6509" y="6903"/>
                  </a:lnTo>
                  <a:lnTo>
                    <a:pt x="6043" y="6504"/>
                  </a:lnTo>
                  <a:lnTo>
                    <a:pt x="5045" y="6504"/>
                  </a:lnTo>
                  <a:lnTo>
                    <a:pt x="4181" y="6371"/>
                  </a:lnTo>
                  <a:lnTo>
                    <a:pt x="3319" y="6014"/>
                  </a:lnTo>
                  <a:lnTo>
                    <a:pt x="3130" y="5555"/>
                  </a:lnTo>
                  <a:lnTo>
                    <a:pt x="3092" y="5518"/>
                  </a:lnTo>
                  <a:lnTo>
                    <a:pt x="3094" y="5359"/>
                  </a:lnTo>
                  <a:lnTo>
                    <a:pt x="2986" y="5023"/>
                  </a:lnTo>
                  <a:lnTo>
                    <a:pt x="3045" y="4697"/>
                  </a:lnTo>
                  <a:lnTo>
                    <a:pt x="3076" y="4454"/>
                  </a:lnTo>
                  <a:lnTo>
                    <a:pt x="3022" y="4305"/>
                  </a:lnTo>
                  <a:lnTo>
                    <a:pt x="3012" y="4341"/>
                  </a:lnTo>
                  <a:lnTo>
                    <a:pt x="2685" y="4479"/>
                  </a:lnTo>
                  <a:lnTo>
                    <a:pt x="2190" y="4567"/>
                  </a:lnTo>
                  <a:lnTo>
                    <a:pt x="1764" y="4413"/>
                  </a:lnTo>
                  <a:lnTo>
                    <a:pt x="1849" y="4163"/>
                  </a:lnTo>
                  <a:lnTo>
                    <a:pt x="1892" y="3715"/>
                  </a:lnTo>
                  <a:lnTo>
                    <a:pt x="1640" y="3787"/>
                  </a:lnTo>
                  <a:lnTo>
                    <a:pt x="1172" y="4026"/>
                  </a:lnTo>
                  <a:lnTo>
                    <a:pt x="696" y="4011"/>
                  </a:lnTo>
                  <a:lnTo>
                    <a:pt x="505" y="3645"/>
                  </a:lnTo>
                  <a:lnTo>
                    <a:pt x="241" y="3084"/>
                  </a:lnTo>
                  <a:lnTo>
                    <a:pt x="272" y="2757"/>
                  </a:lnTo>
                  <a:lnTo>
                    <a:pt x="377" y="2506"/>
                  </a:lnTo>
                  <a:lnTo>
                    <a:pt x="807" y="2426"/>
                  </a:lnTo>
                  <a:lnTo>
                    <a:pt x="1010" y="2541"/>
                  </a:lnTo>
                  <a:lnTo>
                    <a:pt x="1244" y="2570"/>
                  </a:lnTo>
                  <a:lnTo>
                    <a:pt x="1425" y="2059"/>
                  </a:lnTo>
                  <a:lnTo>
                    <a:pt x="1262" y="1741"/>
                  </a:lnTo>
                  <a:lnTo>
                    <a:pt x="983" y="1682"/>
                  </a:lnTo>
                  <a:lnTo>
                    <a:pt x="622" y="1454"/>
                  </a:lnTo>
                  <a:lnTo>
                    <a:pt x="338" y="995"/>
                  </a:lnTo>
                  <a:lnTo>
                    <a:pt x="71" y="778"/>
                  </a:lnTo>
                  <a:lnTo>
                    <a:pt x="0" y="441"/>
                  </a:lnTo>
                  <a:lnTo>
                    <a:pt x="113" y="265"/>
                  </a:lnTo>
                  <a:lnTo>
                    <a:pt x="284" y="89"/>
                  </a:lnTo>
                  <a:lnTo>
                    <a:pt x="647" y="0"/>
                  </a:lnTo>
                  <a:lnTo>
                    <a:pt x="852" y="39"/>
                  </a:lnTo>
                  <a:lnTo>
                    <a:pt x="972" y="181"/>
                  </a:lnTo>
                  <a:lnTo>
                    <a:pt x="1016" y="302"/>
                  </a:lnTo>
                  <a:lnTo>
                    <a:pt x="1109" y="415"/>
                  </a:lnTo>
                  <a:lnTo>
                    <a:pt x="1373" y="72"/>
                  </a:lnTo>
                  <a:lnTo>
                    <a:pt x="1792" y="30"/>
                  </a:lnTo>
                  <a:lnTo>
                    <a:pt x="2342" y="63"/>
                  </a:lnTo>
                  <a:lnTo>
                    <a:pt x="2927" y="172"/>
                  </a:lnTo>
                  <a:lnTo>
                    <a:pt x="3309" y="213"/>
                  </a:lnTo>
                  <a:lnTo>
                    <a:pt x="3532" y="289"/>
                  </a:lnTo>
                  <a:lnTo>
                    <a:pt x="3805" y="13"/>
                  </a:lnTo>
                </a:path>
              </a:pathLst>
            </a:custGeom>
            <a:noFill/>
            <a:ln w="0">
              <a:solidFill>
                <a:srgbClr val="00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994040" y="1278000"/>
              <a:ext cx="2332080" cy="4865400"/>
            </a:xfrm>
            <a:custGeom>
              <a:avLst/>
              <a:gdLst/>
              <a:ahLst/>
              <a:rect l="l" t="t" r="r" b="b"/>
              <a:pathLst>
                <a:path w="10280" h="21451">
                  <a:moveTo>
                    <a:pt x="3653" y="42"/>
                  </a:moveTo>
                  <a:lnTo>
                    <a:pt x="3305" y="421"/>
                  </a:lnTo>
                  <a:lnTo>
                    <a:pt x="2738" y="313"/>
                  </a:lnTo>
                  <a:lnTo>
                    <a:pt x="2114" y="297"/>
                  </a:lnTo>
                  <a:lnTo>
                    <a:pt x="1687" y="117"/>
                  </a:lnTo>
                  <a:lnTo>
                    <a:pt x="1352" y="85"/>
                  </a:lnTo>
                  <a:lnTo>
                    <a:pt x="1173" y="241"/>
                  </a:lnTo>
                  <a:lnTo>
                    <a:pt x="1004" y="445"/>
                  </a:lnTo>
                  <a:lnTo>
                    <a:pt x="771" y="471"/>
                  </a:lnTo>
                  <a:lnTo>
                    <a:pt x="620" y="591"/>
                  </a:lnTo>
                  <a:lnTo>
                    <a:pt x="435" y="477"/>
                  </a:lnTo>
                  <a:lnTo>
                    <a:pt x="328" y="0"/>
                  </a:lnTo>
                  <a:lnTo>
                    <a:pt x="160" y="17"/>
                  </a:lnTo>
                  <a:lnTo>
                    <a:pt x="0" y="230"/>
                  </a:lnTo>
                  <a:lnTo>
                    <a:pt x="7" y="398"/>
                  </a:lnTo>
                  <a:lnTo>
                    <a:pt x="192" y="549"/>
                  </a:lnTo>
                  <a:lnTo>
                    <a:pt x="439" y="990"/>
                  </a:lnTo>
                  <a:lnTo>
                    <a:pt x="641" y="1141"/>
                  </a:lnTo>
                  <a:lnTo>
                    <a:pt x="902" y="1237"/>
                  </a:lnTo>
                  <a:lnTo>
                    <a:pt x="1170" y="1445"/>
                  </a:lnTo>
                  <a:lnTo>
                    <a:pt x="1326" y="1605"/>
                  </a:lnTo>
                  <a:lnTo>
                    <a:pt x="1370" y="1867"/>
                  </a:lnTo>
                  <a:lnTo>
                    <a:pt x="1330" y="2175"/>
                  </a:lnTo>
                  <a:lnTo>
                    <a:pt x="1223" y="2537"/>
                  </a:lnTo>
                  <a:lnTo>
                    <a:pt x="932" y="2711"/>
                  </a:lnTo>
                  <a:lnTo>
                    <a:pt x="672" y="2662"/>
                  </a:lnTo>
                  <a:lnTo>
                    <a:pt x="356" y="2622"/>
                  </a:lnTo>
                  <a:lnTo>
                    <a:pt x="204" y="2843"/>
                  </a:lnTo>
                  <a:lnTo>
                    <a:pt x="256" y="3170"/>
                  </a:lnTo>
                  <a:lnTo>
                    <a:pt x="478" y="3388"/>
                  </a:lnTo>
                  <a:lnTo>
                    <a:pt x="635" y="3473"/>
                  </a:lnTo>
                  <a:lnTo>
                    <a:pt x="1016" y="3477"/>
                  </a:lnTo>
                  <a:lnTo>
                    <a:pt x="1467" y="3183"/>
                  </a:lnTo>
                  <a:lnTo>
                    <a:pt x="1958" y="3403"/>
                  </a:lnTo>
                  <a:lnTo>
                    <a:pt x="2038" y="3776"/>
                  </a:lnTo>
                  <a:lnTo>
                    <a:pt x="1783" y="4118"/>
                  </a:lnTo>
                  <a:lnTo>
                    <a:pt x="1996" y="4233"/>
                  </a:lnTo>
                  <a:lnTo>
                    <a:pt x="2407" y="4069"/>
                  </a:lnTo>
                  <a:lnTo>
                    <a:pt x="2809" y="3961"/>
                  </a:lnTo>
                  <a:lnTo>
                    <a:pt x="2943" y="4401"/>
                  </a:lnTo>
                  <a:lnTo>
                    <a:pt x="2931" y="4727"/>
                  </a:lnTo>
                  <a:lnTo>
                    <a:pt x="2927" y="5025"/>
                  </a:lnTo>
                  <a:lnTo>
                    <a:pt x="3275" y="5654"/>
                  </a:lnTo>
                  <a:lnTo>
                    <a:pt x="3702" y="5769"/>
                  </a:lnTo>
                  <a:lnTo>
                    <a:pt x="4483" y="5917"/>
                  </a:lnTo>
                  <a:lnTo>
                    <a:pt x="5599" y="6124"/>
                  </a:lnTo>
                  <a:lnTo>
                    <a:pt x="5905" y="6174"/>
                  </a:lnTo>
                  <a:lnTo>
                    <a:pt x="6302" y="6495"/>
                  </a:lnTo>
                  <a:lnTo>
                    <a:pt x="6513" y="6786"/>
                  </a:lnTo>
                  <a:lnTo>
                    <a:pt x="6665" y="7309"/>
                  </a:lnTo>
                  <a:lnTo>
                    <a:pt x="6662" y="7683"/>
                  </a:lnTo>
                  <a:lnTo>
                    <a:pt x="6881" y="8058"/>
                  </a:lnTo>
                  <a:lnTo>
                    <a:pt x="7360" y="8482"/>
                  </a:lnTo>
                  <a:lnTo>
                    <a:pt x="7686" y="8513"/>
                  </a:lnTo>
                  <a:lnTo>
                    <a:pt x="8104" y="8639"/>
                  </a:lnTo>
                  <a:lnTo>
                    <a:pt x="8473" y="8913"/>
                  </a:lnTo>
                  <a:lnTo>
                    <a:pt x="8600" y="9240"/>
                  </a:lnTo>
                  <a:lnTo>
                    <a:pt x="8782" y="9615"/>
                  </a:lnTo>
                  <a:lnTo>
                    <a:pt x="8844" y="9962"/>
                  </a:lnTo>
                  <a:lnTo>
                    <a:pt x="8868" y="10316"/>
                  </a:lnTo>
                  <a:lnTo>
                    <a:pt x="8614" y="10547"/>
                  </a:lnTo>
                  <a:lnTo>
                    <a:pt x="8528" y="10770"/>
                  </a:lnTo>
                  <a:lnTo>
                    <a:pt x="8720" y="11089"/>
                  </a:lnTo>
                  <a:lnTo>
                    <a:pt x="8650" y="11433"/>
                  </a:lnTo>
                  <a:lnTo>
                    <a:pt x="8663" y="12059"/>
                  </a:lnTo>
                  <a:lnTo>
                    <a:pt x="8875" y="13096"/>
                  </a:lnTo>
                  <a:lnTo>
                    <a:pt x="8981" y="13581"/>
                  </a:lnTo>
                  <a:lnTo>
                    <a:pt x="8789" y="14158"/>
                  </a:lnTo>
                  <a:lnTo>
                    <a:pt x="8661" y="14773"/>
                  </a:lnTo>
                  <a:lnTo>
                    <a:pt x="8663" y="15370"/>
                  </a:lnTo>
                  <a:lnTo>
                    <a:pt x="8704" y="15854"/>
                  </a:lnTo>
                  <a:lnTo>
                    <a:pt x="8552" y="16152"/>
                  </a:lnTo>
                  <a:lnTo>
                    <a:pt x="8705" y="16648"/>
                  </a:lnTo>
                  <a:lnTo>
                    <a:pt x="8801" y="17246"/>
                  </a:lnTo>
                  <a:lnTo>
                    <a:pt x="8751" y="17543"/>
                  </a:lnTo>
                  <a:lnTo>
                    <a:pt x="8979" y="18031"/>
                  </a:lnTo>
                  <a:lnTo>
                    <a:pt x="9216" y="18509"/>
                  </a:lnTo>
                  <a:lnTo>
                    <a:pt x="9518" y="19016"/>
                  </a:lnTo>
                  <a:lnTo>
                    <a:pt x="9633" y="19520"/>
                  </a:lnTo>
                  <a:lnTo>
                    <a:pt x="9685" y="19912"/>
                  </a:lnTo>
                  <a:lnTo>
                    <a:pt x="9585" y="20433"/>
                  </a:lnTo>
                  <a:lnTo>
                    <a:pt x="9584" y="20621"/>
                  </a:lnTo>
                  <a:lnTo>
                    <a:pt x="9804" y="20931"/>
                  </a:lnTo>
                  <a:lnTo>
                    <a:pt x="9967" y="21324"/>
                  </a:lnTo>
                  <a:lnTo>
                    <a:pt x="10227" y="21447"/>
                  </a:lnTo>
                  <a:lnTo>
                    <a:pt x="10280" y="21451"/>
                  </a:lnTo>
                </a:path>
              </a:pathLst>
            </a:custGeom>
            <a:noFill/>
            <a:ln w="0">
              <a:solidFill>
                <a:srgbClr val="00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859280" y="2927160"/>
              <a:ext cx="3402000" cy="292104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2" name=""/>
            <p:cNvGrpSpPr/>
            <p:nvPr/>
          </p:nvGrpSpPr>
          <p:grpSpPr>
            <a:xfrm>
              <a:off x="7726320" y="1544760"/>
              <a:ext cx="846360" cy="277560"/>
              <a:chOff x="7726320" y="1544760"/>
              <a:chExt cx="846360" cy="277560"/>
            </a:xfrm>
          </p:grpSpPr>
          <p:sp>
            <p:nvSpPr>
              <p:cNvPr id="293" name=""/>
              <p:cNvSpPr/>
              <p:nvPr/>
            </p:nvSpPr>
            <p:spPr>
              <a:xfrm>
                <a:off x="7737480" y="1822320"/>
                <a:ext cx="835200" cy="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7726320" y="1544760"/>
                <a:ext cx="836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10 k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5" name=""/>
            <p:cNvSpPr/>
            <p:nvPr/>
          </p:nvSpPr>
          <p:spPr>
            <a:xfrm>
              <a:off x="6426360" y="4697280"/>
              <a:ext cx="793800" cy="19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 Narrow"/>
                </a:rPr>
                <a:t>CASHIRIARI-3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664240" y="4611600"/>
              <a:ext cx="793800" cy="19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 Narrow"/>
                </a:rPr>
                <a:t>CASHIRIARI-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161040" y="3971880"/>
              <a:ext cx="162000" cy="1620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856480" y="4789440"/>
              <a:ext cx="162000" cy="1620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608880" y="4865760"/>
              <a:ext cx="162000" cy="161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464440" y="3797280"/>
              <a:ext cx="161640" cy="1620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443560" y="4697280"/>
              <a:ext cx="162000" cy="1620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223720" y="1635120"/>
              <a:ext cx="1416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Nuevo Mund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773880" y="2955960"/>
              <a:ext cx="1258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Pagoreni 1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rot="1342200">
              <a:off x="2624040" y="2302920"/>
              <a:ext cx="1118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ffff"/>
                  </a:solidFill>
                  <a:latin typeface="Times New Roman"/>
                </a:rPr>
                <a:t>Rio Urubamb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579760" y="4378320"/>
              <a:ext cx="1351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Las Malvin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rot="90600">
              <a:off x="6465960" y="4309560"/>
              <a:ext cx="982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ffff"/>
                  </a:solidFill>
                  <a:latin typeface="Times New Roman"/>
                </a:rPr>
                <a:t>Rio Camise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rot="21574200">
              <a:off x="6141960" y="5273280"/>
              <a:ext cx="1086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ffff"/>
                  </a:solidFill>
                  <a:latin typeface="Times New Roman"/>
                </a:rPr>
                <a:t>Rio Cashiriar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373720" y="3554280"/>
              <a:ext cx="54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SM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261840" y="3859200"/>
              <a:ext cx="596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SM 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705720" y="4811760"/>
              <a:ext cx="526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CS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5704200" y="4875120"/>
              <a:ext cx="526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CS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259600" y="4811760"/>
              <a:ext cx="526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CS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4992480" y="3846600"/>
              <a:ext cx="54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SM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385680" y="2932200"/>
              <a:ext cx="1883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CAMISEA - LOTE 8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022480" y="1801800"/>
              <a:ext cx="343080" cy="31752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76840" y="3325680"/>
              <a:ext cx="330120" cy="29232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940200" y="4417920"/>
              <a:ext cx="330120" cy="317520"/>
            </a:xfrm>
            <a:prstGeom prst="star5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250920" y="257040"/>
            <a:ext cx="441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Lote 88 y Lote 5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346640" y="3274920"/>
            <a:ext cx="171360" cy="1717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961360" y="3279600"/>
            <a:ext cx="92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Camise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 rot="1575600">
            <a:off x="1685160" y="2459160"/>
            <a:ext cx="100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LOTE 5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C585C8-848C-4090-B166-3D90A1C66CA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8580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Desarrollo del Lote 56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539640" y="1267920"/>
            <a:ext cx="8064720" cy="50403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8 pozos productores; 2 plataformas de perforación (6 pozos inicial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spcAft>
                <a:spcPts val="2625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2 x 360 MMPCD Planta Criogénic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spcAft>
                <a:spcPts val="2625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404 km de gaseoducto nuev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spcAft>
                <a:spcPts val="2625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Evaluándose el incremento en capacidad del ducto de líquid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spcAft>
                <a:spcPts val="2625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35,000 BPD de Expansión en Planta de Fraccionamiento en Pisc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77D6E3-AD9D-4F7F-93A0-AA3B7EDE3C1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60984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Lote 56 - Generalidade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09480" y="1219320"/>
            <a:ext cx="7772400" cy="411480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ampos Pagoreni y Mipay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EIA aprobado en Julio 200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  finalizó la adquisición de Sísmica 3D. Se encuentra en etapa de interpretació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onstrucción de la plataforma de perforación en Pagoreni: próximamen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B2EEB5-C630-45ED-9235-59002EEC49A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9T17:45:32Z</dcterms:created>
  <dc:creator>Manuel Villanueva</dc:creator>
  <dc:description/>
  <dc:language>en-US</dc:language>
  <cp:lastModifiedBy>bbruce</cp:lastModifiedBy>
  <dcterms:modified xsi:type="dcterms:W3CDTF">2005-10-24T22:12:12Z</dcterms:modified>
  <cp:revision>427</cp:revision>
  <dc:subject/>
  <dc:title>PowerPoint Presentation</dc:title>
</cp:coreProperties>
</file>